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6858000" cy="8899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E28F9-5F62-4D4A-9CA1-375F0F73B5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9480" y="3912120"/>
            <a:ext cx="7925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DC676-0AF0-411A-81EF-98C7612B79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28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9480" y="39121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0280" y="39121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7BC63-C3D3-43C5-91E1-E0AA997E0F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88960" y="152388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68800" y="152388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9480" y="39121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88960" y="39121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68800" y="39121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20EA5-9CBD-4BB8-9154-2D099AEAAF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52388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9066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52388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121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9480" y="15238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2FEC5-9174-4D80-9964-EDA53505C2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9121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12120"/>
            <a:ext cx="7925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12120"/>
            <a:ext cx="7925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121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9121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8960" y="152388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8800" y="152388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121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8960" y="39121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8800" y="391212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FD51D-EBF6-4C73-BB9F-2DCA26A5B8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0280" y="152388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DA866-9250-4ECA-ADF7-F96C19B678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DD445-14FF-4F96-BC0D-B6902C6E0B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9066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8F255-F05A-4797-9891-56373CAD09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2388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9480" y="39121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4AC67-2850-4ADD-916E-FEFA780B9B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28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0280" y="391212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E3413-B6CB-435C-91CE-189D53AD7C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0280" y="152388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912120"/>
            <a:ext cx="7925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96B78-1D23-4A25-86E6-B9FB9948C1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5238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cbcbc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772400" y="6400440"/>
            <a:ext cx="129528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EG 360/560 - EE 451/651 Section I  - </a:t>
            </a:r>
            <a:fld id="{F1CE0E8C-5FA0-47C8-B6CB-F659B02D203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-7755120" y="1467360"/>
            <a:ext cx="16899120" cy="10794240"/>
            <a:chOff x="-7755120" y="1467360"/>
            <a:chExt cx="16899120" cy="10794240"/>
          </a:xfrm>
        </p:grpSpPr>
        <p:sp>
          <p:nvSpPr>
            <p:cNvPr id="41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d1d1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-7755120" y="1467360"/>
              <a:ext cx="13452120" cy="10794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60912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75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349"/>
              </a:spcBef>
              <a:buClr>
                <a:srgbClr val="cbcbcb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3276720"/>
            <a:ext cx="8763120" cy="24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G 360/560; EE 451/65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System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69696"/>
                </a:solidFill>
                <a:latin typeface="Times New Roman"/>
              </a:rPr>
              <a:t>Dr. Travis Doom, Assistant Prof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artment of Computer Science and Engine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ght State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899136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ction I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gital System Analysis and Re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0000" y="6411960"/>
            <a:ext cx="3379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anks to M. Mano, J. Wakerly, R. Hagg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Aspects of Digital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09480" y="4419360"/>
            <a:ext cx="37339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ow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istor cut off: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ou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igh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istor “on”: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ou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G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657600" y="1219320"/>
            <a:ext cx="1141200" cy="303120"/>
            <a:chOff x="3657600" y="1219320"/>
            <a:chExt cx="1141200" cy="303120"/>
          </a:xfrm>
        </p:grpSpPr>
        <p:sp>
          <p:nvSpPr>
            <p:cNvPr id="403" name=""/>
            <p:cNvSpPr/>
            <p:nvPr/>
          </p:nvSpPr>
          <p:spPr>
            <a:xfrm>
              <a:off x="4037040" y="1219320"/>
              <a:ext cx="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038480" y="1219320"/>
              <a:ext cx="227160" cy="15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038120" y="1371600"/>
              <a:ext cx="227160" cy="15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278240" y="1306440"/>
              <a:ext cx="127080" cy="1270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3657600" y="1370160"/>
              <a:ext cx="37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4419360" y="1370160"/>
              <a:ext cx="37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617760" y="1981080"/>
            <a:ext cx="3435120" cy="2170080"/>
            <a:chOff x="617760" y="1981080"/>
            <a:chExt cx="3435120" cy="2170080"/>
          </a:xfrm>
        </p:grpSpPr>
        <p:grpSp>
          <p:nvGrpSpPr>
            <p:cNvPr id="410" name=""/>
            <p:cNvGrpSpPr/>
            <p:nvPr/>
          </p:nvGrpSpPr>
          <p:grpSpPr>
            <a:xfrm>
              <a:off x="1143000" y="2182680"/>
              <a:ext cx="2361600" cy="1829880"/>
              <a:chOff x="1143000" y="2182680"/>
              <a:chExt cx="2361600" cy="1829880"/>
            </a:xfrm>
          </p:grpSpPr>
          <p:sp>
            <p:nvSpPr>
              <p:cNvPr id="411" name=""/>
              <p:cNvSpPr/>
              <p:nvPr/>
            </p:nvSpPr>
            <p:spPr>
              <a:xfrm>
                <a:off x="1218960" y="3249360"/>
                <a:ext cx="6091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2" name=""/>
              <p:cNvGrpSpPr/>
              <p:nvPr/>
            </p:nvGrpSpPr>
            <p:grpSpPr>
              <a:xfrm>
                <a:off x="1828440" y="3173400"/>
                <a:ext cx="456480" cy="152280"/>
                <a:chOff x="1828440" y="3173400"/>
                <a:chExt cx="456480" cy="15228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1828440" y="3249360"/>
                  <a:ext cx="75960" cy="7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1980720" y="3173400"/>
                  <a:ext cx="7560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 flipH="1">
                  <a:off x="1904040" y="3173400"/>
                  <a:ext cx="7596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H="1">
                  <a:off x="2056320" y="3173400"/>
                  <a:ext cx="7596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2133000" y="3173400"/>
                  <a:ext cx="7596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 flipV="1">
                  <a:off x="2209320" y="3249360"/>
                  <a:ext cx="75600" cy="76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2741040" y="2411280"/>
                <a:ext cx="154800" cy="457200"/>
                <a:chOff x="2741040" y="2411280"/>
                <a:chExt cx="154800" cy="457200"/>
              </a:xfrm>
            </p:grpSpPr>
            <p:sp>
              <p:nvSpPr>
                <p:cNvPr id="420" name=""/>
                <p:cNvSpPr/>
                <p:nvPr/>
              </p:nvSpPr>
              <p:spPr>
                <a:xfrm flipH="1">
                  <a:off x="2741400" y="2411280"/>
                  <a:ext cx="74880" cy="77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flipH="1">
                  <a:off x="2742840" y="2562840"/>
                  <a:ext cx="150840" cy="78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 flipH="1" flipV="1">
                  <a:off x="2741040" y="2488680"/>
                  <a:ext cx="152640" cy="74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 flipV="1">
                  <a:off x="2742840" y="2640960"/>
                  <a:ext cx="153000" cy="74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360" bIns="27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 flipH="1">
                  <a:off x="2744640" y="2715120"/>
                  <a:ext cx="151200" cy="78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2745360" y="2793600"/>
                  <a:ext cx="77040" cy="74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6" name=""/>
              <p:cNvSpPr/>
              <p:nvPr/>
            </p:nvSpPr>
            <p:spPr>
              <a:xfrm>
                <a:off x="1143000" y="3197160"/>
                <a:ext cx="75960" cy="75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2285640" y="3249360"/>
                <a:ext cx="3045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590560" y="317340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666520" y="3097080"/>
                <a:ext cx="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V="1">
                <a:off x="2666520" y="3020760"/>
                <a:ext cx="15228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66520" y="3325680"/>
                <a:ext cx="22824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819160" y="286848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895120" y="3477960"/>
                <a:ext cx="0" cy="38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rot="10839000">
                <a:off x="2768400" y="3858840"/>
                <a:ext cx="228240" cy="152280"/>
              </a:xfrm>
              <a:prstGeom prst="triangle">
                <a:avLst>
                  <a:gd name="adj" fmla="val 5303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2590560" y="2182680"/>
                <a:ext cx="456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819160" y="21826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819160" y="2868480"/>
                <a:ext cx="60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3428640" y="2817720"/>
                <a:ext cx="75960" cy="76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9" name=""/>
            <p:cNvSpPr/>
            <p:nvPr/>
          </p:nvSpPr>
          <p:spPr>
            <a:xfrm>
              <a:off x="617760" y="3020760"/>
              <a:ext cx="461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517200" y="2639880"/>
              <a:ext cx="535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973960" y="3782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037960" y="1981080"/>
              <a:ext cx="476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885040" y="2373120"/>
              <a:ext cx="398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758240" y="2792160"/>
              <a:ext cx="407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5" name=""/>
          <p:cNvSpPr/>
          <p:nvPr/>
        </p:nvSpPr>
        <p:spPr>
          <a:xfrm>
            <a:off x="5410080" y="20574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410080" y="388620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410080" y="2362320"/>
            <a:ext cx="62568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705720" y="36576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19920" y="2362320"/>
            <a:ext cx="761760" cy="1295280"/>
          </a:xfrm>
          <a:custGeom>
            <a:avLst/>
            <a:gdLst/>
            <a:ahLst/>
            <a:rect l="l" t="t" r="r" b="b"/>
            <a:pathLst>
              <a:path w="390" h="822">
                <a:moveTo>
                  <a:pt x="0" y="12"/>
                </a:moveTo>
                <a:cubicBezTo>
                  <a:pt x="34" y="0"/>
                  <a:pt x="56" y="8"/>
                  <a:pt x="86" y="27"/>
                </a:cubicBezTo>
                <a:cubicBezTo>
                  <a:pt x="110" y="66"/>
                  <a:pt x="130" y="106"/>
                  <a:pt x="156" y="144"/>
                </a:cubicBezTo>
                <a:cubicBezTo>
                  <a:pt x="174" y="200"/>
                  <a:pt x="168" y="182"/>
                  <a:pt x="187" y="238"/>
                </a:cubicBezTo>
                <a:cubicBezTo>
                  <a:pt x="190" y="246"/>
                  <a:pt x="195" y="261"/>
                  <a:pt x="195" y="261"/>
                </a:cubicBezTo>
                <a:cubicBezTo>
                  <a:pt x="217" y="408"/>
                  <a:pt x="195" y="558"/>
                  <a:pt x="218" y="705"/>
                </a:cubicBezTo>
                <a:cubicBezTo>
                  <a:pt x="223" y="739"/>
                  <a:pt x="231" y="788"/>
                  <a:pt x="265" y="807"/>
                </a:cubicBezTo>
                <a:cubicBezTo>
                  <a:pt x="279" y="815"/>
                  <a:pt x="312" y="822"/>
                  <a:pt x="312" y="822"/>
                </a:cubicBezTo>
                <a:cubicBezTo>
                  <a:pt x="338" y="819"/>
                  <a:pt x="390" y="814"/>
                  <a:pt x="390" y="81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294160" y="22496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297400" y="25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02080" y="36669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6019920" y="3809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6705720" y="3809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7086600" y="3809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945840" y="3962520"/>
            <a:ext cx="430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430320" y="3962520"/>
            <a:ext cx="634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H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750280" y="3962520"/>
            <a:ext cx="686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Lm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096320" y="3657600"/>
            <a:ext cx="41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607280" y="3200400"/>
            <a:ext cx="686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Lm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06200" y="2286000"/>
            <a:ext cx="680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H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2040" y="396252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888440" y="1981080"/>
            <a:ext cx="430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307120" y="354816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602600" y="3505320"/>
            <a:ext cx="6256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CES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196600" y="1676520"/>
            <a:ext cx="47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019920" y="2514600"/>
            <a:ext cx="685800" cy="10666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784920" y="2590920"/>
            <a:ext cx="105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norm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cept 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wit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343400" y="4343400"/>
            <a:ext cx="46483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OLma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max output voltage in low st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OHm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min output voltage in high st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Lma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max input voltage recognized as low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Hm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max input voltage recognized as 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97FC0-5E4F-4ECE-87F9-D9F5EA250A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Aspects of Digital Desig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92504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devices are built with analog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ge of voltages associated with each logic value ( 0 or 1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ise margin : The difference between the range bound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low state =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Lma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OLma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1.5 V - 0.1 V= 1.4 V for 5V C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high state =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OHm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HLmi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4.9 V - 3.5 V= 1.4 V for 5V C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438280" y="5638680"/>
            <a:ext cx="44197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2438280" y="2742840"/>
            <a:ext cx="0" cy="2895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44760" y="5264280"/>
            <a:ext cx="1206360" cy="3682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64080" y="5035680"/>
            <a:ext cx="1206360" cy="215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883040" y="5035680"/>
            <a:ext cx="1206720" cy="596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883040" y="4121280"/>
            <a:ext cx="1206720" cy="9014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883040" y="3511440"/>
            <a:ext cx="1206720" cy="5968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664080" y="3892680"/>
            <a:ext cx="1206360" cy="2156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444760" y="3511440"/>
            <a:ext cx="1206360" cy="36828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95280" y="3048120"/>
            <a:ext cx="990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imes New Roman"/>
              </a:rPr>
              <a:t>Volt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590920" y="3048120"/>
            <a:ext cx="914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Times New Roman"/>
              </a:rPr>
              <a:t>Out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809880" y="2819520"/>
            <a:ext cx="914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Times New Roman"/>
              </a:rPr>
              <a:t>Noi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969696"/>
                </a:solidFill>
                <a:latin typeface="Times New Roman"/>
              </a:rPr>
              <a:t>Marg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952880" y="3048120"/>
            <a:ext cx="914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69696"/>
                </a:solidFill>
                <a:latin typeface="Times New Roman"/>
              </a:rPr>
              <a:t>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590920" y="5257800"/>
            <a:ext cx="83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Logic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105520" y="5181480"/>
            <a:ext cx="83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Logic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590920" y="3505320"/>
            <a:ext cx="83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Logic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105520" y="3581280"/>
            <a:ext cx="83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Logic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105520" y="4419720"/>
            <a:ext cx="83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imes New Roman"/>
              </a:rPr>
              <a:t>Inval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24D87-45D2-4E77-9EE7-BBE27932D1F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onic Aspects of Digital Desig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c gates Specifications 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 Conditions under which the digital device produces and recognizes 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logic signals within the appropriate rang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Examples 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- Power-supply voltag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- Temperature 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- Loading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- Frequenc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ufacturer specifications ( data sheets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E1590-51B3-4B18-81BE-04DA893780D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agation D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lay time between input transitions and the output transitions due to the propagation delay of the the logic ga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of a signal depends on the signal path inside the logic circ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34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 a logic gate 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L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may not equal 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pecified in the manufacturer data sheets of the IC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The time delay for 74x00 in nanoseconds for three logic  Familie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Typical                Maximu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LH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L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LH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4LS00             9         10            15        1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4HCT00         11        11            35        35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4ACT00         5.5       4.0          9.5        8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find 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a signal, add the propagation delays of all gates along the path of the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668680" y="4267080"/>
            <a:ext cx="304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668680" y="3962520"/>
            <a:ext cx="304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25440" y="3664080"/>
            <a:ext cx="4864320" cy="1511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020F1-8F05-4E63-B729-AE2EBB8AB08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 Di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694640" y="1219320"/>
            <a:ext cx="0" cy="30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96080" y="1219320"/>
            <a:ext cx="227160" cy="150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H="1">
            <a:off x="7695720" y="1371600"/>
            <a:ext cx="227160" cy="150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7315200" y="1370160"/>
            <a:ext cx="37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7924680" y="1371600"/>
            <a:ext cx="37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606760" y="1866600"/>
            <a:ext cx="4332240" cy="228960"/>
            <a:chOff x="2606760" y="1866600"/>
            <a:chExt cx="4332240" cy="228960"/>
          </a:xfrm>
        </p:grpSpPr>
        <p:sp>
          <p:nvSpPr>
            <p:cNvPr id="504" name=""/>
            <p:cNvSpPr/>
            <p:nvPr/>
          </p:nvSpPr>
          <p:spPr>
            <a:xfrm>
              <a:off x="2606760" y="209556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3216240" y="1866600"/>
              <a:ext cx="1526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368880" y="1866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 flipV="1">
              <a:off x="4054680" y="1866600"/>
              <a:ext cx="1396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95800" y="209556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740480" y="209556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5349960" y="1866600"/>
              <a:ext cx="152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502240" y="186696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 flipV="1">
              <a:off x="6188040" y="1866600"/>
              <a:ext cx="1396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329520" y="2095560"/>
              <a:ext cx="609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8383680" y="114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606760" y="2629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3444840" y="24001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597120" y="2400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4282920" y="2400120"/>
            <a:ext cx="1396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424400" y="26290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968720" y="2629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5578560" y="24001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30840" y="24004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H="1" flipV="1">
            <a:off x="6416640" y="2400120"/>
            <a:ext cx="1396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558120" y="2629080"/>
            <a:ext cx="392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227680" y="1714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936120" y="1143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227680" y="2324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16240" y="209556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444840" y="262908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216240" y="2857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054320" y="186696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282920" y="240048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054320" y="2857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179160" y="300996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LH(X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017600" y="3009960"/>
            <a:ext cx="768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HL(X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578560" y="23241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730840" y="23241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578560" y="29336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518080" y="3009960"/>
            <a:ext cx="43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r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416640" y="23241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568920" y="23241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416640" y="293364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355800" y="3009960"/>
            <a:ext cx="421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f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04200" y="1143000"/>
            <a:ext cx="24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iming 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03840" y="3505320"/>
            <a:ext cx="282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unctiona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iming 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666880" y="49528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3505320" y="472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50532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4191120" y="472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191120" y="4952880"/>
            <a:ext cx="90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29200" y="49528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5638680" y="472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63868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6324480" y="472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324480" y="4952880"/>
            <a:ext cx="39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7800" y="4038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287800" y="46483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666880" y="434340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50532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505320" y="4114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419112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191120" y="4343400"/>
            <a:ext cx="90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029200" y="43434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56386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638680" y="41148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6324480" y="411444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324480" y="4343400"/>
            <a:ext cx="39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0880" y="5257800"/>
            <a:ext cx="769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6840" y="502884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al timing diagrams do not show exact del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ing up” everything allows the diagram to display more clearly which functions are performed in response to which a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llustrates operation, but does not specify upper and lower 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always sufficient for a rea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BADB8-5F96-4CBA-9389-3B38A58335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-input/multiple-output devi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oder - Inputs (n) &lt; outputs (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oder - Inputs (n) &gt; outputs (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s input code words into outpu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e word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to-One mapping 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Each input code produces only on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output c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codes 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Binary Co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Gray Co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BCD Cod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Your Code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404040" y="844560"/>
            <a:ext cx="1130400" cy="2654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5941800" y="1219320"/>
            <a:ext cx="45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>
            <a:off x="5941800" y="1371600"/>
            <a:ext cx="45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5941800" y="1981080"/>
            <a:ext cx="45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7542000" y="1219320"/>
            <a:ext cx="45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7542000" y="1371600"/>
            <a:ext cx="45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>
            <a:off x="7542000" y="1523880"/>
            <a:ext cx="45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542000" y="2514600"/>
            <a:ext cx="45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168960" y="1449360"/>
            <a:ext cx="0" cy="4557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769160" y="1601640"/>
            <a:ext cx="0" cy="836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5941800" y="2590920"/>
            <a:ext cx="45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5941800" y="3124080"/>
            <a:ext cx="45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168960" y="2668680"/>
            <a:ext cx="0" cy="455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254560" y="1143000"/>
            <a:ext cx="612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put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178600" y="2666880"/>
            <a:ext cx="10699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able in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77320" y="1600200"/>
            <a:ext cx="834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utput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788080" y="1066680"/>
            <a:ext cx="154080" cy="992160"/>
          </a:xfrm>
          <a:custGeom>
            <a:avLst/>
            <a:gdLst/>
            <a:ahLst/>
            <a:rect l="l" t="t" r="r" b="b"/>
            <a:pathLst>
              <a:path w="97" h="625">
                <a:moveTo>
                  <a:pt x="96" y="0"/>
                </a:moveTo>
                <a:lnTo>
                  <a:pt x="0" y="0"/>
                </a:lnTo>
                <a:lnTo>
                  <a:pt x="0" y="624"/>
                </a:lnTo>
                <a:lnTo>
                  <a:pt x="96" y="6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997760" y="1066680"/>
            <a:ext cx="154080" cy="1602000"/>
          </a:xfrm>
          <a:custGeom>
            <a:avLst/>
            <a:gdLst/>
            <a:ahLst/>
            <a:rect l="l" t="t" r="r" b="b"/>
            <a:pathLst>
              <a:path w="97" h="1009">
                <a:moveTo>
                  <a:pt x="0" y="0"/>
                </a:moveTo>
                <a:lnTo>
                  <a:pt x="96" y="0"/>
                </a:lnTo>
                <a:lnTo>
                  <a:pt x="96" y="1008"/>
                </a:lnTo>
                <a:lnTo>
                  <a:pt x="0" y="100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788080" y="2438280"/>
            <a:ext cx="154080" cy="763560"/>
          </a:xfrm>
          <a:custGeom>
            <a:avLst/>
            <a:gdLst/>
            <a:ahLst/>
            <a:rect l="l" t="t" r="r" b="b"/>
            <a:pathLst>
              <a:path w="97" h="481">
                <a:moveTo>
                  <a:pt x="96" y="0"/>
                </a:moveTo>
                <a:lnTo>
                  <a:pt x="0" y="0"/>
                </a:lnTo>
                <a:lnTo>
                  <a:pt x="0" y="480"/>
                </a:lnTo>
                <a:lnTo>
                  <a:pt x="96" y="48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477120" y="1828800"/>
            <a:ext cx="1139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6404040" y="4044960"/>
            <a:ext cx="1130400" cy="2349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5941800" y="4419720"/>
            <a:ext cx="45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5941800" y="4572000"/>
            <a:ext cx="45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5941800" y="5791320"/>
            <a:ext cx="45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7542000" y="4419720"/>
            <a:ext cx="45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7542000" y="4572000"/>
            <a:ext cx="45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5941800" y="4800600"/>
            <a:ext cx="45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7542000" y="5334120"/>
            <a:ext cx="45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168960" y="4878360"/>
            <a:ext cx="0" cy="836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769160" y="472608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254560" y="4572000"/>
            <a:ext cx="6127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put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077320" y="4572000"/>
            <a:ext cx="834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utput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88080" y="4267080"/>
            <a:ext cx="154080" cy="1602000"/>
          </a:xfrm>
          <a:custGeom>
            <a:avLst/>
            <a:gdLst/>
            <a:ahLst/>
            <a:rect l="l" t="t" r="r" b="b"/>
            <a:pathLst>
              <a:path w="97" h="1009">
                <a:moveTo>
                  <a:pt x="96" y="0"/>
                </a:moveTo>
                <a:lnTo>
                  <a:pt x="0" y="0"/>
                </a:lnTo>
                <a:lnTo>
                  <a:pt x="0" y="1008"/>
                </a:lnTo>
                <a:lnTo>
                  <a:pt x="96" y="100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7921800" y="4267080"/>
            <a:ext cx="153720" cy="1220760"/>
          </a:xfrm>
          <a:custGeom>
            <a:avLst/>
            <a:gdLst/>
            <a:ahLst/>
            <a:rect l="l" t="t" r="r" b="b"/>
            <a:pathLst>
              <a:path w="97" h="769">
                <a:moveTo>
                  <a:pt x="0" y="0"/>
                </a:moveTo>
                <a:lnTo>
                  <a:pt x="96" y="0"/>
                </a:lnTo>
                <a:lnTo>
                  <a:pt x="96" y="768"/>
                </a:lnTo>
                <a:lnTo>
                  <a:pt x="0" y="76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477120" y="5029200"/>
            <a:ext cx="1139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990CF-5474-4119-9B13-3C68142E785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 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-to-2^n decoder: n inputs and 2^n outpu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code : Binary C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code : 1-out-of-2^n , One output is asserted for each input co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: n=2, 2-to-4 decod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Inputs                          Outpu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   I1    I0                Y3  Y2  Y1  Y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0      x     x                  0     0     0     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1      0     0                  0     0     0    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1      0     1                  0     0     1     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1      1     0                  0     1     0     0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1      1     1                  1     0     0     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261120" y="4203720"/>
            <a:ext cx="1117440" cy="1270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H="1">
            <a:off x="5640120" y="5257800"/>
            <a:ext cx="608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5640120" y="4800600"/>
            <a:ext cx="608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5640120" y="4495680"/>
            <a:ext cx="608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7392960" y="4419720"/>
            <a:ext cx="455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7392960" y="4724280"/>
            <a:ext cx="455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7392960" y="5029200"/>
            <a:ext cx="455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H="1">
            <a:off x="7392960" y="5334120"/>
            <a:ext cx="455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248520" y="5105520"/>
            <a:ext cx="533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324480" y="4343400"/>
            <a:ext cx="53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324480" y="4648320"/>
            <a:ext cx="53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010280" y="4267080"/>
            <a:ext cx="53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010280" y="4572000"/>
            <a:ext cx="53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010280" y="4876920"/>
            <a:ext cx="53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7010280" y="5181480"/>
            <a:ext cx="53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066680" y="3962520"/>
            <a:ext cx="403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371600" y="3657600"/>
            <a:ext cx="760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657600" y="3657600"/>
            <a:ext cx="91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066680" y="5486400"/>
            <a:ext cx="396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0EA32-A5A4-4F94-8ADE-9CEB8B4DE72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8380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es Two binary words and indicate if they are equal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anced Comparators :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-bit Comparator : XOR gate , the Output is 1 if A&lt;&gt;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2819520" y="1905120"/>
            <a:ext cx="3578040" cy="861480"/>
            <a:chOff x="2819520" y="1905120"/>
            <a:chExt cx="3578040" cy="861480"/>
          </a:xfrm>
        </p:grpSpPr>
        <p:sp>
          <p:nvSpPr>
            <p:cNvPr id="631" name=""/>
            <p:cNvSpPr/>
            <p:nvPr/>
          </p:nvSpPr>
          <p:spPr>
            <a:xfrm>
              <a:off x="3889440" y="2017440"/>
              <a:ext cx="1130400" cy="749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3274560" y="2239920"/>
              <a:ext cx="608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5027400" y="2392200"/>
              <a:ext cx="45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3274560" y="2544480"/>
              <a:ext cx="608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819520" y="2057400"/>
              <a:ext cx="533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886200" y="1905120"/>
              <a:ext cx="113976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mpa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486400" y="2239920"/>
              <a:ext cx="911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819520" y="2438280"/>
              <a:ext cx="533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2743200" y="3809880"/>
            <a:ext cx="3578040" cy="762840"/>
            <a:chOff x="2743200" y="3809880"/>
            <a:chExt cx="3578040" cy="762840"/>
          </a:xfrm>
        </p:grpSpPr>
        <p:sp>
          <p:nvSpPr>
            <p:cNvPr id="640" name=""/>
            <p:cNvSpPr/>
            <p:nvPr/>
          </p:nvSpPr>
          <p:spPr>
            <a:xfrm>
              <a:off x="3813120" y="3816000"/>
              <a:ext cx="1130400" cy="749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3198240" y="4038480"/>
              <a:ext cx="608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4951080" y="3962160"/>
              <a:ext cx="45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3198240" y="4343040"/>
              <a:ext cx="608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743200" y="3855960"/>
              <a:ext cx="533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86200" y="3855960"/>
              <a:ext cx="11397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mpa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410080" y="3809880"/>
              <a:ext cx="911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=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743200" y="4236840"/>
              <a:ext cx="533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4951080" y="4190760"/>
              <a:ext cx="45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4951080" y="4419360"/>
              <a:ext cx="45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333760" y="4038480"/>
              <a:ext cx="911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&gt;B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333760" y="4267080"/>
              <a:ext cx="911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&lt;B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3505320" y="5486400"/>
            <a:ext cx="2133000" cy="718200"/>
            <a:chOff x="3505320" y="5486400"/>
            <a:chExt cx="2133000" cy="718200"/>
          </a:xfrm>
        </p:grpSpPr>
        <p:sp>
          <p:nvSpPr>
            <p:cNvPr id="653" name=""/>
            <p:cNvSpPr/>
            <p:nvPr/>
          </p:nvSpPr>
          <p:spPr>
            <a:xfrm>
              <a:off x="3962520" y="5595840"/>
              <a:ext cx="7610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5" y="0"/>
                  </a:moveTo>
                  <a:arcTo wR="10800" hR="10800" stAng="-5414323" swAng="54143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5" y="0"/>
                  </a:moveTo>
                  <a:arcTo wR="10800" hR="10800" stAng="-5414323" swAng="5414323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59640" y="5592600"/>
              <a:ext cx="7606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188600" y="5595840"/>
              <a:ext cx="30312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8" y="1"/>
                  </a:moveTo>
                  <a:arcTo wR="10800" hR="10800" stAng="-5435809" swAng="53272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8" y="1"/>
                  </a:moveTo>
                  <a:arcTo wR="10800" hR="10800" stAng="-5435809" swAng="5327284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188240" y="5592600"/>
              <a:ext cx="303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4035240" y="566892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4035240" y="597348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4722480" y="5821200"/>
              <a:ext cx="379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035600" y="5595840"/>
              <a:ext cx="30384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88" y="1"/>
                  </a:moveTo>
                  <a:arcTo wR="10800" hR="10800" stAng="-5435809" swAng="532728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88" y="1"/>
                  </a:moveTo>
                  <a:arcTo wR="10800" hR="10800" stAng="-5435809" swAng="5327284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035960" y="5592600"/>
              <a:ext cx="30348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505320" y="5486400"/>
              <a:ext cx="533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505320" y="5867280"/>
              <a:ext cx="533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05160" y="5638680"/>
              <a:ext cx="533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EA0CB-59BD-4008-99A0-49DB4DE4DAD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tive Combinational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erative logic array:  A device consisting of identical sub-circuits connected together in a chain to perform a larger overall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erative Comparator : cascaded 1-bit compa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-bit comparator 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Tab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QI      X     Y     EQO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0        x      x        0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1        0      0        1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1        0      1        0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1        1      0        0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1        1      1        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254560" y="2892600"/>
            <a:ext cx="761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5" y="0"/>
                </a:moveTo>
                <a:arcTo wR="10800" hR="10800" stAng="-5414323" swAng="5414323"/>
                <a:lnTo>
                  <a:pt x="10800" y="10800"/>
                </a:lnTo>
                <a:close/>
              </a:path>
              <a:path fill="none" w="21600" h="21600">
                <a:moveTo>
                  <a:pt x="10755" y="0"/>
                </a:moveTo>
                <a:arcTo wR="10800" hR="10800" stAng="-5414323" swAng="5414323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251680" y="2889360"/>
            <a:ext cx="7614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479920" y="2892600"/>
            <a:ext cx="30456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88" y="1"/>
                </a:moveTo>
                <a:arcTo wR="10800" hR="10800" stAng="-5435809" swAng="5327284"/>
                <a:lnTo>
                  <a:pt x="10800" y="10800"/>
                </a:lnTo>
                <a:close/>
              </a:path>
              <a:path fill="none" w="21600" h="21600">
                <a:moveTo>
                  <a:pt x="10688" y="1"/>
                </a:moveTo>
                <a:arcTo wR="10800" hR="10800" stAng="-5435809" swAng="5327284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480280" y="2889360"/>
            <a:ext cx="3042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5327640" y="29653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 flipH="1">
            <a:off x="5022360" y="327024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H="1">
            <a:off x="6167520" y="3117960"/>
            <a:ext cx="37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27640" y="2892600"/>
            <a:ext cx="30456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88" y="1"/>
                </a:moveTo>
                <a:arcTo wR="10800" hR="10800" stAng="-5435809" swAng="5327284"/>
                <a:lnTo>
                  <a:pt x="10800" y="10800"/>
                </a:lnTo>
                <a:close/>
              </a:path>
              <a:path fill="none" w="21600" h="21600">
                <a:moveTo>
                  <a:pt x="10688" y="1"/>
                </a:moveTo>
                <a:arcTo wR="10800" hR="10800" stAng="-5435809" swAng="5327284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327280" y="2889360"/>
            <a:ext cx="30492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797360" y="2325600"/>
            <a:ext cx="53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02280" y="2325600"/>
            <a:ext cx="53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773760" y="3043080"/>
            <a:ext cx="0" cy="455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396480" y="3044880"/>
            <a:ext cx="761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5" y="0"/>
                </a:moveTo>
                <a:arcTo wR="10800" hR="10800" stAng="-5414323" swAng="5414323"/>
                <a:lnTo>
                  <a:pt x="10800" y="10800"/>
                </a:lnTo>
                <a:close/>
              </a:path>
              <a:path fill="none" w="21600" h="21600">
                <a:moveTo>
                  <a:pt x="10755" y="0"/>
                </a:moveTo>
                <a:arcTo wR="10800" hR="10800" stAng="-5414323" swAng="5414323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392520" y="3041640"/>
            <a:ext cx="76212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6394320" y="3117960"/>
            <a:ext cx="37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7156440" y="3270240"/>
            <a:ext cx="37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024600" y="3054240"/>
            <a:ext cx="127080" cy="127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5327640" y="258444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5022720" y="2584080"/>
            <a:ext cx="0" cy="685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4718160" y="3346560"/>
            <a:ext cx="2058840" cy="306360"/>
          </a:xfrm>
          <a:custGeom>
            <a:avLst/>
            <a:gdLst/>
            <a:ahLst/>
            <a:rect l="l" t="t" r="r" b="b"/>
            <a:pathLst>
              <a:path w="1297" h="193">
                <a:moveTo>
                  <a:pt x="1296" y="0"/>
                </a:moveTo>
                <a:lnTo>
                  <a:pt x="1152" y="0"/>
                </a:lnTo>
                <a:lnTo>
                  <a:pt x="1152" y="192"/>
                </a:lnTo>
                <a:lnTo>
                  <a:pt x="0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264200" y="3468600"/>
            <a:ext cx="533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Q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540560" y="3087720"/>
            <a:ext cx="682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Q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876920" y="2743200"/>
            <a:ext cx="2501640" cy="1054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990720" y="2971800"/>
            <a:ext cx="2286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003320" y="4610160"/>
            <a:ext cx="220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003320" y="272736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374840" y="5370480"/>
            <a:ext cx="1206360" cy="74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447920" y="5410080"/>
            <a:ext cx="533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981080" y="5410080"/>
            <a:ext cx="53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295280" y="5715000"/>
            <a:ext cx="53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Q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981080" y="5715000"/>
            <a:ext cx="682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Q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1673280" y="505944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2206800" y="505944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87480" y="5821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587680" y="5821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447920" y="4800600"/>
            <a:ext cx="533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905120" y="4800600"/>
            <a:ext cx="533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01680" y="5516640"/>
            <a:ext cx="83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Q0 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590920" y="5562720"/>
            <a:ext cx="682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Q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203640" y="5370480"/>
            <a:ext cx="1206360" cy="74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276720" y="5410080"/>
            <a:ext cx="533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809880" y="5410080"/>
            <a:ext cx="53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124080" y="5715000"/>
            <a:ext cx="53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Q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809880" y="5715000"/>
            <a:ext cx="682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Q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3502080" y="505944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4035600" y="505944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416480" y="5821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276720" y="4800600"/>
            <a:ext cx="533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733920" y="4800600"/>
            <a:ext cx="533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419720" y="5562720"/>
            <a:ext cx="682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Q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480000" y="5370480"/>
            <a:ext cx="1206720" cy="749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553080" y="5410080"/>
            <a:ext cx="53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7086600" y="5410080"/>
            <a:ext cx="53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400800" y="5715000"/>
            <a:ext cx="53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Q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7086600" y="5715000"/>
            <a:ext cx="6825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Q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6778800" y="505944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7311960" y="505944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693200" y="5821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321600" y="4800600"/>
            <a:ext cx="765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(N-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934320" y="4800600"/>
            <a:ext cx="1063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(N-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7696080" y="5486400"/>
            <a:ext cx="682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Q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864400" y="5821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635800" y="5486400"/>
            <a:ext cx="914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Q1(N-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5178600" y="5745240"/>
            <a:ext cx="7596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407200" y="5745240"/>
            <a:ext cx="7596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635800" y="5745240"/>
            <a:ext cx="75960" cy="759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222200" y="5218200"/>
            <a:ext cx="6616800" cy="10540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36AC6-A56B-4940-B732-128ED0192C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I Arithmetic Logic Units (ALU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U performs Arithmetic and Logical Function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 , B : 4 bits inpu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S3,S2,S1,S0 : Function selec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M=0 : Arithmetic operations +=Plus , - = Minu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M=1 : Logical operations :    += OR  , . =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Inputs                            Func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3 S2 S1 S0             M=0                            M=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   0   0   0               F= A-1+CIN               F=A’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   1   1   0               F= A-B-1+CIN           F=A XOR B’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   0   0   1               F= A+B+CIN             F=A XOR B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   0   1   1               F=(A OR B)+ CIN     F=A+B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   1   0   0               F= A+A+CIN             F= 0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   1   1   1               F=A+CIN                   F=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327800" y="2070000"/>
            <a:ext cx="1117800" cy="4318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8612280" y="4648320"/>
            <a:ext cx="37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8612280" y="4343400"/>
            <a:ext cx="37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6859440" y="2590920"/>
            <a:ext cx="455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7315200" y="2438280"/>
            <a:ext cx="53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315200" y="2743200"/>
            <a:ext cx="53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315200" y="3048120"/>
            <a:ext cx="53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6859440" y="2895480"/>
            <a:ext cx="455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6859440" y="3200400"/>
            <a:ext cx="455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6859440" y="3505320"/>
            <a:ext cx="455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8077320" y="4191120"/>
            <a:ext cx="533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8077320" y="4495680"/>
            <a:ext cx="533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6859440" y="3809880"/>
            <a:ext cx="455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315200" y="3352680"/>
            <a:ext cx="53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315200" y="3657600"/>
            <a:ext cx="53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315200" y="3962520"/>
            <a:ext cx="53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315200" y="2133720"/>
            <a:ext cx="53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6859440" y="4114800"/>
            <a:ext cx="455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H="1">
            <a:off x="6859440" y="4419720"/>
            <a:ext cx="455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flipH="1">
            <a:off x="8612280" y="4038480"/>
            <a:ext cx="37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8077320" y="3886200"/>
            <a:ext cx="533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6859440" y="2286000"/>
            <a:ext cx="455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315200" y="4267080"/>
            <a:ext cx="53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543800" y="1676520"/>
            <a:ext cx="1447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4x1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8459640" y="5410080"/>
            <a:ext cx="532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8612280" y="4952880"/>
            <a:ext cx="37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8077320" y="4800600"/>
            <a:ext cx="533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848720" y="5257800"/>
            <a:ext cx="761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H="1">
            <a:off x="6859440" y="4724280"/>
            <a:ext cx="455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315200" y="4572000"/>
            <a:ext cx="53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6859440" y="5029200"/>
            <a:ext cx="455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315200" y="4876920"/>
            <a:ext cx="53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>
            <a:off x="6859440" y="5334120"/>
            <a:ext cx="455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315200" y="5181480"/>
            <a:ext cx="53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6859440" y="5638680"/>
            <a:ext cx="455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315200" y="5486400"/>
            <a:ext cx="53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6859440" y="5943600"/>
            <a:ext cx="455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7315200" y="5791320"/>
            <a:ext cx="53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H="1">
            <a:off x="6859440" y="6248520"/>
            <a:ext cx="455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315200" y="6095880"/>
            <a:ext cx="5335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8469360" y="3975120"/>
            <a:ext cx="127080" cy="127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8469360" y="4280040"/>
            <a:ext cx="127080" cy="126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8469360" y="4584600"/>
            <a:ext cx="127080" cy="127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8469360" y="4889520"/>
            <a:ext cx="127080" cy="127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8459640" y="3581280"/>
            <a:ext cx="532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848720" y="3429000"/>
            <a:ext cx="761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=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>
            <a:off x="8612280" y="3124080"/>
            <a:ext cx="37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8077320" y="2971800"/>
            <a:ext cx="533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H="1">
            <a:off x="8612280" y="2819520"/>
            <a:ext cx="37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8077320" y="2666880"/>
            <a:ext cx="533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8469360" y="2755800"/>
            <a:ext cx="127080" cy="127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469360" y="3060720"/>
            <a:ext cx="127080" cy="127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066680" y="388620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066680" y="4191120"/>
            <a:ext cx="502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50262-D483-4DF0-BBF2-969158804BF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se slides were developed with the aid of examples found i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ic and Computer Design Fundamentals” - M. Morris M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gital Design: Principles and Practices” - John Waker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original version of many of these slides were kindly provided b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. Roger L. Haggard et 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ntice Hall,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ED9CC-C7FB-45BF-9BC6-686325844E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x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xing: transmitting large number of signals over a small number of channels or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multiplexer (MUX): selects one of many input lines and directs it to a single output (often a bus or “party line”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ion lines controls the selection of a particular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-bit 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x 1 multiplexe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 selection lines,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-bit inputs,  1 m-bit outpu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: 4-to-1 line multiplexer: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Table 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S1  S0    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0    0      I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0    1      I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1    0      I2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1    1      I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3784680" y="3936960"/>
            <a:ext cx="4190760" cy="2226240"/>
            <a:chOff x="3784680" y="3936960"/>
            <a:chExt cx="4190760" cy="2226240"/>
          </a:xfrm>
        </p:grpSpPr>
        <p:sp>
          <p:nvSpPr>
            <p:cNvPr id="793" name=""/>
            <p:cNvSpPr/>
            <p:nvPr/>
          </p:nvSpPr>
          <p:spPr>
            <a:xfrm>
              <a:off x="5086440" y="3943440"/>
              <a:ext cx="1282680" cy="1434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624560" y="4089240"/>
              <a:ext cx="45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624560" y="4470480"/>
              <a:ext cx="45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624560" y="4851360"/>
              <a:ext cx="45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624560" y="5232240"/>
              <a:ext cx="45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537160" y="5386320"/>
              <a:ext cx="0" cy="3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994360" y="5386320"/>
              <a:ext cx="0" cy="3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377040" y="4622760"/>
              <a:ext cx="45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01" name=""/>
                <p:cNvSpPr txBox="1"/>
                <p:nvPr/>
              </p:nvSpPr>
              <p:spPr>
                <a:xfrm>
                  <a:off x="5410080" y="4343400"/>
                  <a:ext cx="6480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4</m:t>
                          </m:r>
                          <m:r>
                            <m:t xml:space="preserve">´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MUX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802" name=""/>
            <p:cNvSpPr/>
            <p:nvPr/>
          </p:nvSpPr>
          <p:spPr>
            <a:xfrm>
              <a:off x="5079960" y="3936960"/>
              <a:ext cx="380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994360" y="4470480"/>
              <a:ext cx="228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384880" y="5079960"/>
              <a:ext cx="533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42080" y="5079960"/>
              <a:ext cx="533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784680" y="4394160"/>
              <a:ext cx="914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pu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832440" y="4394160"/>
              <a:ext cx="1143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384880" y="5765760"/>
              <a:ext cx="1143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el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079960" y="4317840"/>
              <a:ext cx="380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079960" y="4699080"/>
              <a:ext cx="380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079960" y="5079960"/>
              <a:ext cx="380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1047600" y="4165560"/>
            <a:ext cx="137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971720" y="4170240"/>
            <a:ext cx="0" cy="136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057320" y="4446720"/>
            <a:ext cx="135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517EA-234D-4FEF-8A7F-A178B95E9B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ing Logic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y n-variable logic function can be implemented using a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to-1 M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n fact, MUXs are a universal device!  Any combinational function can be implemented using only MUXe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nputs variables are connected  to the select inpu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function value for each input combination (0 or 1) is connected to the corresponding input of the MU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w  X      Y      F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0      0       0       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1      0       1       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2      1       0       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3      1       1    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4952880" y="3809880"/>
            <a:ext cx="2971800" cy="2316960"/>
            <a:chOff x="4952880" y="3809880"/>
            <a:chExt cx="2971800" cy="2316960"/>
          </a:xfrm>
        </p:grpSpPr>
        <p:sp>
          <p:nvSpPr>
            <p:cNvPr id="818" name=""/>
            <p:cNvSpPr/>
            <p:nvPr/>
          </p:nvSpPr>
          <p:spPr>
            <a:xfrm>
              <a:off x="5797440" y="3816360"/>
              <a:ext cx="1282680" cy="1434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335560" y="3962160"/>
              <a:ext cx="45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335560" y="4343400"/>
              <a:ext cx="45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35560" y="4724280"/>
              <a:ext cx="45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35560" y="5105160"/>
              <a:ext cx="45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248160" y="5259240"/>
              <a:ext cx="0" cy="3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705360" y="5259240"/>
              <a:ext cx="0" cy="379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088040" y="4495680"/>
              <a:ext cx="455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6" name=""/>
                <p:cNvSpPr txBox="1"/>
                <p:nvPr/>
              </p:nvSpPr>
              <p:spPr>
                <a:xfrm>
                  <a:off x="6121080" y="4216320"/>
                  <a:ext cx="648000" cy="64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4</m:t>
                          </m:r>
                          <m:r>
                            <m:t xml:space="preserve">´</m:t>
                          </m:r>
                          <m:r>
                            <m:t xml:space="preserve">1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MUX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827" name=""/>
            <p:cNvSpPr/>
            <p:nvPr/>
          </p:nvSpPr>
          <p:spPr>
            <a:xfrm>
              <a:off x="5790960" y="3809880"/>
              <a:ext cx="380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705360" y="4343400"/>
              <a:ext cx="2286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095880" y="4952880"/>
              <a:ext cx="533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553080" y="4952880"/>
              <a:ext cx="533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543440" y="4267080"/>
              <a:ext cx="381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790960" y="4190760"/>
              <a:ext cx="380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790960" y="4572000"/>
              <a:ext cx="380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790960" y="4952880"/>
              <a:ext cx="380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952880" y="5486400"/>
              <a:ext cx="533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952880" y="5790960"/>
              <a:ext cx="53316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952880" y="3809880"/>
              <a:ext cx="380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4952880" y="4190760"/>
              <a:ext cx="380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952880" y="4572000"/>
              <a:ext cx="380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952880" y="4952880"/>
              <a:ext cx="38088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5333760" y="5638680"/>
              <a:ext cx="91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333760" y="5638680"/>
              <a:ext cx="1373400" cy="306360"/>
            </a:xfrm>
            <a:custGeom>
              <a:avLst/>
              <a:gdLst/>
              <a:ahLst/>
              <a:rect l="l" t="t" r="r" b="b"/>
              <a:pathLst>
                <a:path w="865" h="193">
                  <a:moveTo>
                    <a:pt x="864" y="0"/>
                  </a:moveTo>
                  <a:lnTo>
                    <a:pt x="864" y="192"/>
                  </a:lnTo>
                  <a:lnTo>
                    <a:pt x="0" y="19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3" name=""/>
          <p:cNvSpPr/>
          <p:nvPr/>
        </p:nvSpPr>
        <p:spPr>
          <a:xfrm>
            <a:off x="1371600" y="48895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371600" y="461016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1344600" y="612288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3C7C6-26DF-4F91-BB5A-B6C8CDBB7C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ecompos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ffective way for using MUX to implement Logic Fun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-variable truth table can be simplified using any MUX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one or more variables as control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ompose the remaining logic function in terms of the remaining inputs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3-variable Logic Function , the decomposed truth table is 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Row    X      Y      Z      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0,1      0       0       x    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Z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2,3      0       1       x    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Z)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4,5      1       0       x    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Z)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6,7      1       1       x    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Z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s of 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x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Z) = 0 or 1 or Z or Z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1371600" y="434340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371600" y="403848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371600" y="518148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261120" y="4356000"/>
            <a:ext cx="1270080" cy="1422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792760" y="4495680"/>
            <a:ext cx="455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792760" y="4876920"/>
            <a:ext cx="455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792760" y="5257800"/>
            <a:ext cx="455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792760" y="5638680"/>
            <a:ext cx="455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705720" y="5792760"/>
            <a:ext cx="0" cy="379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162920" y="5792760"/>
            <a:ext cx="0" cy="379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545240" y="5029200"/>
            <a:ext cx="455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6591240" y="4762440"/>
                <a:ext cx="62244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4</m:t>
                        </m:r>
                        <m:r>
                          <m:t xml:space="preserve">´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U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0" name=""/>
          <p:cNvSpPr/>
          <p:nvPr/>
        </p:nvSpPr>
        <p:spPr>
          <a:xfrm>
            <a:off x="6248520" y="4343400"/>
            <a:ext cx="380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162920" y="4876920"/>
            <a:ext cx="228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553080" y="5486400"/>
            <a:ext cx="533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010280" y="5486400"/>
            <a:ext cx="533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8001000" y="4800600"/>
            <a:ext cx="38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248520" y="4724280"/>
            <a:ext cx="380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6248520" y="5105520"/>
            <a:ext cx="380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248520" y="5486400"/>
            <a:ext cx="380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410080" y="6019920"/>
            <a:ext cx="533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410080" y="6324480"/>
            <a:ext cx="533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4952880" y="4267080"/>
            <a:ext cx="990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5791320" y="61722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791320" y="6172200"/>
            <a:ext cx="1373040" cy="306360"/>
          </a:xfrm>
          <a:custGeom>
            <a:avLst/>
            <a:gdLst/>
            <a:ahLst/>
            <a:rect l="l" t="t" r="r" b="b"/>
            <a:pathLst>
              <a:path w="865" h="193">
                <a:moveTo>
                  <a:pt x="864" y="0"/>
                </a:moveTo>
                <a:lnTo>
                  <a:pt x="864" y="192"/>
                </a:lnTo>
                <a:lnTo>
                  <a:pt x="0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952880" y="4648320"/>
            <a:ext cx="990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4952880" y="5029200"/>
            <a:ext cx="990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952880" y="5410080"/>
            <a:ext cx="990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61DC8-49C7-4F64-8E5D-3895FDD4C4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ultiplex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ultiplexer (DMUX) performs the opposite function of a MU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digital Demultiplexer receives input data on a single input and transmits it on one of 2^n possible outputs according to the value of the n select inpu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X/DMUX are used in data transmissio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urce                                        Destin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 flipV="1" rot="5400000">
            <a:off x="2260440" y="4354920"/>
            <a:ext cx="1498680" cy="1117440"/>
          </a:xfrm>
          <a:custGeom>
            <a:avLst/>
            <a:gdLst>
              <a:gd name="textAreaLeft" fmla="*/ 329400 w 1498680"/>
              <a:gd name="textAreaRight" fmla="*/ 1169280 w 1498680"/>
              <a:gd name="textAreaTop" fmla="*/ 245520 h 1117440"/>
              <a:gd name="textAreaBottom" fmla="*/ 871920 h 111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H="1" flipV="1" rot="16200000">
            <a:off x="5498280" y="4393080"/>
            <a:ext cx="1498680" cy="1041480"/>
          </a:xfrm>
          <a:custGeom>
            <a:avLst/>
            <a:gdLst>
              <a:gd name="textAreaLeft" fmla="*/ 329400 w 1498680"/>
              <a:gd name="textAreaRight" fmla="*/ 1169280 w 1498680"/>
              <a:gd name="textAreaTop" fmla="*/ 228960 h 1041480"/>
              <a:gd name="textAreaBottom" fmla="*/ 812520 h 10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581280" y="4952880"/>
            <a:ext cx="2133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905120" y="4343400"/>
            <a:ext cx="533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905120" y="4572000"/>
            <a:ext cx="533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905120" y="5410080"/>
            <a:ext cx="533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133720" y="4648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781680" y="44197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781680" y="464832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781680" y="54864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010280" y="47242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665440" y="4800600"/>
            <a:ext cx="915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865840" y="4800600"/>
            <a:ext cx="915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MU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523880" y="4114800"/>
            <a:ext cx="381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523880" y="4419720"/>
            <a:ext cx="381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523880" y="5257800"/>
            <a:ext cx="381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391520" y="4191120"/>
            <a:ext cx="380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391520" y="4495680"/>
            <a:ext cx="380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391520" y="5334120"/>
            <a:ext cx="3808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971800" y="54864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172200" y="54864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2590920" y="6095880"/>
            <a:ext cx="1143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715000" y="6019920"/>
            <a:ext cx="1143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341960" y="4648320"/>
            <a:ext cx="915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27997-7F05-4C4F-935A-3A517A6B4F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able Logic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267480" indent="-2674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Ds are generic logic devices capable of implementing a wide range of combinational (and sequential) func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562720" y="3505320"/>
            <a:ext cx="1338120" cy="193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5014800" y="3746520"/>
            <a:ext cx="540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 flipH="1">
            <a:off x="5014800" y="3989520"/>
            <a:ext cx="540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>
            <a:off x="5016240" y="5199120"/>
            <a:ext cx="53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6910200" y="3746520"/>
            <a:ext cx="53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H="1">
            <a:off x="6910200" y="3989520"/>
            <a:ext cx="53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6910200" y="5199120"/>
            <a:ext cx="53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288040" y="4110120"/>
            <a:ext cx="3240" cy="603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178760" y="4233960"/>
            <a:ext cx="0" cy="6030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836960" y="3505320"/>
            <a:ext cx="182880" cy="2057400"/>
          </a:xfrm>
          <a:custGeom>
            <a:avLst/>
            <a:gdLst/>
            <a:ahLst/>
            <a:rect l="l" t="t" r="r" b="b"/>
            <a:pathLst>
              <a:path w="97" h="1009">
                <a:moveTo>
                  <a:pt x="96" y="0"/>
                </a:moveTo>
                <a:lnTo>
                  <a:pt x="0" y="0"/>
                </a:lnTo>
                <a:lnTo>
                  <a:pt x="0" y="1008"/>
                </a:lnTo>
                <a:lnTo>
                  <a:pt x="96" y="100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359480" y="3505320"/>
            <a:ext cx="182880" cy="1938240"/>
          </a:xfrm>
          <a:custGeom>
            <a:avLst/>
            <a:gdLst/>
            <a:ahLst/>
            <a:rect l="l" t="t" r="r" b="b"/>
            <a:pathLst>
              <a:path w="97" h="769">
                <a:moveTo>
                  <a:pt x="0" y="0"/>
                </a:moveTo>
                <a:lnTo>
                  <a:pt x="96" y="0"/>
                </a:lnTo>
                <a:lnTo>
                  <a:pt x="96" y="768"/>
                </a:lnTo>
                <a:lnTo>
                  <a:pt x="0" y="76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559480" y="3868560"/>
            <a:ext cx="1349280" cy="9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binat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7680960" y="4305240"/>
            <a:ext cx="10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 out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655440" y="4325760"/>
            <a:ext cx="91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EC27B-A160-4733-BE2C-500F65BCF08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of Combinational Logic Conce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hat is Sequential Logi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i-stable Logic Elements and Metas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Sequential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ip-flops: Type, Function, and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acteristic Eq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locked Synchronous State Machine (CSS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sis of State Mach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5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 structure, Analysis proced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5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SSM Models: Mealy Vs. Mo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s of Re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5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 tables and dia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5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ing Setup Time, Hold Times, and Maximum clock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6400800" y="1981080"/>
            <a:ext cx="1969200" cy="2820960"/>
            <a:chOff x="6400800" y="1981080"/>
            <a:chExt cx="1969200" cy="2820960"/>
          </a:xfrm>
        </p:grpSpPr>
        <p:grpSp>
          <p:nvGrpSpPr>
            <p:cNvPr id="921" name=""/>
            <p:cNvGrpSpPr/>
            <p:nvPr/>
          </p:nvGrpSpPr>
          <p:grpSpPr>
            <a:xfrm>
              <a:off x="6400800" y="1981080"/>
              <a:ext cx="1069560" cy="1380960"/>
              <a:chOff x="6400800" y="1981080"/>
              <a:chExt cx="1069560" cy="1380960"/>
            </a:xfrm>
          </p:grpSpPr>
          <p:sp>
            <p:nvSpPr>
              <p:cNvPr id="922" name=""/>
              <p:cNvSpPr/>
              <p:nvPr/>
            </p:nvSpPr>
            <p:spPr>
              <a:xfrm>
                <a:off x="6400800" y="1981080"/>
                <a:ext cx="1069560" cy="1380960"/>
              </a:xfrm>
              <a:custGeom>
                <a:avLst/>
                <a:gdLst/>
                <a:ahLst/>
                <a:rect l="l" t="t" r="r" b="b"/>
                <a:pathLst>
                  <a:path w="674" h="870">
                    <a:moveTo>
                      <a:pt x="664" y="182"/>
                    </a:moveTo>
                    <a:lnTo>
                      <a:pt x="668" y="114"/>
                    </a:lnTo>
                    <a:lnTo>
                      <a:pt x="635" y="51"/>
                    </a:lnTo>
                    <a:lnTo>
                      <a:pt x="571" y="0"/>
                    </a:lnTo>
                    <a:lnTo>
                      <a:pt x="474" y="22"/>
                    </a:lnTo>
                    <a:lnTo>
                      <a:pt x="389" y="80"/>
                    </a:lnTo>
                    <a:lnTo>
                      <a:pt x="283" y="127"/>
                    </a:lnTo>
                    <a:lnTo>
                      <a:pt x="169" y="174"/>
                    </a:lnTo>
                    <a:lnTo>
                      <a:pt x="63" y="238"/>
                    </a:lnTo>
                    <a:lnTo>
                      <a:pt x="0" y="297"/>
                    </a:lnTo>
                    <a:lnTo>
                      <a:pt x="13" y="314"/>
                    </a:lnTo>
                    <a:lnTo>
                      <a:pt x="131" y="424"/>
                    </a:lnTo>
                    <a:lnTo>
                      <a:pt x="173" y="483"/>
                    </a:lnTo>
                    <a:lnTo>
                      <a:pt x="182" y="539"/>
                    </a:lnTo>
                    <a:lnTo>
                      <a:pt x="186" y="611"/>
                    </a:lnTo>
                    <a:lnTo>
                      <a:pt x="194" y="704"/>
                    </a:lnTo>
                    <a:lnTo>
                      <a:pt x="216" y="802"/>
                    </a:lnTo>
                    <a:lnTo>
                      <a:pt x="249" y="856"/>
                    </a:lnTo>
                    <a:lnTo>
                      <a:pt x="283" y="869"/>
                    </a:lnTo>
                    <a:lnTo>
                      <a:pt x="321" y="840"/>
                    </a:lnTo>
                    <a:lnTo>
                      <a:pt x="385" y="802"/>
                    </a:lnTo>
                    <a:lnTo>
                      <a:pt x="452" y="759"/>
                    </a:lnTo>
                    <a:lnTo>
                      <a:pt x="528" y="729"/>
                    </a:lnTo>
                    <a:lnTo>
                      <a:pt x="597" y="720"/>
                    </a:lnTo>
                    <a:lnTo>
                      <a:pt x="630" y="666"/>
                    </a:lnTo>
                    <a:lnTo>
                      <a:pt x="655" y="585"/>
                    </a:lnTo>
                    <a:lnTo>
                      <a:pt x="673" y="454"/>
                    </a:lnTo>
                    <a:lnTo>
                      <a:pt x="668" y="339"/>
                    </a:lnTo>
                    <a:lnTo>
                      <a:pt x="660" y="272"/>
                    </a:lnTo>
                    <a:lnTo>
                      <a:pt x="630" y="272"/>
                    </a:lnTo>
                    <a:lnTo>
                      <a:pt x="635" y="386"/>
                    </a:lnTo>
                    <a:lnTo>
                      <a:pt x="635" y="509"/>
                    </a:lnTo>
                    <a:lnTo>
                      <a:pt x="617" y="581"/>
                    </a:lnTo>
                    <a:lnTo>
                      <a:pt x="588" y="666"/>
                    </a:lnTo>
                    <a:lnTo>
                      <a:pt x="521" y="700"/>
                    </a:lnTo>
                    <a:lnTo>
                      <a:pt x="427" y="725"/>
                    </a:lnTo>
                    <a:lnTo>
                      <a:pt x="351" y="767"/>
                    </a:lnTo>
                    <a:lnTo>
                      <a:pt x="279" y="818"/>
                    </a:lnTo>
                    <a:lnTo>
                      <a:pt x="249" y="784"/>
                    </a:lnTo>
                    <a:lnTo>
                      <a:pt x="232" y="713"/>
                    </a:lnTo>
                    <a:lnTo>
                      <a:pt x="224" y="619"/>
                    </a:lnTo>
                    <a:lnTo>
                      <a:pt x="216" y="521"/>
                    </a:lnTo>
                    <a:lnTo>
                      <a:pt x="186" y="437"/>
                    </a:lnTo>
                    <a:lnTo>
                      <a:pt x="102" y="348"/>
                    </a:lnTo>
                    <a:lnTo>
                      <a:pt x="63" y="301"/>
                    </a:lnTo>
                    <a:lnTo>
                      <a:pt x="67" y="284"/>
                    </a:lnTo>
                    <a:lnTo>
                      <a:pt x="173" y="212"/>
                    </a:lnTo>
                    <a:lnTo>
                      <a:pt x="279" y="165"/>
                    </a:lnTo>
                    <a:lnTo>
                      <a:pt x="368" y="123"/>
                    </a:lnTo>
                    <a:lnTo>
                      <a:pt x="423" y="98"/>
                    </a:lnTo>
                    <a:lnTo>
                      <a:pt x="478" y="64"/>
                    </a:lnTo>
                    <a:lnTo>
                      <a:pt x="512" y="47"/>
                    </a:lnTo>
                    <a:lnTo>
                      <a:pt x="567" y="42"/>
                    </a:lnTo>
                    <a:lnTo>
                      <a:pt x="601" y="72"/>
                    </a:lnTo>
                    <a:lnTo>
                      <a:pt x="626" y="119"/>
                    </a:lnTo>
                    <a:lnTo>
                      <a:pt x="626" y="161"/>
                    </a:lnTo>
                    <a:lnTo>
                      <a:pt x="630" y="203"/>
                    </a:lnTo>
                    <a:lnTo>
                      <a:pt x="664" y="18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6903720" y="2403360"/>
                <a:ext cx="337680" cy="495360"/>
              </a:xfrm>
              <a:custGeom>
                <a:avLst/>
                <a:gdLst/>
                <a:ahLst/>
                <a:rect l="l" t="t" r="r" b="b"/>
                <a:pathLst>
                  <a:path w="213" h="312">
                    <a:moveTo>
                      <a:pt x="187" y="86"/>
                    </a:moveTo>
                    <a:lnTo>
                      <a:pt x="140" y="35"/>
                    </a:lnTo>
                    <a:lnTo>
                      <a:pt x="64" y="0"/>
                    </a:lnTo>
                    <a:lnTo>
                      <a:pt x="26" y="69"/>
                    </a:lnTo>
                    <a:lnTo>
                      <a:pt x="0" y="158"/>
                    </a:lnTo>
                    <a:lnTo>
                      <a:pt x="60" y="311"/>
                    </a:lnTo>
                    <a:lnTo>
                      <a:pt x="136" y="306"/>
                    </a:lnTo>
                    <a:lnTo>
                      <a:pt x="212" y="255"/>
                    </a:lnTo>
                    <a:lnTo>
                      <a:pt x="212" y="124"/>
                    </a:lnTo>
                    <a:lnTo>
                      <a:pt x="191" y="120"/>
                    </a:lnTo>
                    <a:lnTo>
                      <a:pt x="174" y="141"/>
                    </a:lnTo>
                    <a:lnTo>
                      <a:pt x="178" y="243"/>
                    </a:lnTo>
                    <a:lnTo>
                      <a:pt x="127" y="281"/>
                    </a:lnTo>
                    <a:lnTo>
                      <a:pt x="69" y="272"/>
                    </a:lnTo>
                    <a:lnTo>
                      <a:pt x="35" y="162"/>
                    </a:lnTo>
                    <a:lnTo>
                      <a:pt x="82" y="162"/>
                    </a:lnTo>
                    <a:lnTo>
                      <a:pt x="140" y="133"/>
                    </a:lnTo>
                    <a:lnTo>
                      <a:pt x="136" y="124"/>
                    </a:lnTo>
                    <a:lnTo>
                      <a:pt x="64" y="141"/>
                    </a:lnTo>
                    <a:lnTo>
                      <a:pt x="26" y="136"/>
                    </a:lnTo>
                    <a:lnTo>
                      <a:pt x="73" y="31"/>
                    </a:lnTo>
                    <a:lnTo>
                      <a:pt x="124" y="64"/>
                    </a:lnTo>
                    <a:lnTo>
                      <a:pt x="170" y="115"/>
                    </a:lnTo>
                    <a:lnTo>
                      <a:pt x="187" y="8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4" name=""/>
            <p:cNvGrpSpPr/>
            <p:nvPr/>
          </p:nvGrpSpPr>
          <p:grpSpPr>
            <a:xfrm>
              <a:off x="6568920" y="2136600"/>
              <a:ext cx="1801080" cy="2665440"/>
              <a:chOff x="6568920" y="2136600"/>
              <a:chExt cx="1801080" cy="2665440"/>
            </a:xfrm>
          </p:grpSpPr>
          <p:sp>
            <p:nvSpPr>
              <p:cNvPr id="925" name=""/>
              <p:cNvSpPr/>
              <p:nvPr/>
            </p:nvSpPr>
            <p:spPr>
              <a:xfrm>
                <a:off x="6568920" y="2593800"/>
                <a:ext cx="1452240" cy="492120"/>
              </a:xfrm>
              <a:custGeom>
                <a:avLst/>
                <a:gdLst/>
                <a:ahLst/>
                <a:rect l="l" t="t" r="r" b="b"/>
                <a:pathLst>
                  <a:path w="915" h="310">
                    <a:moveTo>
                      <a:pt x="914" y="241"/>
                    </a:moveTo>
                    <a:lnTo>
                      <a:pt x="893" y="216"/>
                    </a:lnTo>
                    <a:lnTo>
                      <a:pt x="846" y="207"/>
                    </a:lnTo>
                    <a:lnTo>
                      <a:pt x="698" y="237"/>
                    </a:lnTo>
                    <a:lnTo>
                      <a:pt x="554" y="263"/>
                    </a:lnTo>
                    <a:lnTo>
                      <a:pt x="376" y="258"/>
                    </a:lnTo>
                    <a:lnTo>
                      <a:pt x="211" y="224"/>
                    </a:lnTo>
                    <a:lnTo>
                      <a:pt x="110" y="165"/>
                    </a:lnTo>
                    <a:lnTo>
                      <a:pt x="123" y="118"/>
                    </a:lnTo>
                    <a:lnTo>
                      <a:pt x="105" y="54"/>
                    </a:lnTo>
                    <a:lnTo>
                      <a:pt x="67" y="21"/>
                    </a:lnTo>
                    <a:lnTo>
                      <a:pt x="25" y="0"/>
                    </a:lnTo>
                    <a:lnTo>
                      <a:pt x="8" y="46"/>
                    </a:lnTo>
                    <a:lnTo>
                      <a:pt x="0" y="92"/>
                    </a:lnTo>
                    <a:lnTo>
                      <a:pt x="17" y="181"/>
                    </a:lnTo>
                    <a:lnTo>
                      <a:pt x="59" y="207"/>
                    </a:lnTo>
                    <a:lnTo>
                      <a:pt x="161" y="241"/>
                    </a:lnTo>
                    <a:lnTo>
                      <a:pt x="270" y="270"/>
                    </a:lnTo>
                    <a:lnTo>
                      <a:pt x="453" y="305"/>
                    </a:lnTo>
                    <a:lnTo>
                      <a:pt x="622" y="309"/>
                    </a:lnTo>
                    <a:lnTo>
                      <a:pt x="851" y="288"/>
                    </a:lnTo>
                    <a:lnTo>
                      <a:pt x="914" y="241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347960" y="2243160"/>
                <a:ext cx="786960" cy="701640"/>
              </a:xfrm>
              <a:custGeom>
                <a:avLst/>
                <a:gdLst/>
                <a:ahLst/>
                <a:rect l="l" t="t" r="r" b="b"/>
                <a:pathLst>
                  <a:path w="496" h="442">
                    <a:moveTo>
                      <a:pt x="482" y="441"/>
                    </a:moveTo>
                    <a:lnTo>
                      <a:pt x="495" y="399"/>
                    </a:lnTo>
                    <a:lnTo>
                      <a:pt x="469" y="361"/>
                    </a:lnTo>
                    <a:lnTo>
                      <a:pt x="385" y="327"/>
                    </a:lnTo>
                    <a:lnTo>
                      <a:pt x="287" y="318"/>
                    </a:lnTo>
                    <a:lnTo>
                      <a:pt x="220" y="297"/>
                    </a:lnTo>
                    <a:lnTo>
                      <a:pt x="177" y="259"/>
                    </a:lnTo>
                    <a:lnTo>
                      <a:pt x="131" y="174"/>
                    </a:lnTo>
                    <a:lnTo>
                      <a:pt x="93" y="81"/>
                    </a:lnTo>
                    <a:lnTo>
                      <a:pt x="93" y="34"/>
                    </a:lnTo>
                    <a:lnTo>
                      <a:pt x="71" y="9"/>
                    </a:lnTo>
                    <a:lnTo>
                      <a:pt x="42" y="0"/>
                    </a:lnTo>
                    <a:lnTo>
                      <a:pt x="12" y="22"/>
                    </a:lnTo>
                    <a:lnTo>
                      <a:pt x="0" y="68"/>
                    </a:lnTo>
                    <a:lnTo>
                      <a:pt x="4" y="127"/>
                    </a:lnTo>
                    <a:lnTo>
                      <a:pt x="20" y="170"/>
                    </a:lnTo>
                    <a:lnTo>
                      <a:pt x="38" y="170"/>
                    </a:lnTo>
                    <a:lnTo>
                      <a:pt x="46" y="153"/>
                    </a:lnTo>
                    <a:lnTo>
                      <a:pt x="71" y="149"/>
                    </a:lnTo>
                    <a:lnTo>
                      <a:pt x="118" y="212"/>
                    </a:lnTo>
                    <a:lnTo>
                      <a:pt x="173" y="310"/>
                    </a:lnTo>
                    <a:lnTo>
                      <a:pt x="211" y="352"/>
                    </a:lnTo>
                    <a:lnTo>
                      <a:pt x="287" y="377"/>
                    </a:lnTo>
                    <a:lnTo>
                      <a:pt x="376" y="403"/>
                    </a:lnTo>
                    <a:lnTo>
                      <a:pt x="435" y="424"/>
                    </a:lnTo>
                    <a:lnTo>
                      <a:pt x="482" y="441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7636680" y="2841480"/>
                <a:ext cx="598320" cy="1036800"/>
              </a:xfrm>
              <a:custGeom>
                <a:avLst/>
                <a:gdLst/>
                <a:ahLst/>
                <a:rect l="l" t="t" r="r" b="b"/>
                <a:pathLst>
                  <a:path w="377" h="653">
                    <a:moveTo>
                      <a:pt x="376" y="85"/>
                    </a:moveTo>
                    <a:lnTo>
                      <a:pt x="356" y="34"/>
                    </a:lnTo>
                    <a:lnTo>
                      <a:pt x="326" y="0"/>
                    </a:lnTo>
                    <a:lnTo>
                      <a:pt x="250" y="0"/>
                    </a:lnTo>
                    <a:lnTo>
                      <a:pt x="173" y="34"/>
                    </a:lnTo>
                    <a:lnTo>
                      <a:pt x="84" y="131"/>
                    </a:lnTo>
                    <a:lnTo>
                      <a:pt x="38" y="208"/>
                    </a:lnTo>
                    <a:lnTo>
                      <a:pt x="8" y="313"/>
                    </a:lnTo>
                    <a:lnTo>
                      <a:pt x="0" y="436"/>
                    </a:lnTo>
                    <a:lnTo>
                      <a:pt x="17" y="568"/>
                    </a:lnTo>
                    <a:lnTo>
                      <a:pt x="59" y="632"/>
                    </a:lnTo>
                    <a:lnTo>
                      <a:pt x="135" y="652"/>
                    </a:lnTo>
                    <a:lnTo>
                      <a:pt x="182" y="649"/>
                    </a:lnTo>
                    <a:lnTo>
                      <a:pt x="220" y="627"/>
                    </a:lnTo>
                    <a:lnTo>
                      <a:pt x="254" y="598"/>
                    </a:lnTo>
                    <a:lnTo>
                      <a:pt x="267" y="547"/>
                    </a:lnTo>
                    <a:lnTo>
                      <a:pt x="258" y="496"/>
                    </a:lnTo>
                    <a:lnTo>
                      <a:pt x="229" y="466"/>
                    </a:lnTo>
                    <a:lnTo>
                      <a:pt x="208" y="433"/>
                    </a:lnTo>
                    <a:lnTo>
                      <a:pt x="199" y="390"/>
                    </a:lnTo>
                    <a:lnTo>
                      <a:pt x="199" y="352"/>
                    </a:lnTo>
                    <a:lnTo>
                      <a:pt x="216" y="318"/>
                    </a:lnTo>
                    <a:lnTo>
                      <a:pt x="275" y="259"/>
                    </a:lnTo>
                    <a:lnTo>
                      <a:pt x="347" y="191"/>
                    </a:lnTo>
                    <a:lnTo>
                      <a:pt x="373" y="135"/>
                    </a:lnTo>
                    <a:lnTo>
                      <a:pt x="376" y="8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7757640" y="2136600"/>
                <a:ext cx="612360" cy="546120"/>
              </a:xfrm>
              <a:custGeom>
                <a:avLst/>
                <a:gdLst/>
                <a:ahLst/>
                <a:rect l="l" t="t" r="r" b="b"/>
                <a:pathLst>
                  <a:path w="386" h="344">
                    <a:moveTo>
                      <a:pt x="102" y="186"/>
                    </a:moveTo>
                    <a:lnTo>
                      <a:pt x="131" y="127"/>
                    </a:lnTo>
                    <a:lnTo>
                      <a:pt x="186" y="55"/>
                    </a:lnTo>
                    <a:lnTo>
                      <a:pt x="237" y="8"/>
                    </a:lnTo>
                    <a:lnTo>
                      <a:pt x="297" y="0"/>
                    </a:lnTo>
                    <a:lnTo>
                      <a:pt x="347" y="17"/>
                    </a:lnTo>
                    <a:lnTo>
                      <a:pt x="381" y="59"/>
                    </a:lnTo>
                    <a:lnTo>
                      <a:pt x="385" y="118"/>
                    </a:lnTo>
                    <a:lnTo>
                      <a:pt x="360" y="203"/>
                    </a:lnTo>
                    <a:lnTo>
                      <a:pt x="297" y="283"/>
                    </a:lnTo>
                    <a:lnTo>
                      <a:pt x="224" y="339"/>
                    </a:lnTo>
                    <a:lnTo>
                      <a:pt x="157" y="343"/>
                    </a:lnTo>
                    <a:lnTo>
                      <a:pt x="115" y="326"/>
                    </a:lnTo>
                    <a:lnTo>
                      <a:pt x="106" y="301"/>
                    </a:lnTo>
                    <a:lnTo>
                      <a:pt x="102" y="263"/>
                    </a:lnTo>
                    <a:lnTo>
                      <a:pt x="51" y="271"/>
                    </a:lnTo>
                    <a:lnTo>
                      <a:pt x="17" y="288"/>
                    </a:lnTo>
                    <a:lnTo>
                      <a:pt x="0" y="263"/>
                    </a:lnTo>
                    <a:lnTo>
                      <a:pt x="17" y="245"/>
                    </a:lnTo>
                    <a:lnTo>
                      <a:pt x="72" y="225"/>
                    </a:lnTo>
                    <a:lnTo>
                      <a:pt x="106" y="212"/>
                    </a:lnTo>
                    <a:lnTo>
                      <a:pt x="102" y="18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7717680" y="3703680"/>
                <a:ext cx="375840" cy="1023840"/>
              </a:xfrm>
              <a:custGeom>
                <a:avLst/>
                <a:gdLst/>
                <a:ahLst/>
                <a:rect l="l" t="t" r="r" b="b"/>
                <a:pathLst>
                  <a:path w="237" h="645">
                    <a:moveTo>
                      <a:pt x="178" y="0"/>
                    </a:moveTo>
                    <a:lnTo>
                      <a:pt x="135" y="4"/>
                    </a:lnTo>
                    <a:lnTo>
                      <a:pt x="105" y="59"/>
                    </a:lnTo>
                    <a:lnTo>
                      <a:pt x="114" y="115"/>
                    </a:lnTo>
                    <a:lnTo>
                      <a:pt x="127" y="229"/>
                    </a:lnTo>
                    <a:lnTo>
                      <a:pt x="122" y="301"/>
                    </a:lnTo>
                    <a:lnTo>
                      <a:pt x="127" y="373"/>
                    </a:lnTo>
                    <a:lnTo>
                      <a:pt x="160" y="521"/>
                    </a:lnTo>
                    <a:lnTo>
                      <a:pt x="169" y="559"/>
                    </a:lnTo>
                    <a:lnTo>
                      <a:pt x="160" y="568"/>
                    </a:lnTo>
                    <a:lnTo>
                      <a:pt x="114" y="543"/>
                    </a:lnTo>
                    <a:lnTo>
                      <a:pt x="38" y="530"/>
                    </a:lnTo>
                    <a:lnTo>
                      <a:pt x="0" y="547"/>
                    </a:lnTo>
                    <a:lnTo>
                      <a:pt x="4" y="576"/>
                    </a:lnTo>
                    <a:lnTo>
                      <a:pt x="55" y="589"/>
                    </a:lnTo>
                    <a:lnTo>
                      <a:pt x="114" y="594"/>
                    </a:lnTo>
                    <a:lnTo>
                      <a:pt x="173" y="619"/>
                    </a:lnTo>
                    <a:lnTo>
                      <a:pt x="219" y="644"/>
                    </a:lnTo>
                    <a:lnTo>
                      <a:pt x="236" y="632"/>
                    </a:lnTo>
                    <a:lnTo>
                      <a:pt x="236" y="589"/>
                    </a:lnTo>
                    <a:lnTo>
                      <a:pt x="203" y="509"/>
                    </a:lnTo>
                    <a:lnTo>
                      <a:pt x="185" y="415"/>
                    </a:lnTo>
                    <a:lnTo>
                      <a:pt x="178" y="284"/>
                    </a:lnTo>
                    <a:lnTo>
                      <a:pt x="194" y="166"/>
                    </a:lnTo>
                    <a:lnTo>
                      <a:pt x="211" y="72"/>
                    </a:lnTo>
                    <a:lnTo>
                      <a:pt x="194" y="0"/>
                    </a:lnTo>
                    <a:lnTo>
                      <a:pt x="178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281360" y="3609720"/>
                <a:ext cx="605880" cy="1192320"/>
              </a:xfrm>
              <a:custGeom>
                <a:avLst/>
                <a:gdLst/>
                <a:ahLst/>
                <a:rect l="l" t="t" r="r" b="b"/>
                <a:pathLst>
                  <a:path w="382" h="751">
                    <a:moveTo>
                      <a:pt x="300" y="8"/>
                    </a:moveTo>
                    <a:lnTo>
                      <a:pt x="359" y="0"/>
                    </a:lnTo>
                    <a:lnTo>
                      <a:pt x="381" y="42"/>
                    </a:lnTo>
                    <a:lnTo>
                      <a:pt x="359" y="92"/>
                    </a:lnTo>
                    <a:lnTo>
                      <a:pt x="300" y="177"/>
                    </a:lnTo>
                    <a:lnTo>
                      <a:pt x="254" y="301"/>
                    </a:lnTo>
                    <a:lnTo>
                      <a:pt x="237" y="402"/>
                    </a:lnTo>
                    <a:lnTo>
                      <a:pt x="245" y="508"/>
                    </a:lnTo>
                    <a:lnTo>
                      <a:pt x="262" y="644"/>
                    </a:lnTo>
                    <a:lnTo>
                      <a:pt x="279" y="720"/>
                    </a:lnTo>
                    <a:lnTo>
                      <a:pt x="270" y="750"/>
                    </a:lnTo>
                    <a:lnTo>
                      <a:pt x="241" y="750"/>
                    </a:lnTo>
                    <a:lnTo>
                      <a:pt x="186" y="724"/>
                    </a:lnTo>
                    <a:lnTo>
                      <a:pt x="101" y="707"/>
                    </a:lnTo>
                    <a:lnTo>
                      <a:pt x="12" y="707"/>
                    </a:lnTo>
                    <a:lnTo>
                      <a:pt x="0" y="682"/>
                    </a:lnTo>
                    <a:lnTo>
                      <a:pt x="50" y="648"/>
                    </a:lnTo>
                    <a:lnTo>
                      <a:pt x="76" y="648"/>
                    </a:lnTo>
                    <a:lnTo>
                      <a:pt x="186" y="682"/>
                    </a:lnTo>
                    <a:lnTo>
                      <a:pt x="219" y="695"/>
                    </a:lnTo>
                    <a:lnTo>
                      <a:pt x="228" y="678"/>
                    </a:lnTo>
                    <a:lnTo>
                      <a:pt x="212" y="568"/>
                    </a:lnTo>
                    <a:lnTo>
                      <a:pt x="190" y="449"/>
                    </a:lnTo>
                    <a:lnTo>
                      <a:pt x="186" y="343"/>
                    </a:lnTo>
                    <a:lnTo>
                      <a:pt x="203" y="237"/>
                    </a:lnTo>
                    <a:lnTo>
                      <a:pt x="232" y="114"/>
                    </a:lnTo>
                    <a:lnTo>
                      <a:pt x="266" y="21"/>
                    </a:lnTo>
                    <a:lnTo>
                      <a:pt x="300" y="8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1" name=""/>
          <p:cNvSpPr/>
          <p:nvPr/>
        </p:nvSpPr>
        <p:spPr>
          <a:xfrm>
            <a:off x="228600" y="1676520"/>
            <a:ext cx="304920" cy="228600"/>
          </a:xfrm>
          <a:prstGeom prst="rightArrow">
            <a:avLst>
              <a:gd name="adj1" fmla="val 50000"/>
              <a:gd name="adj2" fmla="val 66748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9E0B3-7954-4AEC-8E6D-C1FF77D5021C}" type="slidenum">
              <a:t>25</a:t>
            </a:fld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Times New Roman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A collection of state variables whose values at any one time contain all the information about the past values necessary to account for future behavior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 A TV tuner could have a current channel stored internally, so the next channel can be predicted as a function of the inputs, i.e. the UP button increases the channel by one, the DOWN button decreases the channel by one. What is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is TV tuner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Times New Roman"/>
              </a:rPr>
              <a:t>Digital sequential lo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 variables are binary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ircuit wit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inary state variables ha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sible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so known as a 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finite state machine </a:t>
            </a:r>
            <a:r>
              <a:rPr b="1" i="1" lang="en-US" sz="1800" spc="-1" strike="noStrike">
                <a:solidFill>
                  <a:srgbClr val="969696"/>
                </a:solidFill>
                <a:latin typeface="Times New Roman"/>
              </a:rPr>
              <a:t>(FSM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nges usually synchronized with a system </a:t>
            </a: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tial Logic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36633-55ED-4567-95AD-27B231231DB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stable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implest possible feedback sequential logic circuit is shown below: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ist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cause it has two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ta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 1: If Q (Q=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out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n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is high, the bottom inverter out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(/Q =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out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in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is low, which keeps the top inverter output Q hig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 2: If Q is low, the bottom inverter output /Q is high, which keeps the top inverter output Q lo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6" name=""/>
          <p:cNvGrpSpPr/>
          <p:nvPr/>
        </p:nvGrpSpPr>
        <p:grpSpPr>
          <a:xfrm>
            <a:off x="692280" y="1752480"/>
            <a:ext cx="5473440" cy="2355840"/>
            <a:chOff x="692280" y="1752480"/>
            <a:chExt cx="5473440" cy="2355840"/>
          </a:xfrm>
        </p:grpSpPr>
        <p:sp>
          <p:nvSpPr>
            <p:cNvPr id="937" name=""/>
            <p:cNvSpPr/>
            <p:nvPr/>
          </p:nvSpPr>
          <p:spPr>
            <a:xfrm>
              <a:off x="3097080" y="2106720"/>
              <a:ext cx="468360" cy="41436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0" y="260"/>
                  </a:moveTo>
                  <a:lnTo>
                    <a:pt x="294" y="130"/>
                  </a:lnTo>
                  <a:lnTo>
                    <a:pt x="0" y="0"/>
                  </a:lnTo>
                  <a:lnTo>
                    <a:pt x="0" y="26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097080" y="3139920"/>
              <a:ext cx="468360" cy="414360"/>
            </a:xfrm>
            <a:custGeom>
              <a:avLst/>
              <a:gdLst/>
              <a:ahLst/>
              <a:rect l="l" t="t" r="r" b="b"/>
              <a:pathLst>
                <a:path w="295" h="261">
                  <a:moveTo>
                    <a:pt x="0" y="260"/>
                  </a:moveTo>
                  <a:lnTo>
                    <a:pt x="294" y="130"/>
                  </a:lnTo>
                  <a:lnTo>
                    <a:pt x="0" y="0"/>
                  </a:lnTo>
                  <a:lnTo>
                    <a:pt x="0" y="26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>
              <a:off x="1704600" y="2313000"/>
              <a:ext cx="139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854360" y="2313000"/>
              <a:ext cx="3109680" cy="1035000"/>
            </a:xfrm>
            <a:custGeom>
              <a:avLst/>
              <a:gdLst/>
              <a:ahLst/>
              <a:rect l="l" t="t" r="r" b="b"/>
              <a:pathLst>
                <a:path w="1959" h="652">
                  <a:moveTo>
                    <a:pt x="0" y="0"/>
                  </a:moveTo>
                  <a:lnTo>
                    <a:pt x="0" y="260"/>
                  </a:lnTo>
                  <a:lnTo>
                    <a:pt x="1958" y="651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854360" y="2313000"/>
              <a:ext cx="3109680" cy="1035000"/>
            </a:xfrm>
            <a:custGeom>
              <a:avLst/>
              <a:gdLst/>
              <a:ahLst/>
              <a:rect l="l" t="t" r="r" b="b"/>
              <a:pathLst>
                <a:path w="1959" h="652">
                  <a:moveTo>
                    <a:pt x="783" y="651"/>
                  </a:moveTo>
                  <a:lnTo>
                    <a:pt x="0" y="651"/>
                  </a:lnTo>
                  <a:lnTo>
                    <a:pt x="0" y="521"/>
                  </a:lnTo>
                  <a:lnTo>
                    <a:pt x="195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808440" y="2313000"/>
              <a:ext cx="1465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 flipH="1">
              <a:off x="3808440" y="3346560"/>
              <a:ext cx="1465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H="1">
              <a:off x="1704600" y="3346560"/>
              <a:ext cx="149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594240" y="2222640"/>
              <a:ext cx="203040" cy="203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594240" y="3289320"/>
              <a:ext cx="203040" cy="203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914400" y="2057400"/>
              <a:ext cx="76212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69696"/>
                  </a:solidFill>
                  <a:latin typeface="Times New Roman"/>
                </a:rPr>
                <a:t>V</a:t>
              </a:r>
              <a:r>
                <a:rPr b="0" lang="en-US" sz="2800" spc="-1" strike="noStrike" baseline="-25000">
                  <a:solidFill>
                    <a:srgbClr val="969696"/>
                  </a:solidFill>
                  <a:latin typeface="Times New Roman"/>
                </a:rPr>
                <a:t>in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914400" y="3124080"/>
              <a:ext cx="83808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69696"/>
                  </a:solidFill>
                  <a:latin typeface="Times New Roman"/>
                </a:rPr>
                <a:t>V</a:t>
              </a:r>
              <a:r>
                <a:rPr b="0" lang="en-US" sz="2800" spc="-1" strike="noStrike" baseline="-25000">
                  <a:solidFill>
                    <a:srgbClr val="969696"/>
                  </a:solidFill>
                  <a:latin typeface="Times New Roman"/>
                </a:rPr>
                <a:t>in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572000" y="1752480"/>
              <a:ext cx="99072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69696"/>
                  </a:solidFill>
                  <a:latin typeface="Times New Roman"/>
                </a:rPr>
                <a:t>V</a:t>
              </a:r>
              <a:r>
                <a:rPr b="0" lang="en-US" sz="2800" spc="-1" strike="noStrike" baseline="-25000">
                  <a:solidFill>
                    <a:srgbClr val="969696"/>
                  </a:solidFill>
                  <a:latin typeface="Times New Roman"/>
                </a:rPr>
                <a:t>out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572000" y="3429000"/>
              <a:ext cx="99072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969696"/>
                  </a:solidFill>
                  <a:latin typeface="Times New Roman"/>
                </a:rPr>
                <a:t>V</a:t>
              </a:r>
              <a:r>
                <a:rPr b="0" lang="en-US" sz="2800" spc="-1" strike="noStrike" baseline="-25000">
                  <a:solidFill>
                    <a:srgbClr val="969696"/>
                  </a:solidFill>
                  <a:latin typeface="Times New Roman"/>
                </a:rPr>
                <a:t>out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562720" y="213372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69696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486400" y="3200400"/>
              <a:ext cx="609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69696"/>
                  </a:solidFill>
                  <a:latin typeface="Times New Roman"/>
                </a:rPr>
                <a:t>/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92280" y="1758960"/>
              <a:ext cx="5473440" cy="2349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32BD0-6879-4E32-892D-1DA3551D928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og Analysis of a Bi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2133720" y="1682640"/>
            <a:ext cx="0" cy="1822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835280" y="3200400"/>
            <a:ext cx="205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138400" y="1943280"/>
            <a:ext cx="1444680" cy="1230120"/>
          </a:xfrm>
          <a:custGeom>
            <a:avLst/>
            <a:gdLst/>
            <a:ahLst/>
            <a:rect l="l" t="t" r="r" b="b"/>
            <a:pathLst>
              <a:path w="910" h="775">
                <a:moveTo>
                  <a:pt x="0" y="0"/>
                </a:moveTo>
                <a:lnTo>
                  <a:pt x="39" y="1"/>
                </a:lnTo>
                <a:lnTo>
                  <a:pt x="67" y="1"/>
                </a:lnTo>
                <a:lnTo>
                  <a:pt x="88" y="1"/>
                </a:lnTo>
                <a:lnTo>
                  <a:pt x="108" y="1"/>
                </a:lnTo>
                <a:lnTo>
                  <a:pt x="129" y="9"/>
                </a:lnTo>
                <a:lnTo>
                  <a:pt x="151" y="6"/>
                </a:lnTo>
                <a:lnTo>
                  <a:pt x="179" y="15"/>
                </a:lnTo>
                <a:lnTo>
                  <a:pt x="179" y="6"/>
                </a:lnTo>
                <a:lnTo>
                  <a:pt x="223" y="21"/>
                </a:lnTo>
                <a:lnTo>
                  <a:pt x="247" y="21"/>
                </a:lnTo>
                <a:lnTo>
                  <a:pt x="273" y="39"/>
                </a:lnTo>
                <a:lnTo>
                  <a:pt x="301" y="54"/>
                </a:lnTo>
                <a:lnTo>
                  <a:pt x="314" y="76"/>
                </a:lnTo>
                <a:lnTo>
                  <a:pt x="322" y="99"/>
                </a:lnTo>
                <a:lnTo>
                  <a:pt x="322" y="121"/>
                </a:lnTo>
                <a:lnTo>
                  <a:pt x="336" y="144"/>
                </a:lnTo>
                <a:lnTo>
                  <a:pt x="342" y="166"/>
                </a:lnTo>
                <a:lnTo>
                  <a:pt x="342" y="189"/>
                </a:lnTo>
                <a:lnTo>
                  <a:pt x="349" y="211"/>
                </a:lnTo>
                <a:lnTo>
                  <a:pt x="356" y="234"/>
                </a:lnTo>
                <a:lnTo>
                  <a:pt x="363" y="271"/>
                </a:lnTo>
                <a:lnTo>
                  <a:pt x="363" y="294"/>
                </a:lnTo>
                <a:lnTo>
                  <a:pt x="370" y="316"/>
                </a:lnTo>
                <a:lnTo>
                  <a:pt x="370" y="339"/>
                </a:lnTo>
                <a:lnTo>
                  <a:pt x="383" y="361"/>
                </a:lnTo>
                <a:lnTo>
                  <a:pt x="383" y="391"/>
                </a:lnTo>
                <a:lnTo>
                  <a:pt x="397" y="429"/>
                </a:lnTo>
                <a:lnTo>
                  <a:pt x="404" y="459"/>
                </a:lnTo>
                <a:lnTo>
                  <a:pt x="411" y="489"/>
                </a:lnTo>
                <a:lnTo>
                  <a:pt x="418" y="511"/>
                </a:lnTo>
                <a:lnTo>
                  <a:pt x="432" y="534"/>
                </a:lnTo>
                <a:lnTo>
                  <a:pt x="446" y="556"/>
                </a:lnTo>
                <a:lnTo>
                  <a:pt x="460" y="579"/>
                </a:lnTo>
                <a:lnTo>
                  <a:pt x="466" y="601"/>
                </a:lnTo>
                <a:lnTo>
                  <a:pt x="480" y="624"/>
                </a:lnTo>
                <a:lnTo>
                  <a:pt x="493" y="646"/>
                </a:lnTo>
                <a:lnTo>
                  <a:pt x="515" y="669"/>
                </a:lnTo>
                <a:lnTo>
                  <a:pt x="535" y="691"/>
                </a:lnTo>
                <a:lnTo>
                  <a:pt x="556" y="699"/>
                </a:lnTo>
                <a:lnTo>
                  <a:pt x="583" y="714"/>
                </a:lnTo>
                <a:lnTo>
                  <a:pt x="617" y="729"/>
                </a:lnTo>
                <a:lnTo>
                  <a:pt x="639" y="744"/>
                </a:lnTo>
                <a:lnTo>
                  <a:pt x="659" y="751"/>
                </a:lnTo>
                <a:lnTo>
                  <a:pt x="686" y="751"/>
                </a:lnTo>
                <a:lnTo>
                  <a:pt x="710" y="756"/>
                </a:lnTo>
                <a:lnTo>
                  <a:pt x="732" y="759"/>
                </a:lnTo>
                <a:lnTo>
                  <a:pt x="757" y="759"/>
                </a:lnTo>
                <a:lnTo>
                  <a:pt x="776" y="759"/>
                </a:lnTo>
                <a:lnTo>
                  <a:pt x="796" y="759"/>
                </a:lnTo>
                <a:lnTo>
                  <a:pt x="820" y="762"/>
                </a:lnTo>
                <a:lnTo>
                  <a:pt x="842" y="768"/>
                </a:lnTo>
                <a:lnTo>
                  <a:pt x="864" y="768"/>
                </a:lnTo>
                <a:lnTo>
                  <a:pt x="892" y="774"/>
                </a:lnTo>
                <a:lnTo>
                  <a:pt x="909" y="774"/>
                </a:lnTo>
              </a:path>
            </a:pathLst>
          </a:custGeom>
          <a:noFill/>
          <a:ln cap="rnd"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486400" y="1682640"/>
            <a:ext cx="0" cy="1822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5187960" y="3200400"/>
            <a:ext cx="1898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510160" y="1981080"/>
            <a:ext cx="1230480" cy="1211400"/>
          </a:xfrm>
          <a:custGeom>
            <a:avLst/>
            <a:gdLst/>
            <a:ahLst/>
            <a:rect l="l" t="t" r="r" b="b"/>
            <a:pathLst>
              <a:path w="775" h="763">
                <a:moveTo>
                  <a:pt x="774" y="762"/>
                </a:moveTo>
                <a:lnTo>
                  <a:pt x="773" y="728"/>
                </a:lnTo>
                <a:lnTo>
                  <a:pt x="773" y="705"/>
                </a:lnTo>
                <a:lnTo>
                  <a:pt x="773" y="688"/>
                </a:lnTo>
                <a:lnTo>
                  <a:pt x="773" y="671"/>
                </a:lnTo>
                <a:lnTo>
                  <a:pt x="765" y="653"/>
                </a:lnTo>
                <a:lnTo>
                  <a:pt x="768" y="635"/>
                </a:lnTo>
                <a:lnTo>
                  <a:pt x="759" y="611"/>
                </a:lnTo>
                <a:lnTo>
                  <a:pt x="768" y="611"/>
                </a:lnTo>
                <a:lnTo>
                  <a:pt x="753" y="574"/>
                </a:lnTo>
                <a:lnTo>
                  <a:pt x="753" y="554"/>
                </a:lnTo>
                <a:lnTo>
                  <a:pt x="735" y="532"/>
                </a:lnTo>
                <a:lnTo>
                  <a:pt x="720" y="509"/>
                </a:lnTo>
                <a:lnTo>
                  <a:pt x="698" y="497"/>
                </a:lnTo>
                <a:lnTo>
                  <a:pt x="675" y="491"/>
                </a:lnTo>
                <a:lnTo>
                  <a:pt x="653" y="491"/>
                </a:lnTo>
                <a:lnTo>
                  <a:pt x="630" y="480"/>
                </a:lnTo>
                <a:lnTo>
                  <a:pt x="608" y="474"/>
                </a:lnTo>
                <a:lnTo>
                  <a:pt x="585" y="474"/>
                </a:lnTo>
                <a:lnTo>
                  <a:pt x="563" y="468"/>
                </a:lnTo>
                <a:lnTo>
                  <a:pt x="540" y="463"/>
                </a:lnTo>
                <a:lnTo>
                  <a:pt x="503" y="457"/>
                </a:lnTo>
                <a:lnTo>
                  <a:pt x="480" y="457"/>
                </a:lnTo>
                <a:lnTo>
                  <a:pt x="458" y="451"/>
                </a:lnTo>
                <a:lnTo>
                  <a:pt x="435" y="451"/>
                </a:lnTo>
                <a:lnTo>
                  <a:pt x="413" y="440"/>
                </a:lnTo>
                <a:lnTo>
                  <a:pt x="383" y="440"/>
                </a:lnTo>
                <a:lnTo>
                  <a:pt x="345" y="428"/>
                </a:lnTo>
                <a:lnTo>
                  <a:pt x="315" y="422"/>
                </a:lnTo>
                <a:lnTo>
                  <a:pt x="285" y="417"/>
                </a:lnTo>
                <a:lnTo>
                  <a:pt x="263" y="411"/>
                </a:lnTo>
                <a:lnTo>
                  <a:pt x="240" y="399"/>
                </a:lnTo>
                <a:lnTo>
                  <a:pt x="218" y="387"/>
                </a:lnTo>
                <a:lnTo>
                  <a:pt x="195" y="376"/>
                </a:lnTo>
                <a:lnTo>
                  <a:pt x="173" y="370"/>
                </a:lnTo>
                <a:lnTo>
                  <a:pt x="150" y="359"/>
                </a:lnTo>
                <a:lnTo>
                  <a:pt x="128" y="347"/>
                </a:lnTo>
                <a:lnTo>
                  <a:pt x="105" y="330"/>
                </a:lnTo>
                <a:lnTo>
                  <a:pt x="83" y="313"/>
                </a:lnTo>
                <a:lnTo>
                  <a:pt x="75" y="295"/>
                </a:lnTo>
                <a:lnTo>
                  <a:pt x="60" y="272"/>
                </a:lnTo>
                <a:lnTo>
                  <a:pt x="45" y="243"/>
                </a:lnTo>
                <a:lnTo>
                  <a:pt x="30" y="226"/>
                </a:lnTo>
                <a:lnTo>
                  <a:pt x="23" y="209"/>
                </a:lnTo>
                <a:lnTo>
                  <a:pt x="23" y="186"/>
                </a:lnTo>
                <a:lnTo>
                  <a:pt x="18" y="166"/>
                </a:lnTo>
                <a:lnTo>
                  <a:pt x="15" y="147"/>
                </a:lnTo>
                <a:lnTo>
                  <a:pt x="15" y="127"/>
                </a:lnTo>
                <a:lnTo>
                  <a:pt x="15" y="110"/>
                </a:lnTo>
                <a:lnTo>
                  <a:pt x="15" y="93"/>
                </a:lnTo>
                <a:lnTo>
                  <a:pt x="12" y="73"/>
                </a:lnTo>
                <a:lnTo>
                  <a:pt x="6" y="55"/>
                </a:lnTo>
                <a:lnTo>
                  <a:pt x="6" y="36"/>
                </a:lnTo>
                <a:lnTo>
                  <a:pt x="0" y="13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cbcbc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3581280" y="4502160"/>
            <a:ext cx="0" cy="18223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282840" y="6019920"/>
            <a:ext cx="2051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3586320" y="4762440"/>
            <a:ext cx="1444320" cy="1230480"/>
          </a:xfrm>
          <a:custGeom>
            <a:avLst/>
            <a:gdLst/>
            <a:ahLst/>
            <a:rect l="l" t="t" r="r" b="b"/>
            <a:pathLst>
              <a:path w="910" h="775">
                <a:moveTo>
                  <a:pt x="0" y="0"/>
                </a:moveTo>
                <a:lnTo>
                  <a:pt x="39" y="1"/>
                </a:lnTo>
                <a:lnTo>
                  <a:pt x="67" y="1"/>
                </a:lnTo>
                <a:lnTo>
                  <a:pt x="88" y="1"/>
                </a:lnTo>
                <a:lnTo>
                  <a:pt x="108" y="1"/>
                </a:lnTo>
                <a:lnTo>
                  <a:pt x="129" y="9"/>
                </a:lnTo>
                <a:lnTo>
                  <a:pt x="151" y="6"/>
                </a:lnTo>
                <a:lnTo>
                  <a:pt x="179" y="15"/>
                </a:lnTo>
                <a:lnTo>
                  <a:pt x="179" y="6"/>
                </a:lnTo>
                <a:lnTo>
                  <a:pt x="223" y="21"/>
                </a:lnTo>
                <a:lnTo>
                  <a:pt x="247" y="21"/>
                </a:lnTo>
                <a:lnTo>
                  <a:pt x="273" y="39"/>
                </a:lnTo>
                <a:lnTo>
                  <a:pt x="301" y="54"/>
                </a:lnTo>
                <a:lnTo>
                  <a:pt x="314" y="76"/>
                </a:lnTo>
                <a:lnTo>
                  <a:pt x="322" y="99"/>
                </a:lnTo>
                <a:lnTo>
                  <a:pt x="322" y="121"/>
                </a:lnTo>
                <a:lnTo>
                  <a:pt x="336" y="144"/>
                </a:lnTo>
                <a:lnTo>
                  <a:pt x="342" y="166"/>
                </a:lnTo>
                <a:lnTo>
                  <a:pt x="342" y="189"/>
                </a:lnTo>
                <a:lnTo>
                  <a:pt x="349" y="211"/>
                </a:lnTo>
                <a:lnTo>
                  <a:pt x="356" y="234"/>
                </a:lnTo>
                <a:lnTo>
                  <a:pt x="363" y="271"/>
                </a:lnTo>
                <a:lnTo>
                  <a:pt x="363" y="294"/>
                </a:lnTo>
                <a:lnTo>
                  <a:pt x="370" y="316"/>
                </a:lnTo>
                <a:lnTo>
                  <a:pt x="370" y="339"/>
                </a:lnTo>
                <a:lnTo>
                  <a:pt x="383" y="361"/>
                </a:lnTo>
                <a:lnTo>
                  <a:pt x="383" y="391"/>
                </a:lnTo>
                <a:lnTo>
                  <a:pt x="397" y="429"/>
                </a:lnTo>
                <a:lnTo>
                  <a:pt x="404" y="459"/>
                </a:lnTo>
                <a:lnTo>
                  <a:pt x="411" y="489"/>
                </a:lnTo>
                <a:lnTo>
                  <a:pt x="418" y="511"/>
                </a:lnTo>
                <a:lnTo>
                  <a:pt x="432" y="534"/>
                </a:lnTo>
                <a:lnTo>
                  <a:pt x="446" y="556"/>
                </a:lnTo>
                <a:lnTo>
                  <a:pt x="460" y="579"/>
                </a:lnTo>
                <a:lnTo>
                  <a:pt x="466" y="601"/>
                </a:lnTo>
                <a:lnTo>
                  <a:pt x="480" y="624"/>
                </a:lnTo>
                <a:lnTo>
                  <a:pt x="493" y="646"/>
                </a:lnTo>
                <a:lnTo>
                  <a:pt x="515" y="669"/>
                </a:lnTo>
                <a:lnTo>
                  <a:pt x="535" y="691"/>
                </a:lnTo>
                <a:lnTo>
                  <a:pt x="556" y="699"/>
                </a:lnTo>
                <a:lnTo>
                  <a:pt x="583" y="714"/>
                </a:lnTo>
                <a:lnTo>
                  <a:pt x="617" y="729"/>
                </a:lnTo>
                <a:lnTo>
                  <a:pt x="639" y="744"/>
                </a:lnTo>
                <a:lnTo>
                  <a:pt x="659" y="751"/>
                </a:lnTo>
                <a:lnTo>
                  <a:pt x="686" y="751"/>
                </a:lnTo>
                <a:lnTo>
                  <a:pt x="710" y="756"/>
                </a:lnTo>
                <a:lnTo>
                  <a:pt x="732" y="759"/>
                </a:lnTo>
                <a:lnTo>
                  <a:pt x="757" y="759"/>
                </a:lnTo>
                <a:lnTo>
                  <a:pt x="776" y="759"/>
                </a:lnTo>
                <a:lnTo>
                  <a:pt x="796" y="759"/>
                </a:lnTo>
                <a:lnTo>
                  <a:pt x="820" y="762"/>
                </a:lnTo>
                <a:lnTo>
                  <a:pt x="842" y="768"/>
                </a:lnTo>
                <a:lnTo>
                  <a:pt x="864" y="768"/>
                </a:lnTo>
                <a:lnTo>
                  <a:pt x="892" y="774"/>
                </a:lnTo>
                <a:lnTo>
                  <a:pt x="909" y="774"/>
                </a:lnTo>
              </a:path>
            </a:pathLst>
          </a:custGeom>
          <a:noFill/>
          <a:ln cap="rnd"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605040" y="4724280"/>
            <a:ext cx="1230480" cy="1287720"/>
          </a:xfrm>
          <a:custGeom>
            <a:avLst/>
            <a:gdLst/>
            <a:ahLst/>
            <a:rect l="l" t="t" r="r" b="b"/>
            <a:pathLst>
              <a:path w="775" h="811">
                <a:moveTo>
                  <a:pt x="774" y="810"/>
                </a:moveTo>
                <a:lnTo>
                  <a:pt x="773" y="774"/>
                </a:lnTo>
                <a:lnTo>
                  <a:pt x="773" y="750"/>
                </a:lnTo>
                <a:lnTo>
                  <a:pt x="773" y="731"/>
                </a:lnTo>
                <a:lnTo>
                  <a:pt x="773" y="713"/>
                </a:lnTo>
                <a:lnTo>
                  <a:pt x="765" y="694"/>
                </a:lnTo>
                <a:lnTo>
                  <a:pt x="768" y="675"/>
                </a:lnTo>
                <a:lnTo>
                  <a:pt x="759" y="650"/>
                </a:lnTo>
                <a:lnTo>
                  <a:pt x="768" y="650"/>
                </a:lnTo>
                <a:lnTo>
                  <a:pt x="753" y="611"/>
                </a:lnTo>
                <a:lnTo>
                  <a:pt x="753" y="589"/>
                </a:lnTo>
                <a:lnTo>
                  <a:pt x="735" y="566"/>
                </a:lnTo>
                <a:lnTo>
                  <a:pt x="720" y="541"/>
                </a:lnTo>
                <a:lnTo>
                  <a:pt x="698" y="529"/>
                </a:lnTo>
                <a:lnTo>
                  <a:pt x="675" y="522"/>
                </a:lnTo>
                <a:lnTo>
                  <a:pt x="653" y="522"/>
                </a:lnTo>
                <a:lnTo>
                  <a:pt x="630" y="510"/>
                </a:lnTo>
                <a:lnTo>
                  <a:pt x="608" y="504"/>
                </a:lnTo>
                <a:lnTo>
                  <a:pt x="585" y="504"/>
                </a:lnTo>
                <a:lnTo>
                  <a:pt x="563" y="498"/>
                </a:lnTo>
                <a:lnTo>
                  <a:pt x="540" y="492"/>
                </a:lnTo>
                <a:lnTo>
                  <a:pt x="503" y="486"/>
                </a:lnTo>
                <a:lnTo>
                  <a:pt x="480" y="486"/>
                </a:lnTo>
                <a:lnTo>
                  <a:pt x="458" y="480"/>
                </a:lnTo>
                <a:lnTo>
                  <a:pt x="435" y="480"/>
                </a:lnTo>
                <a:lnTo>
                  <a:pt x="413" y="468"/>
                </a:lnTo>
                <a:lnTo>
                  <a:pt x="383" y="468"/>
                </a:lnTo>
                <a:lnTo>
                  <a:pt x="345" y="455"/>
                </a:lnTo>
                <a:lnTo>
                  <a:pt x="315" y="449"/>
                </a:lnTo>
                <a:lnTo>
                  <a:pt x="285" y="443"/>
                </a:lnTo>
                <a:lnTo>
                  <a:pt x="263" y="436"/>
                </a:lnTo>
                <a:lnTo>
                  <a:pt x="240" y="424"/>
                </a:lnTo>
                <a:lnTo>
                  <a:pt x="218" y="412"/>
                </a:lnTo>
                <a:lnTo>
                  <a:pt x="195" y="400"/>
                </a:lnTo>
                <a:lnTo>
                  <a:pt x="173" y="394"/>
                </a:lnTo>
                <a:lnTo>
                  <a:pt x="150" y="382"/>
                </a:lnTo>
                <a:lnTo>
                  <a:pt x="128" y="369"/>
                </a:lnTo>
                <a:lnTo>
                  <a:pt x="105" y="351"/>
                </a:lnTo>
                <a:lnTo>
                  <a:pt x="83" y="333"/>
                </a:lnTo>
                <a:lnTo>
                  <a:pt x="75" y="314"/>
                </a:lnTo>
                <a:lnTo>
                  <a:pt x="60" y="289"/>
                </a:lnTo>
                <a:lnTo>
                  <a:pt x="45" y="259"/>
                </a:lnTo>
                <a:lnTo>
                  <a:pt x="30" y="240"/>
                </a:lnTo>
                <a:lnTo>
                  <a:pt x="23" y="222"/>
                </a:lnTo>
                <a:lnTo>
                  <a:pt x="23" y="198"/>
                </a:lnTo>
                <a:lnTo>
                  <a:pt x="18" y="176"/>
                </a:lnTo>
                <a:lnTo>
                  <a:pt x="15" y="157"/>
                </a:lnTo>
                <a:lnTo>
                  <a:pt x="15" y="135"/>
                </a:lnTo>
                <a:lnTo>
                  <a:pt x="15" y="117"/>
                </a:lnTo>
                <a:lnTo>
                  <a:pt x="15" y="99"/>
                </a:lnTo>
                <a:lnTo>
                  <a:pt x="12" y="78"/>
                </a:lnTo>
                <a:lnTo>
                  <a:pt x="6" y="58"/>
                </a:lnTo>
                <a:lnTo>
                  <a:pt x="6" y="39"/>
                </a:lnTo>
                <a:lnTo>
                  <a:pt x="0" y="14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cbcbc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063080" y="1477800"/>
            <a:ext cx="9471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Q  V</a:t>
            </a:r>
            <a:r>
              <a:rPr b="0" lang="en-US" sz="2000" spc="-1" strike="noStrike" baseline="-20000">
                <a:solidFill>
                  <a:srgbClr val="969696"/>
                </a:solidFill>
                <a:latin typeface="Times New Roman"/>
              </a:rPr>
              <a:t>ou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794480" y="1477800"/>
            <a:ext cx="5598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Times New Roman"/>
              </a:rPr>
              <a:t>V</a:t>
            </a:r>
            <a:r>
              <a:rPr b="0" lang="en-US" sz="2000" spc="-1" strike="noStrike" baseline="-20000">
                <a:solidFill>
                  <a:srgbClr val="cbcbcb"/>
                </a:solidFill>
                <a:latin typeface="Times New Roman"/>
              </a:rPr>
              <a:t>in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499200" y="3230640"/>
            <a:ext cx="5598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V</a:t>
            </a:r>
            <a:r>
              <a:rPr b="0" lang="en-US" sz="2000" spc="-1" strike="noStrike" baseline="-20000">
                <a:solidFill>
                  <a:srgbClr val="969696"/>
                </a:solidFill>
                <a:latin typeface="Times New Roman"/>
              </a:rPr>
              <a:t>in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6710400" y="3230640"/>
            <a:ext cx="9986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Times New Roman"/>
              </a:rPr>
              <a:t>V</a:t>
            </a:r>
            <a:r>
              <a:rPr b="0" lang="en-US" sz="2000" spc="-1" strike="noStrike" baseline="-20000">
                <a:solidFill>
                  <a:srgbClr val="cbcbcb"/>
                </a:solidFill>
                <a:latin typeface="Times New Roman"/>
              </a:rPr>
              <a:t>out2   </a:t>
            </a:r>
            <a:r>
              <a:rPr b="0" lang="en-US" sz="2000" spc="-1" strike="noStrike">
                <a:solidFill>
                  <a:srgbClr val="cbcbcb"/>
                </a:solidFill>
                <a:latin typeface="Times New Roman"/>
              </a:rPr>
              <a:t>/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740320" y="4373640"/>
            <a:ext cx="76284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V</a:t>
            </a:r>
            <a:r>
              <a:rPr b="0" lang="en-US" sz="2000" spc="-1" strike="noStrike" baseline="-20000">
                <a:solidFill>
                  <a:srgbClr val="969696"/>
                </a:solidFill>
                <a:latin typeface="Times New Roman"/>
              </a:rPr>
              <a:t>out1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cbcbcb"/>
                </a:solidFill>
                <a:latin typeface="Times New Roman"/>
              </a:rPr>
              <a:t>V</a:t>
            </a:r>
            <a:r>
              <a:rPr b="0" lang="en-US" sz="2000" spc="-1" strike="noStrike" baseline="-20000">
                <a:solidFill>
                  <a:srgbClr val="cbcbcb"/>
                </a:solidFill>
                <a:latin typeface="Times New Roman"/>
              </a:rPr>
              <a:t>in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884600" y="1096920"/>
            <a:ext cx="2084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p Inverter al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085360" y="1096920"/>
            <a:ext cx="2436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tom Inverter al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3335400" y="3992400"/>
            <a:ext cx="207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 Bis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2444760" y="3511440"/>
            <a:ext cx="831960" cy="67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H="1">
            <a:off x="5873400" y="3511440"/>
            <a:ext cx="679320" cy="67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331600" y="5745240"/>
            <a:ext cx="777960" cy="7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V</a:t>
            </a:r>
            <a:r>
              <a:rPr b="0" lang="en-US" sz="2000" spc="-1" strike="noStrike" baseline="-20000">
                <a:solidFill>
                  <a:srgbClr val="969696"/>
                </a:solidFill>
                <a:latin typeface="Times New Roman"/>
              </a:rPr>
              <a:t>in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cbcbcb"/>
                </a:solidFill>
                <a:latin typeface="Times New Roman"/>
              </a:rPr>
              <a:t>V</a:t>
            </a:r>
            <a:r>
              <a:rPr b="0" lang="en-US" sz="2000" spc="-1" strike="noStrike" baseline="-20000">
                <a:solidFill>
                  <a:srgbClr val="cbcbcb"/>
                </a:solidFill>
                <a:latin typeface="Times New Roman"/>
              </a:rPr>
              <a:t>ou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4098960" y="4417920"/>
            <a:ext cx="1149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ble Hi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394960" y="5408640"/>
            <a:ext cx="1114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ble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785480" y="4875120"/>
            <a:ext cx="1074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tas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 flipH="1">
            <a:off x="4273560" y="5111640"/>
            <a:ext cx="527040" cy="29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 flipH="1">
            <a:off x="4883040" y="5645160"/>
            <a:ext cx="527040" cy="29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 flipH="1">
            <a:off x="3664080" y="4578480"/>
            <a:ext cx="450720" cy="14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76982-6C80-4118-A4C6-7C63950E4AE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stable Devices and Metas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not two stable states, but three (a problem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etast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int occurs when both outputs are halfway between high and low, the resulting output is not a valid logic leve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tastability could last forever, but noise usually pushes towards a stable state (HIGH or LOW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ise in a bistable state returns it to the same stable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ry input pulse must remain stable “long enoug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s th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inimum pulse widt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or the bistable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ogous to a ball on a hil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078960" y="5005440"/>
            <a:ext cx="2545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ong kick (wide pulse)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ak kick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rate kick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5" name=""/>
          <p:cNvGrpSpPr/>
          <p:nvPr/>
        </p:nvGrpSpPr>
        <p:grpSpPr>
          <a:xfrm>
            <a:off x="762120" y="4572000"/>
            <a:ext cx="5105160" cy="1836720"/>
            <a:chOff x="762120" y="4572000"/>
            <a:chExt cx="5105160" cy="1836720"/>
          </a:xfrm>
        </p:grpSpPr>
        <p:sp>
          <p:nvSpPr>
            <p:cNvPr id="986" name=""/>
            <p:cNvSpPr/>
            <p:nvPr/>
          </p:nvSpPr>
          <p:spPr>
            <a:xfrm>
              <a:off x="4800600" y="5516640"/>
              <a:ext cx="10666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69696"/>
                  </a:solidFill>
                  <a:latin typeface="Times New Roman"/>
                </a:rPr>
                <a:t>Stable</a:t>
              </a:r>
              <a:br>
                <a:rPr sz="2000"/>
              </a:br>
              <a:r>
                <a:rPr b="0" lang="en-US" sz="2000" spc="-1" strike="noStrike">
                  <a:solidFill>
                    <a:srgbClr val="969696"/>
                  </a:solidFill>
                  <a:latin typeface="Times New Roman"/>
                </a:rPr>
                <a:t>Hig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446560" y="5189400"/>
              <a:ext cx="1523520" cy="1219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77" y="0"/>
                  </a:moveTo>
                  <a:arcTo wR="10800" hR="10800" stAng="-5407162" swAng="540716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77" y="0"/>
                  </a:moveTo>
                  <a:arcTo wR="10800" hR="10800" stAng="-5407162" swAng="5407162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446200" y="5189400"/>
              <a:ext cx="152388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71"/>
                  </a:moveTo>
                  <a:arcTo wR="10800" hR="10800" stAng="-10759076" swAng="5351914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71"/>
                  </a:moveTo>
                  <a:arcTo wR="10800" hR="10800" stAng="-10759076" swAng="5351914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219320" y="5486400"/>
              <a:ext cx="12186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>
              <a:off x="1606320" y="5943600"/>
              <a:ext cx="22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612800" y="5651640"/>
              <a:ext cx="203400" cy="203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137040" y="4889520"/>
              <a:ext cx="203040" cy="203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V="1">
              <a:off x="1600200" y="5489640"/>
              <a:ext cx="0" cy="45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62120" y="5562720"/>
              <a:ext cx="10666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69696"/>
                  </a:solidFill>
                  <a:latin typeface="Times New Roman"/>
                </a:rPr>
                <a:t>Stable</a:t>
              </a:r>
              <a:br>
                <a:rPr sz="2000"/>
              </a:br>
              <a:r>
                <a:rPr b="0" lang="en-US" sz="2000" spc="-1" strike="noStrike">
                  <a:solidFill>
                    <a:srgbClr val="969696"/>
                  </a:solidFill>
                  <a:latin typeface="Times New Roman"/>
                </a:rPr>
                <a:t>Lo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352680" y="4572000"/>
              <a:ext cx="2057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69696"/>
                  </a:solidFill>
                  <a:latin typeface="Times New Roman"/>
                </a:rPr>
                <a:t>Metas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1606680" y="5950080"/>
              <a:ext cx="69840" cy="14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 flipH="1">
              <a:off x="1758960" y="5950080"/>
              <a:ext cx="69840" cy="14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1911240" y="5950080"/>
              <a:ext cx="69840" cy="14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H="1">
              <a:off x="2063880" y="5950080"/>
              <a:ext cx="69840" cy="14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2216160" y="5873760"/>
              <a:ext cx="6984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2368080" y="5416560"/>
              <a:ext cx="298440" cy="527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H="1">
              <a:off x="2521080" y="5264280"/>
              <a:ext cx="374400" cy="67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>
              <a:off x="2825280" y="5187960"/>
              <a:ext cx="451080" cy="75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>
              <a:off x="2673000" y="5264280"/>
              <a:ext cx="374760" cy="67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>
              <a:off x="2978280" y="5264280"/>
              <a:ext cx="374400" cy="67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3130200" y="5264280"/>
              <a:ext cx="374760" cy="67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3206880" y="5340240"/>
              <a:ext cx="374400" cy="67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3358800" y="5416560"/>
              <a:ext cx="298440" cy="60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3511080" y="5492880"/>
              <a:ext cx="298440" cy="60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3663720" y="5645160"/>
              <a:ext cx="222120" cy="45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H="1">
              <a:off x="3816360" y="5797440"/>
              <a:ext cx="14616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522520" y="5030640"/>
              <a:ext cx="1066680" cy="23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" y="11237"/>
                  </a:moveTo>
                  <a:arcTo wR="10800" hR="10800" stAng="10660708" swAng="5529061"/>
                  <a:lnTo>
                    <a:pt x="10800" y="10800"/>
                  </a:lnTo>
                  <a:close/>
                </a:path>
                <a:path fill="none" w="21600" h="21600">
                  <a:moveTo>
                    <a:pt x="9" y="11237"/>
                  </a:moveTo>
                  <a:arcTo wR="10800" hR="10800" stAng="10660708" swAng="5529061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935520" y="5486400"/>
              <a:ext cx="12186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543560" y="5943600"/>
              <a:ext cx="22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549680" y="5651640"/>
              <a:ext cx="203400" cy="2030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V="1">
              <a:off x="4765680" y="5489640"/>
              <a:ext cx="0" cy="45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4654440" y="5950080"/>
              <a:ext cx="69840" cy="14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4502160" y="5950080"/>
              <a:ext cx="69840" cy="14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4197240" y="5950080"/>
              <a:ext cx="69840" cy="14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4044960" y="5873760"/>
              <a:ext cx="14616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3892320" y="5873760"/>
              <a:ext cx="145800" cy="29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4349880" y="5950080"/>
              <a:ext cx="69840" cy="14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895840" y="5037120"/>
              <a:ext cx="1066320" cy="23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7261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726158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3C707-B6DD-43E8-B578-BAED402103F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view of Combinational Logic Conce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Sequential Logi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-stable Logic Elements and Metas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Sequential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ip-flops: Type, Function, and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acteristic Eq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locked Synchronous State Machine (CSS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sis of State Mach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5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 structure, Analysis proced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5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SSM Models: Mealy Vs. Mo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s of Re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5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 tables and dia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5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ing Setup Time, Hold Times, and Maximum clock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6400800" y="1981080"/>
            <a:ext cx="1969200" cy="2820960"/>
            <a:chOff x="6400800" y="1981080"/>
            <a:chExt cx="1969200" cy="2820960"/>
          </a:xfrm>
        </p:grpSpPr>
        <p:grpSp>
          <p:nvGrpSpPr>
            <p:cNvPr id="90" name=""/>
            <p:cNvGrpSpPr/>
            <p:nvPr/>
          </p:nvGrpSpPr>
          <p:grpSpPr>
            <a:xfrm>
              <a:off x="6400800" y="1981080"/>
              <a:ext cx="1069560" cy="1380960"/>
              <a:chOff x="6400800" y="1981080"/>
              <a:chExt cx="1069560" cy="1380960"/>
            </a:xfrm>
          </p:grpSpPr>
          <p:sp>
            <p:nvSpPr>
              <p:cNvPr id="91" name=""/>
              <p:cNvSpPr/>
              <p:nvPr/>
            </p:nvSpPr>
            <p:spPr>
              <a:xfrm>
                <a:off x="6400800" y="1981080"/>
                <a:ext cx="1069560" cy="1380960"/>
              </a:xfrm>
              <a:custGeom>
                <a:avLst/>
                <a:gdLst/>
                <a:ahLst/>
                <a:rect l="l" t="t" r="r" b="b"/>
                <a:pathLst>
                  <a:path w="674" h="870">
                    <a:moveTo>
                      <a:pt x="664" y="182"/>
                    </a:moveTo>
                    <a:lnTo>
                      <a:pt x="668" y="114"/>
                    </a:lnTo>
                    <a:lnTo>
                      <a:pt x="635" y="51"/>
                    </a:lnTo>
                    <a:lnTo>
                      <a:pt x="571" y="0"/>
                    </a:lnTo>
                    <a:lnTo>
                      <a:pt x="474" y="22"/>
                    </a:lnTo>
                    <a:lnTo>
                      <a:pt x="389" y="80"/>
                    </a:lnTo>
                    <a:lnTo>
                      <a:pt x="283" y="127"/>
                    </a:lnTo>
                    <a:lnTo>
                      <a:pt x="169" y="174"/>
                    </a:lnTo>
                    <a:lnTo>
                      <a:pt x="63" y="238"/>
                    </a:lnTo>
                    <a:lnTo>
                      <a:pt x="0" y="297"/>
                    </a:lnTo>
                    <a:lnTo>
                      <a:pt x="13" y="314"/>
                    </a:lnTo>
                    <a:lnTo>
                      <a:pt x="131" y="424"/>
                    </a:lnTo>
                    <a:lnTo>
                      <a:pt x="173" y="483"/>
                    </a:lnTo>
                    <a:lnTo>
                      <a:pt x="182" y="539"/>
                    </a:lnTo>
                    <a:lnTo>
                      <a:pt x="186" y="611"/>
                    </a:lnTo>
                    <a:lnTo>
                      <a:pt x="194" y="704"/>
                    </a:lnTo>
                    <a:lnTo>
                      <a:pt x="216" y="802"/>
                    </a:lnTo>
                    <a:lnTo>
                      <a:pt x="249" y="856"/>
                    </a:lnTo>
                    <a:lnTo>
                      <a:pt x="283" y="869"/>
                    </a:lnTo>
                    <a:lnTo>
                      <a:pt x="321" y="840"/>
                    </a:lnTo>
                    <a:lnTo>
                      <a:pt x="385" y="802"/>
                    </a:lnTo>
                    <a:lnTo>
                      <a:pt x="452" y="759"/>
                    </a:lnTo>
                    <a:lnTo>
                      <a:pt x="528" y="729"/>
                    </a:lnTo>
                    <a:lnTo>
                      <a:pt x="597" y="720"/>
                    </a:lnTo>
                    <a:lnTo>
                      <a:pt x="630" y="666"/>
                    </a:lnTo>
                    <a:lnTo>
                      <a:pt x="655" y="585"/>
                    </a:lnTo>
                    <a:lnTo>
                      <a:pt x="673" y="454"/>
                    </a:lnTo>
                    <a:lnTo>
                      <a:pt x="668" y="339"/>
                    </a:lnTo>
                    <a:lnTo>
                      <a:pt x="660" y="272"/>
                    </a:lnTo>
                    <a:lnTo>
                      <a:pt x="630" y="272"/>
                    </a:lnTo>
                    <a:lnTo>
                      <a:pt x="635" y="386"/>
                    </a:lnTo>
                    <a:lnTo>
                      <a:pt x="635" y="509"/>
                    </a:lnTo>
                    <a:lnTo>
                      <a:pt x="617" y="581"/>
                    </a:lnTo>
                    <a:lnTo>
                      <a:pt x="588" y="666"/>
                    </a:lnTo>
                    <a:lnTo>
                      <a:pt x="521" y="700"/>
                    </a:lnTo>
                    <a:lnTo>
                      <a:pt x="427" y="725"/>
                    </a:lnTo>
                    <a:lnTo>
                      <a:pt x="351" y="767"/>
                    </a:lnTo>
                    <a:lnTo>
                      <a:pt x="279" y="818"/>
                    </a:lnTo>
                    <a:lnTo>
                      <a:pt x="249" y="784"/>
                    </a:lnTo>
                    <a:lnTo>
                      <a:pt x="232" y="713"/>
                    </a:lnTo>
                    <a:lnTo>
                      <a:pt x="224" y="619"/>
                    </a:lnTo>
                    <a:lnTo>
                      <a:pt x="216" y="521"/>
                    </a:lnTo>
                    <a:lnTo>
                      <a:pt x="186" y="437"/>
                    </a:lnTo>
                    <a:lnTo>
                      <a:pt x="102" y="348"/>
                    </a:lnTo>
                    <a:lnTo>
                      <a:pt x="63" y="301"/>
                    </a:lnTo>
                    <a:lnTo>
                      <a:pt x="67" y="284"/>
                    </a:lnTo>
                    <a:lnTo>
                      <a:pt x="173" y="212"/>
                    </a:lnTo>
                    <a:lnTo>
                      <a:pt x="279" y="165"/>
                    </a:lnTo>
                    <a:lnTo>
                      <a:pt x="368" y="123"/>
                    </a:lnTo>
                    <a:lnTo>
                      <a:pt x="423" y="98"/>
                    </a:lnTo>
                    <a:lnTo>
                      <a:pt x="478" y="64"/>
                    </a:lnTo>
                    <a:lnTo>
                      <a:pt x="512" y="47"/>
                    </a:lnTo>
                    <a:lnTo>
                      <a:pt x="567" y="42"/>
                    </a:lnTo>
                    <a:lnTo>
                      <a:pt x="601" y="72"/>
                    </a:lnTo>
                    <a:lnTo>
                      <a:pt x="626" y="119"/>
                    </a:lnTo>
                    <a:lnTo>
                      <a:pt x="626" y="161"/>
                    </a:lnTo>
                    <a:lnTo>
                      <a:pt x="630" y="203"/>
                    </a:lnTo>
                    <a:lnTo>
                      <a:pt x="664" y="18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903720" y="2403360"/>
                <a:ext cx="337680" cy="495360"/>
              </a:xfrm>
              <a:custGeom>
                <a:avLst/>
                <a:gdLst/>
                <a:ahLst/>
                <a:rect l="l" t="t" r="r" b="b"/>
                <a:pathLst>
                  <a:path w="213" h="312">
                    <a:moveTo>
                      <a:pt x="187" y="86"/>
                    </a:moveTo>
                    <a:lnTo>
                      <a:pt x="140" y="35"/>
                    </a:lnTo>
                    <a:lnTo>
                      <a:pt x="64" y="0"/>
                    </a:lnTo>
                    <a:lnTo>
                      <a:pt x="26" y="69"/>
                    </a:lnTo>
                    <a:lnTo>
                      <a:pt x="0" y="158"/>
                    </a:lnTo>
                    <a:lnTo>
                      <a:pt x="60" y="311"/>
                    </a:lnTo>
                    <a:lnTo>
                      <a:pt x="136" y="306"/>
                    </a:lnTo>
                    <a:lnTo>
                      <a:pt x="212" y="255"/>
                    </a:lnTo>
                    <a:lnTo>
                      <a:pt x="212" y="124"/>
                    </a:lnTo>
                    <a:lnTo>
                      <a:pt x="191" y="120"/>
                    </a:lnTo>
                    <a:lnTo>
                      <a:pt x="174" y="141"/>
                    </a:lnTo>
                    <a:lnTo>
                      <a:pt x="178" y="243"/>
                    </a:lnTo>
                    <a:lnTo>
                      <a:pt x="127" y="281"/>
                    </a:lnTo>
                    <a:lnTo>
                      <a:pt x="69" y="272"/>
                    </a:lnTo>
                    <a:lnTo>
                      <a:pt x="35" y="162"/>
                    </a:lnTo>
                    <a:lnTo>
                      <a:pt x="82" y="162"/>
                    </a:lnTo>
                    <a:lnTo>
                      <a:pt x="140" y="133"/>
                    </a:lnTo>
                    <a:lnTo>
                      <a:pt x="136" y="124"/>
                    </a:lnTo>
                    <a:lnTo>
                      <a:pt x="64" y="141"/>
                    </a:lnTo>
                    <a:lnTo>
                      <a:pt x="26" y="136"/>
                    </a:lnTo>
                    <a:lnTo>
                      <a:pt x="73" y="31"/>
                    </a:lnTo>
                    <a:lnTo>
                      <a:pt x="124" y="64"/>
                    </a:lnTo>
                    <a:lnTo>
                      <a:pt x="170" y="115"/>
                    </a:lnTo>
                    <a:lnTo>
                      <a:pt x="187" y="8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6568920" y="2136600"/>
              <a:ext cx="1801080" cy="2665440"/>
              <a:chOff x="6568920" y="2136600"/>
              <a:chExt cx="1801080" cy="2665440"/>
            </a:xfrm>
          </p:grpSpPr>
          <p:sp>
            <p:nvSpPr>
              <p:cNvPr id="94" name=""/>
              <p:cNvSpPr/>
              <p:nvPr/>
            </p:nvSpPr>
            <p:spPr>
              <a:xfrm>
                <a:off x="6568920" y="2593800"/>
                <a:ext cx="1452240" cy="492120"/>
              </a:xfrm>
              <a:custGeom>
                <a:avLst/>
                <a:gdLst/>
                <a:ahLst/>
                <a:rect l="l" t="t" r="r" b="b"/>
                <a:pathLst>
                  <a:path w="915" h="310">
                    <a:moveTo>
                      <a:pt x="914" y="241"/>
                    </a:moveTo>
                    <a:lnTo>
                      <a:pt x="893" y="216"/>
                    </a:lnTo>
                    <a:lnTo>
                      <a:pt x="846" y="207"/>
                    </a:lnTo>
                    <a:lnTo>
                      <a:pt x="698" y="237"/>
                    </a:lnTo>
                    <a:lnTo>
                      <a:pt x="554" y="263"/>
                    </a:lnTo>
                    <a:lnTo>
                      <a:pt x="376" y="258"/>
                    </a:lnTo>
                    <a:lnTo>
                      <a:pt x="211" y="224"/>
                    </a:lnTo>
                    <a:lnTo>
                      <a:pt x="110" y="165"/>
                    </a:lnTo>
                    <a:lnTo>
                      <a:pt x="123" y="118"/>
                    </a:lnTo>
                    <a:lnTo>
                      <a:pt x="105" y="54"/>
                    </a:lnTo>
                    <a:lnTo>
                      <a:pt x="67" y="21"/>
                    </a:lnTo>
                    <a:lnTo>
                      <a:pt x="25" y="0"/>
                    </a:lnTo>
                    <a:lnTo>
                      <a:pt x="8" y="46"/>
                    </a:lnTo>
                    <a:lnTo>
                      <a:pt x="0" y="92"/>
                    </a:lnTo>
                    <a:lnTo>
                      <a:pt x="17" y="181"/>
                    </a:lnTo>
                    <a:lnTo>
                      <a:pt x="59" y="207"/>
                    </a:lnTo>
                    <a:lnTo>
                      <a:pt x="161" y="241"/>
                    </a:lnTo>
                    <a:lnTo>
                      <a:pt x="270" y="270"/>
                    </a:lnTo>
                    <a:lnTo>
                      <a:pt x="453" y="305"/>
                    </a:lnTo>
                    <a:lnTo>
                      <a:pt x="622" y="309"/>
                    </a:lnTo>
                    <a:lnTo>
                      <a:pt x="851" y="288"/>
                    </a:lnTo>
                    <a:lnTo>
                      <a:pt x="914" y="241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347960" y="2243160"/>
                <a:ext cx="786960" cy="701640"/>
              </a:xfrm>
              <a:custGeom>
                <a:avLst/>
                <a:gdLst/>
                <a:ahLst/>
                <a:rect l="l" t="t" r="r" b="b"/>
                <a:pathLst>
                  <a:path w="496" h="442">
                    <a:moveTo>
                      <a:pt x="482" y="441"/>
                    </a:moveTo>
                    <a:lnTo>
                      <a:pt x="495" y="399"/>
                    </a:lnTo>
                    <a:lnTo>
                      <a:pt x="469" y="361"/>
                    </a:lnTo>
                    <a:lnTo>
                      <a:pt x="385" y="327"/>
                    </a:lnTo>
                    <a:lnTo>
                      <a:pt x="287" y="318"/>
                    </a:lnTo>
                    <a:lnTo>
                      <a:pt x="220" y="297"/>
                    </a:lnTo>
                    <a:lnTo>
                      <a:pt x="177" y="259"/>
                    </a:lnTo>
                    <a:lnTo>
                      <a:pt x="131" y="174"/>
                    </a:lnTo>
                    <a:lnTo>
                      <a:pt x="93" y="81"/>
                    </a:lnTo>
                    <a:lnTo>
                      <a:pt x="93" y="34"/>
                    </a:lnTo>
                    <a:lnTo>
                      <a:pt x="71" y="9"/>
                    </a:lnTo>
                    <a:lnTo>
                      <a:pt x="42" y="0"/>
                    </a:lnTo>
                    <a:lnTo>
                      <a:pt x="12" y="22"/>
                    </a:lnTo>
                    <a:lnTo>
                      <a:pt x="0" y="68"/>
                    </a:lnTo>
                    <a:lnTo>
                      <a:pt x="4" y="127"/>
                    </a:lnTo>
                    <a:lnTo>
                      <a:pt x="20" y="170"/>
                    </a:lnTo>
                    <a:lnTo>
                      <a:pt x="38" y="170"/>
                    </a:lnTo>
                    <a:lnTo>
                      <a:pt x="46" y="153"/>
                    </a:lnTo>
                    <a:lnTo>
                      <a:pt x="71" y="149"/>
                    </a:lnTo>
                    <a:lnTo>
                      <a:pt x="118" y="212"/>
                    </a:lnTo>
                    <a:lnTo>
                      <a:pt x="173" y="310"/>
                    </a:lnTo>
                    <a:lnTo>
                      <a:pt x="211" y="352"/>
                    </a:lnTo>
                    <a:lnTo>
                      <a:pt x="287" y="377"/>
                    </a:lnTo>
                    <a:lnTo>
                      <a:pt x="376" y="403"/>
                    </a:lnTo>
                    <a:lnTo>
                      <a:pt x="435" y="424"/>
                    </a:lnTo>
                    <a:lnTo>
                      <a:pt x="482" y="441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6680" y="2841480"/>
                <a:ext cx="598320" cy="1036800"/>
              </a:xfrm>
              <a:custGeom>
                <a:avLst/>
                <a:gdLst/>
                <a:ahLst/>
                <a:rect l="l" t="t" r="r" b="b"/>
                <a:pathLst>
                  <a:path w="377" h="653">
                    <a:moveTo>
                      <a:pt x="376" y="85"/>
                    </a:moveTo>
                    <a:lnTo>
                      <a:pt x="356" y="34"/>
                    </a:lnTo>
                    <a:lnTo>
                      <a:pt x="326" y="0"/>
                    </a:lnTo>
                    <a:lnTo>
                      <a:pt x="250" y="0"/>
                    </a:lnTo>
                    <a:lnTo>
                      <a:pt x="173" y="34"/>
                    </a:lnTo>
                    <a:lnTo>
                      <a:pt x="84" y="131"/>
                    </a:lnTo>
                    <a:lnTo>
                      <a:pt x="38" y="208"/>
                    </a:lnTo>
                    <a:lnTo>
                      <a:pt x="8" y="313"/>
                    </a:lnTo>
                    <a:lnTo>
                      <a:pt x="0" y="436"/>
                    </a:lnTo>
                    <a:lnTo>
                      <a:pt x="17" y="568"/>
                    </a:lnTo>
                    <a:lnTo>
                      <a:pt x="59" y="632"/>
                    </a:lnTo>
                    <a:lnTo>
                      <a:pt x="135" y="652"/>
                    </a:lnTo>
                    <a:lnTo>
                      <a:pt x="182" y="649"/>
                    </a:lnTo>
                    <a:lnTo>
                      <a:pt x="220" y="627"/>
                    </a:lnTo>
                    <a:lnTo>
                      <a:pt x="254" y="598"/>
                    </a:lnTo>
                    <a:lnTo>
                      <a:pt x="267" y="547"/>
                    </a:lnTo>
                    <a:lnTo>
                      <a:pt x="258" y="496"/>
                    </a:lnTo>
                    <a:lnTo>
                      <a:pt x="229" y="466"/>
                    </a:lnTo>
                    <a:lnTo>
                      <a:pt x="208" y="433"/>
                    </a:lnTo>
                    <a:lnTo>
                      <a:pt x="199" y="390"/>
                    </a:lnTo>
                    <a:lnTo>
                      <a:pt x="199" y="352"/>
                    </a:lnTo>
                    <a:lnTo>
                      <a:pt x="216" y="318"/>
                    </a:lnTo>
                    <a:lnTo>
                      <a:pt x="275" y="259"/>
                    </a:lnTo>
                    <a:lnTo>
                      <a:pt x="347" y="191"/>
                    </a:lnTo>
                    <a:lnTo>
                      <a:pt x="373" y="135"/>
                    </a:lnTo>
                    <a:lnTo>
                      <a:pt x="376" y="8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757640" y="2136600"/>
                <a:ext cx="612360" cy="546120"/>
              </a:xfrm>
              <a:custGeom>
                <a:avLst/>
                <a:gdLst/>
                <a:ahLst/>
                <a:rect l="l" t="t" r="r" b="b"/>
                <a:pathLst>
                  <a:path w="386" h="344">
                    <a:moveTo>
                      <a:pt x="102" y="186"/>
                    </a:moveTo>
                    <a:lnTo>
                      <a:pt x="131" y="127"/>
                    </a:lnTo>
                    <a:lnTo>
                      <a:pt x="186" y="55"/>
                    </a:lnTo>
                    <a:lnTo>
                      <a:pt x="237" y="8"/>
                    </a:lnTo>
                    <a:lnTo>
                      <a:pt x="297" y="0"/>
                    </a:lnTo>
                    <a:lnTo>
                      <a:pt x="347" y="17"/>
                    </a:lnTo>
                    <a:lnTo>
                      <a:pt x="381" y="59"/>
                    </a:lnTo>
                    <a:lnTo>
                      <a:pt x="385" y="118"/>
                    </a:lnTo>
                    <a:lnTo>
                      <a:pt x="360" y="203"/>
                    </a:lnTo>
                    <a:lnTo>
                      <a:pt x="297" y="283"/>
                    </a:lnTo>
                    <a:lnTo>
                      <a:pt x="224" y="339"/>
                    </a:lnTo>
                    <a:lnTo>
                      <a:pt x="157" y="343"/>
                    </a:lnTo>
                    <a:lnTo>
                      <a:pt x="115" y="326"/>
                    </a:lnTo>
                    <a:lnTo>
                      <a:pt x="106" y="301"/>
                    </a:lnTo>
                    <a:lnTo>
                      <a:pt x="102" y="263"/>
                    </a:lnTo>
                    <a:lnTo>
                      <a:pt x="51" y="271"/>
                    </a:lnTo>
                    <a:lnTo>
                      <a:pt x="17" y="288"/>
                    </a:lnTo>
                    <a:lnTo>
                      <a:pt x="0" y="263"/>
                    </a:lnTo>
                    <a:lnTo>
                      <a:pt x="17" y="245"/>
                    </a:lnTo>
                    <a:lnTo>
                      <a:pt x="72" y="225"/>
                    </a:lnTo>
                    <a:lnTo>
                      <a:pt x="106" y="212"/>
                    </a:lnTo>
                    <a:lnTo>
                      <a:pt x="102" y="18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717680" y="3703680"/>
                <a:ext cx="375840" cy="1023840"/>
              </a:xfrm>
              <a:custGeom>
                <a:avLst/>
                <a:gdLst/>
                <a:ahLst/>
                <a:rect l="l" t="t" r="r" b="b"/>
                <a:pathLst>
                  <a:path w="237" h="645">
                    <a:moveTo>
                      <a:pt x="178" y="0"/>
                    </a:moveTo>
                    <a:lnTo>
                      <a:pt x="135" y="4"/>
                    </a:lnTo>
                    <a:lnTo>
                      <a:pt x="105" y="59"/>
                    </a:lnTo>
                    <a:lnTo>
                      <a:pt x="114" y="115"/>
                    </a:lnTo>
                    <a:lnTo>
                      <a:pt x="127" y="229"/>
                    </a:lnTo>
                    <a:lnTo>
                      <a:pt x="122" y="301"/>
                    </a:lnTo>
                    <a:lnTo>
                      <a:pt x="127" y="373"/>
                    </a:lnTo>
                    <a:lnTo>
                      <a:pt x="160" y="521"/>
                    </a:lnTo>
                    <a:lnTo>
                      <a:pt x="169" y="559"/>
                    </a:lnTo>
                    <a:lnTo>
                      <a:pt x="160" y="568"/>
                    </a:lnTo>
                    <a:lnTo>
                      <a:pt x="114" y="543"/>
                    </a:lnTo>
                    <a:lnTo>
                      <a:pt x="38" y="530"/>
                    </a:lnTo>
                    <a:lnTo>
                      <a:pt x="0" y="547"/>
                    </a:lnTo>
                    <a:lnTo>
                      <a:pt x="4" y="576"/>
                    </a:lnTo>
                    <a:lnTo>
                      <a:pt x="55" y="589"/>
                    </a:lnTo>
                    <a:lnTo>
                      <a:pt x="114" y="594"/>
                    </a:lnTo>
                    <a:lnTo>
                      <a:pt x="173" y="619"/>
                    </a:lnTo>
                    <a:lnTo>
                      <a:pt x="219" y="644"/>
                    </a:lnTo>
                    <a:lnTo>
                      <a:pt x="236" y="632"/>
                    </a:lnTo>
                    <a:lnTo>
                      <a:pt x="236" y="589"/>
                    </a:lnTo>
                    <a:lnTo>
                      <a:pt x="203" y="509"/>
                    </a:lnTo>
                    <a:lnTo>
                      <a:pt x="185" y="415"/>
                    </a:lnTo>
                    <a:lnTo>
                      <a:pt x="178" y="284"/>
                    </a:lnTo>
                    <a:lnTo>
                      <a:pt x="194" y="166"/>
                    </a:lnTo>
                    <a:lnTo>
                      <a:pt x="211" y="72"/>
                    </a:lnTo>
                    <a:lnTo>
                      <a:pt x="194" y="0"/>
                    </a:lnTo>
                    <a:lnTo>
                      <a:pt x="178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281360" y="3609720"/>
                <a:ext cx="605880" cy="1192320"/>
              </a:xfrm>
              <a:custGeom>
                <a:avLst/>
                <a:gdLst/>
                <a:ahLst/>
                <a:rect l="l" t="t" r="r" b="b"/>
                <a:pathLst>
                  <a:path w="382" h="751">
                    <a:moveTo>
                      <a:pt x="300" y="8"/>
                    </a:moveTo>
                    <a:lnTo>
                      <a:pt x="359" y="0"/>
                    </a:lnTo>
                    <a:lnTo>
                      <a:pt x="381" y="42"/>
                    </a:lnTo>
                    <a:lnTo>
                      <a:pt x="359" y="92"/>
                    </a:lnTo>
                    <a:lnTo>
                      <a:pt x="300" y="177"/>
                    </a:lnTo>
                    <a:lnTo>
                      <a:pt x="254" y="301"/>
                    </a:lnTo>
                    <a:lnTo>
                      <a:pt x="237" y="402"/>
                    </a:lnTo>
                    <a:lnTo>
                      <a:pt x="245" y="508"/>
                    </a:lnTo>
                    <a:lnTo>
                      <a:pt x="262" y="644"/>
                    </a:lnTo>
                    <a:lnTo>
                      <a:pt x="279" y="720"/>
                    </a:lnTo>
                    <a:lnTo>
                      <a:pt x="270" y="750"/>
                    </a:lnTo>
                    <a:lnTo>
                      <a:pt x="241" y="750"/>
                    </a:lnTo>
                    <a:lnTo>
                      <a:pt x="186" y="724"/>
                    </a:lnTo>
                    <a:lnTo>
                      <a:pt x="101" y="707"/>
                    </a:lnTo>
                    <a:lnTo>
                      <a:pt x="12" y="707"/>
                    </a:lnTo>
                    <a:lnTo>
                      <a:pt x="0" y="682"/>
                    </a:lnTo>
                    <a:lnTo>
                      <a:pt x="50" y="648"/>
                    </a:lnTo>
                    <a:lnTo>
                      <a:pt x="76" y="648"/>
                    </a:lnTo>
                    <a:lnTo>
                      <a:pt x="186" y="682"/>
                    </a:lnTo>
                    <a:lnTo>
                      <a:pt x="219" y="695"/>
                    </a:lnTo>
                    <a:lnTo>
                      <a:pt x="228" y="678"/>
                    </a:lnTo>
                    <a:lnTo>
                      <a:pt x="212" y="568"/>
                    </a:lnTo>
                    <a:lnTo>
                      <a:pt x="190" y="449"/>
                    </a:lnTo>
                    <a:lnTo>
                      <a:pt x="186" y="343"/>
                    </a:lnTo>
                    <a:lnTo>
                      <a:pt x="203" y="237"/>
                    </a:lnTo>
                    <a:lnTo>
                      <a:pt x="232" y="114"/>
                    </a:lnTo>
                    <a:lnTo>
                      <a:pt x="266" y="21"/>
                    </a:lnTo>
                    <a:lnTo>
                      <a:pt x="300" y="8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" name=""/>
          <p:cNvSpPr/>
          <p:nvPr/>
        </p:nvSpPr>
        <p:spPr>
          <a:xfrm>
            <a:off x="192240" y="1328760"/>
            <a:ext cx="304560" cy="228600"/>
          </a:xfrm>
          <a:prstGeom prst="rightArrow">
            <a:avLst>
              <a:gd name="adj1" fmla="val 50000"/>
              <a:gd name="adj2" fmla="val 6667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33AF3-C9E0-4040-9AF8-1A366B68E35E}" type="slidenum">
              <a:t>3</a:t>
            </a:fld>
          </a:p>
        </p:txBody>
      </p:sp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-R L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5" name=""/>
          <p:cNvGrpSpPr/>
          <p:nvPr/>
        </p:nvGrpSpPr>
        <p:grpSpPr>
          <a:xfrm>
            <a:off x="5483160" y="1598760"/>
            <a:ext cx="3659400" cy="2365200"/>
            <a:chOff x="5483160" y="1598760"/>
            <a:chExt cx="3659400" cy="2365200"/>
          </a:xfrm>
        </p:grpSpPr>
        <p:sp>
          <p:nvSpPr>
            <p:cNvPr id="1026" name=""/>
            <p:cNvSpPr/>
            <p:nvPr/>
          </p:nvSpPr>
          <p:spPr>
            <a:xfrm>
              <a:off x="5483160" y="1598760"/>
              <a:ext cx="3279960" cy="23652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494320" y="2057400"/>
              <a:ext cx="326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085160" y="1609560"/>
              <a:ext cx="0" cy="189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637240" y="167652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551640" y="167652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237440" y="167652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151840" y="16765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/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637240" y="2057400"/>
              <a:ext cx="533520" cy="178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085160" y="3438360"/>
              <a:ext cx="0" cy="52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551640" y="2057400"/>
              <a:ext cx="533520" cy="178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161120" y="2057400"/>
              <a:ext cx="1219320" cy="17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ast 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923240" y="2057400"/>
              <a:ext cx="1219320" cy="17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ast /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8" name=""/>
          <p:cNvGrpSpPr/>
          <p:nvPr/>
        </p:nvGrpSpPr>
        <p:grpSpPr>
          <a:xfrm>
            <a:off x="762120" y="4254480"/>
            <a:ext cx="2895480" cy="1540440"/>
            <a:chOff x="762120" y="4254480"/>
            <a:chExt cx="2895480" cy="1540440"/>
          </a:xfrm>
        </p:grpSpPr>
        <p:sp>
          <p:nvSpPr>
            <p:cNvPr id="1039" name=""/>
            <p:cNvSpPr/>
            <p:nvPr/>
          </p:nvSpPr>
          <p:spPr>
            <a:xfrm>
              <a:off x="1076400" y="4483080"/>
              <a:ext cx="828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0" name=""/>
            <p:cNvGrpSpPr/>
            <p:nvPr/>
          </p:nvGrpSpPr>
          <p:grpSpPr>
            <a:xfrm>
              <a:off x="1378080" y="4417920"/>
              <a:ext cx="1069920" cy="458280"/>
              <a:chOff x="1378080" y="4417920"/>
              <a:chExt cx="1069920" cy="458280"/>
            </a:xfrm>
          </p:grpSpPr>
          <p:grpSp>
            <p:nvGrpSpPr>
              <p:cNvPr id="1041" name=""/>
              <p:cNvGrpSpPr/>
              <p:nvPr/>
            </p:nvGrpSpPr>
            <p:grpSpPr>
              <a:xfrm>
                <a:off x="1839960" y="4417920"/>
                <a:ext cx="151920" cy="456840"/>
                <a:chOff x="1839960" y="4417920"/>
                <a:chExt cx="151920" cy="45684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1839960" y="4417920"/>
                  <a:ext cx="15192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75" y="2"/>
                      </a:moveTo>
                      <a:arcTo wR="10800" hR="10800" stAng="-5471610" swAng="547161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75" y="2"/>
                      </a:moveTo>
                      <a:arcTo wR="10800" hR="10800" stAng="-5471610" swAng="5471610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 rot="10800000">
                  <a:off x="1840320" y="4417920"/>
                  <a:ext cx="15156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" y="10350"/>
                      </a:moveTo>
                      <a:arcTo wR="10800" hR="10800" stAng="-10656844" swAng="51852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" y="10350"/>
                      </a:moveTo>
                      <a:arcTo wR="10800" hR="10800" stAng="-10656844" swAng="5185234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4" name=""/>
              <p:cNvSpPr/>
              <p:nvPr/>
            </p:nvSpPr>
            <p:spPr>
              <a:xfrm>
                <a:off x="1876320" y="4483080"/>
                <a:ext cx="763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1889280" y="4788000"/>
                <a:ext cx="60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1378080" y="4419720"/>
                <a:ext cx="1059840" cy="456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68" y="0"/>
                    </a:moveTo>
                    <a:arcTo wR="10800" hR="10800" stAng="-5410292" swAng="55299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68" y="0"/>
                    </a:moveTo>
                    <a:arcTo wR="10800" hR="10800" stAng="-5410292" swAng="5529968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rot="10800000">
                <a:off x="1384200" y="4417920"/>
                <a:ext cx="10638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" y="10350"/>
                    </a:moveTo>
                    <a:arcTo wR="10800" hR="10800" stAng="-10656844" swAng="52465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" y="10350"/>
                    </a:moveTo>
                    <a:arcTo wR="10800" hR="10800" stAng="-10656844" swAng="5246581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8" name=""/>
            <p:cNvSpPr/>
            <p:nvPr/>
          </p:nvSpPr>
          <p:spPr>
            <a:xfrm>
              <a:off x="2444760" y="4584600"/>
              <a:ext cx="96840" cy="103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562120" y="4646520"/>
              <a:ext cx="646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0" name=""/>
            <p:cNvGrpSpPr/>
            <p:nvPr/>
          </p:nvGrpSpPr>
          <p:grpSpPr>
            <a:xfrm>
              <a:off x="1838520" y="5254560"/>
              <a:ext cx="152280" cy="456840"/>
              <a:chOff x="1838520" y="5254560"/>
              <a:chExt cx="152280" cy="456840"/>
            </a:xfrm>
          </p:grpSpPr>
          <p:sp>
            <p:nvSpPr>
              <p:cNvPr id="1051" name=""/>
              <p:cNvSpPr/>
              <p:nvPr/>
            </p:nvSpPr>
            <p:spPr>
              <a:xfrm>
                <a:off x="1838520" y="5254560"/>
                <a:ext cx="15192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75" y="2"/>
                    </a:moveTo>
                    <a:arcTo wR="10800" hR="10800" stAng="-5471610" swAng="54716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75" y="2"/>
                    </a:moveTo>
                    <a:arcTo wR="10800" hR="10800" stAng="-5471610" swAng="547161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rot="10800000">
                <a:off x="1838520" y="5254560"/>
                <a:ext cx="1522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" y="10350"/>
                    </a:moveTo>
                    <a:arcTo wR="10800" hR="10800" stAng="-10656844" swAng="518523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" y="10350"/>
                    </a:moveTo>
                    <a:arcTo wR="10800" hR="10800" stAng="-10656844" swAng="5185234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3" name=""/>
            <p:cNvSpPr/>
            <p:nvPr/>
          </p:nvSpPr>
          <p:spPr>
            <a:xfrm>
              <a:off x="1874880" y="5319720"/>
              <a:ext cx="76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887480" y="5624640"/>
              <a:ext cx="60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1376640" y="5256360"/>
              <a:ext cx="1059840" cy="456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8" y="0"/>
                  </a:moveTo>
                  <a:arcTo wR="10800" hR="10800" stAng="-5410292" swAng="55299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8" y="0"/>
                  </a:moveTo>
                  <a:arcTo wR="10800" hR="10800" stAng="-5410292" swAng="5529968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 rot="10800000">
              <a:off x="1382400" y="5254560"/>
              <a:ext cx="10638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" y="10350"/>
                  </a:moveTo>
                  <a:arcTo wR="10800" hR="10800" stAng="-10656844" swAng="5246581"/>
                  <a:lnTo>
                    <a:pt x="10800" y="10800"/>
                  </a:lnTo>
                  <a:close/>
                </a:path>
                <a:path fill="none" w="21600" h="21600">
                  <a:moveTo>
                    <a:pt x="9" y="10350"/>
                  </a:moveTo>
                  <a:arcTo wR="10800" hR="10800" stAng="-10656844" swAng="5246581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530440" y="5483160"/>
              <a:ext cx="676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>
              <a:off x="1761840" y="5321160"/>
              <a:ext cx="142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1752480" y="517320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V="1">
              <a:off x="1757520" y="4792680"/>
              <a:ext cx="981000" cy="37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V="1">
              <a:off x="2743200" y="4640400"/>
              <a:ext cx="0" cy="14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>
              <a:off x="1761840" y="4788000"/>
              <a:ext cx="142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752480" y="479736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762200" y="4950000"/>
              <a:ext cx="981000" cy="37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43200" y="533088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 flipH="1">
              <a:off x="1076400" y="5626080"/>
              <a:ext cx="828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62120" y="539748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62120" y="425448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200400" y="440676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200400" y="52452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/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440080" y="5430960"/>
              <a:ext cx="96840" cy="1029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732960" y="1967040"/>
            <a:ext cx="2505600" cy="1084680"/>
            <a:chOff x="732960" y="1967040"/>
            <a:chExt cx="2505600" cy="1084680"/>
          </a:xfrm>
        </p:grpSpPr>
        <p:sp>
          <p:nvSpPr>
            <p:cNvPr id="1073" name=""/>
            <p:cNvSpPr/>
            <p:nvPr/>
          </p:nvSpPr>
          <p:spPr>
            <a:xfrm>
              <a:off x="1407960" y="1967040"/>
              <a:ext cx="1222560" cy="1069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732960" y="2120760"/>
              <a:ext cx="676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>
              <a:off x="732960" y="2882880"/>
              <a:ext cx="676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638440" y="2120760"/>
              <a:ext cx="60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757600" y="2882880"/>
              <a:ext cx="480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409760" y="1968480"/>
              <a:ext cx="212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409760" y="2654280"/>
              <a:ext cx="212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324160" y="1968480"/>
              <a:ext cx="212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324160" y="265428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635200" y="2824200"/>
              <a:ext cx="96840" cy="103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3" name=""/>
          <p:cNvSpPr/>
          <p:nvPr/>
        </p:nvSpPr>
        <p:spPr>
          <a:xfrm>
            <a:off x="1506960" y="3916440"/>
            <a:ext cx="124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582200" y="1401840"/>
            <a:ext cx="979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172760" y="2087640"/>
            <a:ext cx="1261080" cy="17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ILLEG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229800" y="1096920"/>
            <a:ext cx="1734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12040" y="1859040"/>
            <a:ext cx="5097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-360" y="2620800"/>
            <a:ext cx="748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5622840" y="4038480"/>
            <a:ext cx="289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cteristic Equ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(t+1) = S + R’Q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ing 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agation de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um pulse 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ci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A5116-10A9-4904-9454-8640D76000B1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S-/R L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1" name=""/>
          <p:cNvGrpSpPr/>
          <p:nvPr/>
        </p:nvGrpSpPr>
        <p:grpSpPr>
          <a:xfrm>
            <a:off x="5408640" y="1598760"/>
            <a:ext cx="3659040" cy="2365200"/>
            <a:chOff x="5408640" y="1598760"/>
            <a:chExt cx="3659040" cy="2365200"/>
          </a:xfrm>
        </p:grpSpPr>
        <p:grpSp>
          <p:nvGrpSpPr>
            <p:cNvPr id="1092" name=""/>
            <p:cNvGrpSpPr/>
            <p:nvPr/>
          </p:nvGrpSpPr>
          <p:grpSpPr>
            <a:xfrm>
              <a:off x="5408640" y="1598760"/>
              <a:ext cx="3279600" cy="2365200"/>
              <a:chOff x="5408640" y="1598760"/>
              <a:chExt cx="3279600" cy="2365200"/>
            </a:xfrm>
          </p:grpSpPr>
          <p:sp>
            <p:nvSpPr>
              <p:cNvPr id="1093" name=""/>
              <p:cNvSpPr/>
              <p:nvPr/>
            </p:nvSpPr>
            <p:spPr>
              <a:xfrm>
                <a:off x="5408640" y="1598760"/>
                <a:ext cx="3279600" cy="23652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419800" y="2057400"/>
                <a:ext cx="326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010280" y="1609560"/>
                <a:ext cx="0" cy="1895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562720" y="1676520"/>
                <a:ext cx="558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/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413400" y="1676520"/>
                <a:ext cx="4446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/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162920" y="1676520"/>
                <a:ext cx="3808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8077320" y="1676520"/>
                <a:ext cx="457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/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562720" y="2057400"/>
                <a:ext cx="533160" cy="178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7010280" y="3438360"/>
                <a:ext cx="0" cy="524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6477120" y="2057400"/>
                <a:ext cx="533160" cy="178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086600" y="2057400"/>
                <a:ext cx="1219320" cy="175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last 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4" name=""/>
            <p:cNvSpPr/>
            <p:nvPr/>
          </p:nvSpPr>
          <p:spPr>
            <a:xfrm>
              <a:off x="7848720" y="2057400"/>
              <a:ext cx="1218960" cy="17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ast /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1076400" y="4154400"/>
            <a:ext cx="3012840" cy="1497600"/>
            <a:chOff x="1076400" y="4154400"/>
            <a:chExt cx="3012840" cy="1497600"/>
          </a:xfrm>
        </p:grpSpPr>
        <p:grpSp>
          <p:nvGrpSpPr>
            <p:cNvPr id="1106" name=""/>
            <p:cNvGrpSpPr/>
            <p:nvPr/>
          </p:nvGrpSpPr>
          <p:grpSpPr>
            <a:xfrm>
              <a:off x="2271960" y="4290840"/>
              <a:ext cx="152280" cy="456840"/>
              <a:chOff x="2271960" y="4290840"/>
              <a:chExt cx="152280" cy="456840"/>
            </a:xfrm>
          </p:grpSpPr>
          <p:sp>
            <p:nvSpPr>
              <p:cNvPr id="1107" name=""/>
              <p:cNvSpPr/>
              <p:nvPr/>
            </p:nvSpPr>
            <p:spPr>
              <a:xfrm>
                <a:off x="2271960" y="4290840"/>
                <a:ext cx="15192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75" y="2"/>
                    </a:moveTo>
                    <a:arcTo wR="10800" hR="10800" stAng="-5471610" swAng="54716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75" y="2"/>
                    </a:moveTo>
                    <a:arcTo wR="10800" hR="10800" stAng="-5471610" swAng="547161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rot="10800000">
                <a:off x="2271960" y="4290840"/>
                <a:ext cx="1522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" y="10350"/>
                    </a:moveTo>
                    <a:arcTo wR="10800" hR="10800" stAng="-10656844" swAng="518523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" y="10350"/>
                    </a:moveTo>
                    <a:arcTo wR="10800" hR="10800" stAng="-10656844" swAng="5185234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9" name=""/>
            <p:cNvSpPr/>
            <p:nvPr/>
          </p:nvSpPr>
          <p:spPr>
            <a:xfrm>
              <a:off x="1810080" y="4292640"/>
              <a:ext cx="1059840" cy="456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8" y="0"/>
                  </a:moveTo>
                  <a:arcTo wR="10800" hR="10800" stAng="-5410292" swAng="55299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8" y="0"/>
                  </a:moveTo>
                  <a:arcTo wR="10800" hR="10800" stAng="-5410292" swAng="5529968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rot="10800000">
              <a:off x="1815840" y="4290840"/>
              <a:ext cx="10638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" y="10350"/>
                  </a:moveTo>
                  <a:arcTo wR="10800" hR="10800" stAng="-10656844" swAng="5246581"/>
                  <a:lnTo>
                    <a:pt x="10800" y="10800"/>
                  </a:lnTo>
                  <a:close/>
                </a:path>
                <a:path fill="none" w="21600" h="21600">
                  <a:moveTo>
                    <a:pt x="9" y="10350"/>
                  </a:moveTo>
                  <a:arcTo wR="10800" hR="10800" stAng="-10656844" swAng="5246581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994120" y="4519440"/>
              <a:ext cx="64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2" name=""/>
            <p:cNvGrpSpPr/>
            <p:nvPr/>
          </p:nvGrpSpPr>
          <p:grpSpPr>
            <a:xfrm>
              <a:off x="2270160" y="5127480"/>
              <a:ext cx="151920" cy="456840"/>
              <a:chOff x="2270160" y="5127480"/>
              <a:chExt cx="151920" cy="456840"/>
            </a:xfrm>
          </p:grpSpPr>
          <p:sp>
            <p:nvSpPr>
              <p:cNvPr id="1113" name=""/>
              <p:cNvSpPr/>
              <p:nvPr/>
            </p:nvSpPr>
            <p:spPr>
              <a:xfrm>
                <a:off x="2270160" y="5127480"/>
                <a:ext cx="15192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75" y="2"/>
                    </a:moveTo>
                    <a:arcTo wR="10800" hR="10800" stAng="-5471610" swAng="54716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75" y="2"/>
                    </a:moveTo>
                    <a:arcTo wR="10800" hR="10800" stAng="-5471610" swAng="547161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rot="10800000">
                <a:off x="2270520" y="5127480"/>
                <a:ext cx="15156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" y="10350"/>
                    </a:moveTo>
                    <a:arcTo wR="10800" hR="10800" stAng="-10656844" swAng="518523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" y="10350"/>
                    </a:moveTo>
                    <a:arcTo wR="10800" hR="10800" stAng="-10656844" swAng="5185234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5" name=""/>
            <p:cNvSpPr/>
            <p:nvPr/>
          </p:nvSpPr>
          <p:spPr>
            <a:xfrm>
              <a:off x="1808280" y="5129280"/>
              <a:ext cx="1059840" cy="456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8" y="0"/>
                  </a:moveTo>
                  <a:arcTo wR="10800" hR="10800" stAng="-5410292" swAng="55299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8" y="0"/>
                  </a:moveTo>
                  <a:arcTo wR="10800" hR="10800" stAng="-5410292" swAng="5529968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rot="10800000">
              <a:off x="1814400" y="5127480"/>
              <a:ext cx="10638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" y="10350"/>
                  </a:moveTo>
                  <a:arcTo wR="10800" hR="10800" stAng="-10656844" swAng="5246581"/>
                  <a:lnTo>
                    <a:pt x="10800" y="10800"/>
                  </a:lnTo>
                  <a:close/>
                </a:path>
                <a:path fill="none" w="21600" h="21600">
                  <a:moveTo>
                    <a:pt x="9" y="10350"/>
                  </a:moveTo>
                  <a:arcTo wR="10800" hR="10800" stAng="-10656844" swAng="5246581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2962440" y="5356080"/>
              <a:ext cx="676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V="1">
              <a:off x="2184480" y="5046840"/>
              <a:ext cx="0" cy="14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 flipV="1">
              <a:off x="2189160" y="4665600"/>
              <a:ext cx="981000" cy="37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V="1">
              <a:off x="3174840" y="451296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H="1">
              <a:off x="2203200" y="4660920"/>
              <a:ext cx="82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2184480" y="467028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2193840" y="4822920"/>
              <a:ext cx="981000" cy="37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174840" y="520380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227320" y="4381560"/>
              <a:ext cx="633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 flipH="1">
              <a:off x="1415520" y="4383000"/>
              <a:ext cx="8636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101600" y="4154400"/>
              <a:ext cx="397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/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425600" y="5483160"/>
              <a:ext cx="873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219400" y="5483160"/>
              <a:ext cx="903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076400" y="5254560"/>
              <a:ext cx="438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/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632040" y="4280040"/>
              <a:ext cx="381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632040" y="51181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/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3" name=""/>
            <p:cNvGrpSpPr/>
            <p:nvPr/>
          </p:nvGrpSpPr>
          <p:grpSpPr>
            <a:xfrm>
              <a:off x="2286000" y="4329000"/>
              <a:ext cx="98280" cy="366840"/>
              <a:chOff x="2286000" y="4329000"/>
              <a:chExt cx="98280" cy="366840"/>
            </a:xfrm>
          </p:grpSpPr>
          <p:sp>
            <p:nvSpPr>
              <p:cNvPr id="1134" name=""/>
              <p:cNvSpPr/>
              <p:nvPr/>
            </p:nvSpPr>
            <p:spPr>
              <a:xfrm>
                <a:off x="2286000" y="4329000"/>
                <a:ext cx="96840" cy="103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2287440" y="4592520"/>
                <a:ext cx="96840" cy="103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"/>
            <p:cNvGrpSpPr/>
            <p:nvPr/>
          </p:nvGrpSpPr>
          <p:grpSpPr>
            <a:xfrm>
              <a:off x="2286000" y="5164200"/>
              <a:ext cx="98280" cy="366480"/>
              <a:chOff x="2286000" y="5164200"/>
              <a:chExt cx="98280" cy="366480"/>
            </a:xfrm>
          </p:grpSpPr>
          <p:sp>
            <p:nvSpPr>
              <p:cNvPr id="1137" name=""/>
              <p:cNvSpPr/>
              <p:nvPr/>
            </p:nvSpPr>
            <p:spPr>
              <a:xfrm>
                <a:off x="2286000" y="5164200"/>
                <a:ext cx="96840" cy="1029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2287440" y="5427720"/>
                <a:ext cx="96840" cy="1029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9" name=""/>
            <p:cNvSpPr/>
            <p:nvPr/>
          </p:nvSpPr>
          <p:spPr>
            <a:xfrm flipH="1">
              <a:off x="2196720" y="5221440"/>
              <a:ext cx="9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184480" y="5194440"/>
              <a:ext cx="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184480" y="5194440"/>
              <a:ext cx="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187720" y="5135400"/>
              <a:ext cx="0" cy="8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2879280" y="4519440"/>
              <a:ext cx="142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2865600" y="5357880"/>
              <a:ext cx="142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1173240" y="2055960"/>
            <a:ext cx="2446200" cy="1084680"/>
            <a:chOff x="1173240" y="2055960"/>
            <a:chExt cx="2446200" cy="1084680"/>
          </a:xfrm>
        </p:grpSpPr>
        <p:sp>
          <p:nvSpPr>
            <p:cNvPr id="1146" name=""/>
            <p:cNvSpPr/>
            <p:nvPr/>
          </p:nvSpPr>
          <p:spPr>
            <a:xfrm>
              <a:off x="1789200" y="2055960"/>
              <a:ext cx="1222200" cy="1069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019320" y="2209680"/>
              <a:ext cx="60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790640" y="2057400"/>
              <a:ext cx="212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790640" y="2743200"/>
              <a:ext cx="212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705040" y="2057400"/>
              <a:ext cx="212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705040" y="2743200"/>
              <a:ext cx="381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2" name=""/>
            <p:cNvGrpSpPr/>
            <p:nvPr/>
          </p:nvGrpSpPr>
          <p:grpSpPr>
            <a:xfrm>
              <a:off x="3016080" y="2913120"/>
              <a:ext cx="603360" cy="102960"/>
              <a:chOff x="3016080" y="2913120"/>
              <a:chExt cx="603360" cy="102960"/>
            </a:xfrm>
          </p:grpSpPr>
          <p:sp>
            <p:nvSpPr>
              <p:cNvPr id="1153" name=""/>
              <p:cNvSpPr/>
              <p:nvPr/>
            </p:nvSpPr>
            <p:spPr>
              <a:xfrm>
                <a:off x="3138480" y="2971800"/>
                <a:ext cx="480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016080" y="2913120"/>
                <a:ext cx="96840" cy="1029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5" name=""/>
            <p:cNvGrpSpPr/>
            <p:nvPr/>
          </p:nvGrpSpPr>
          <p:grpSpPr>
            <a:xfrm>
              <a:off x="1185840" y="2176560"/>
              <a:ext cx="593280" cy="102960"/>
              <a:chOff x="1185840" y="2176560"/>
              <a:chExt cx="593280" cy="102960"/>
            </a:xfrm>
          </p:grpSpPr>
          <p:sp>
            <p:nvSpPr>
              <p:cNvPr id="1156" name=""/>
              <p:cNvSpPr/>
              <p:nvPr/>
            </p:nvSpPr>
            <p:spPr>
              <a:xfrm flipH="1">
                <a:off x="1185840" y="2235240"/>
                <a:ext cx="480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H="1">
                <a:off x="1681920" y="2176560"/>
                <a:ext cx="96840" cy="1029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8" name=""/>
            <p:cNvGrpSpPr/>
            <p:nvPr/>
          </p:nvGrpSpPr>
          <p:grpSpPr>
            <a:xfrm>
              <a:off x="1173240" y="2900520"/>
              <a:ext cx="593280" cy="102960"/>
              <a:chOff x="1173240" y="2900520"/>
              <a:chExt cx="593280" cy="102960"/>
            </a:xfrm>
          </p:grpSpPr>
          <p:sp>
            <p:nvSpPr>
              <p:cNvPr id="1159" name=""/>
              <p:cNvSpPr/>
              <p:nvPr/>
            </p:nvSpPr>
            <p:spPr>
              <a:xfrm flipH="1">
                <a:off x="1173240" y="2959200"/>
                <a:ext cx="480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flipH="1">
                <a:off x="1669320" y="2900520"/>
                <a:ext cx="96840" cy="1029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1" name=""/>
          <p:cNvSpPr/>
          <p:nvPr/>
        </p:nvSpPr>
        <p:spPr>
          <a:xfrm>
            <a:off x="4172400" y="2087640"/>
            <a:ext cx="1325160" cy="178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ILLEG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36904-360E-49DA-B9A5-4A8AA25A901B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-R Latch with E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5103720" y="1598760"/>
            <a:ext cx="3343320" cy="277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114880" y="2057400"/>
            <a:ext cx="326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705720" y="1609560"/>
            <a:ext cx="0" cy="189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5257800" y="1676520"/>
            <a:ext cx="558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6858000" y="1676520"/>
            <a:ext cx="38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7772400" y="16765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257800" y="2057400"/>
            <a:ext cx="533520" cy="22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6705720" y="3438360"/>
            <a:ext cx="0" cy="91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"/>
          <p:cNvGrpSpPr/>
          <p:nvPr/>
        </p:nvGrpSpPr>
        <p:grpSpPr>
          <a:xfrm>
            <a:off x="5664240" y="1676520"/>
            <a:ext cx="444600" cy="2633040"/>
            <a:chOff x="5664240" y="1676520"/>
            <a:chExt cx="444600" cy="2633040"/>
          </a:xfrm>
        </p:grpSpPr>
        <p:sp>
          <p:nvSpPr>
            <p:cNvPr id="1172" name=""/>
            <p:cNvSpPr/>
            <p:nvPr/>
          </p:nvSpPr>
          <p:spPr>
            <a:xfrm>
              <a:off x="5664240" y="1676520"/>
              <a:ext cx="444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727600" y="2057400"/>
              <a:ext cx="381240" cy="22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4" name=""/>
          <p:cNvSpPr/>
          <p:nvPr/>
        </p:nvSpPr>
        <p:spPr>
          <a:xfrm>
            <a:off x="6718320" y="2057400"/>
            <a:ext cx="1219320" cy="22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st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543800" y="2057400"/>
            <a:ext cx="1219320" cy="22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st 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 /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6" name=""/>
          <p:cNvGrpSpPr/>
          <p:nvPr/>
        </p:nvGrpSpPr>
        <p:grpSpPr>
          <a:xfrm>
            <a:off x="749160" y="4038480"/>
            <a:ext cx="4168800" cy="1782000"/>
            <a:chOff x="749160" y="4038480"/>
            <a:chExt cx="4168800" cy="1782000"/>
          </a:xfrm>
        </p:grpSpPr>
        <p:grpSp>
          <p:nvGrpSpPr>
            <p:cNvPr id="1177" name=""/>
            <p:cNvGrpSpPr/>
            <p:nvPr/>
          </p:nvGrpSpPr>
          <p:grpSpPr>
            <a:xfrm>
              <a:off x="1083960" y="4156200"/>
              <a:ext cx="3834000" cy="1564920"/>
              <a:chOff x="1083960" y="4156200"/>
              <a:chExt cx="3834000" cy="1564920"/>
            </a:xfrm>
          </p:grpSpPr>
          <p:grpSp>
            <p:nvGrpSpPr>
              <p:cNvPr id="1178" name=""/>
              <p:cNvGrpSpPr/>
              <p:nvPr/>
            </p:nvGrpSpPr>
            <p:grpSpPr>
              <a:xfrm>
                <a:off x="1593720" y="4156200"/>
                <a:ext cx="544320" cy="468000"/>
                <a:chOff x="1593720" y="4156200"/>
                <a:chExt cx="544320" cy="468000"/>
              </a:xfrm>
            </p:grpSpPr>
            <p:sp>
              <p:nvSpPr>
                <p:cNvPr id="1179" name=""/>
                <p:cNvSpPr/>
                <p:nvPr/>
              </p:nvSpPr>
              <p:spPr>
                <a:xfrm>
                  <a:off x="1593720" y="4165560"/>
                  <a:ext cx="0" cy="447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 flipH="1">
                  <a:off x="1603440" y="4156200"/>
                  <a:ext cx="295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 flipH="1">
                  <a:off x="1603440" y="4613400"/>
                  <a:ext cx="295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1680840" y="4167360"/>
                  <a:ext cx="45720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25" y="0"/>
                      </a:moveTo>
                      <a:arcTo wR="10800" hR="10800" stAng="-5423873" swAng="542387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25" y="0"/>
                      </a:moveTo>
                      <a:arcTo wR="10800" hR="10800" stAng="-5423873" swAng="5423873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 rot="10800000">
                  <a:off x="1680840" y="4167360"/>
                  <a:ext cx="45720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" y="10350"/>
                      </a:moveTo>
                      <a:arcTo wR="10800" hR="10800" stAng="-10656844" swAng="52329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" y="10350"/>
                      </a:moveTo>
                      <a:arcTo wR="10800" hR="10800" stAng="-10656844" swAng="5232970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4" name=""/>
              <p:cNvGrpSpPr/>
              <p:nvPr/>
            </p:nvGrpSpPr>
            <p:grpSpPr>
              <a:xfrm>
                <a:off x="3099960" y="4289400"/>
                <a:ext cx="153000" cy="456840"/>
                <a:chOff x="3099960" y="4289400"/>
                <a:chExt cx="153000" cy="456840"/>
              </a:xfrm>
            </p:grpSpPr>
            <p:sp>
              <p:nvSpPr>
                <p:cNvPr id="1185" name=""/>
                <p:cNvSpPr/>
                <p:nvPr/>
              </p:nvSpPr>
              <p:spPr>
                <a:xfrm>
                  <a:off x="3099960" y="4289400"/>
                  <a:ext cx="152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75" y="2"/>
                      </a:moveTo>
                      <a:arcTo wR="10800" hR="10800" stAng="-5471610" swAng="547161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75" y="2"/>
                      </a:moveTo>
                      <a:arcTo wR="10800" hR="10800" stAng="-5471610" swAng="5471610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 rot="10800000">
                  <a:off x="3100680" y="4289400"/>
                  <a:ext cx="152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" y="10350"/>
                      </a:moveTo>
                      <a:arcTo wR="10800" hR="10800" stAng="-10656844" swAng="51852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" y="10350"/>
                      </a:moveTo>
                      <a:arcTo wR="10800" hR="10800" stAng="-10656844" swAng="5185234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7" name=""/>
              <p:cNvSpPr/>
              <p:nvPr/>
            </p:nvSpPr>
            <p:spPr>
              <a:xfrm>
                <a:off x="2638080" y="4290840"/>
                <a:ext cx="1060560" cy="457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68" y="0"/>
                    </a:moveTo>
                    <a:arcTo wR="10800" hR="10800" stAng="-5410292" swAng="55299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68" y="0"/>
                    </a:moveTo>
                    <a:arcTo wR="10800" hR="10800" stAng="-5410292" swAng="5529968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rot="10800000">
                <a:off x="2644560" y="4289400"/>
                <a:ext cx="10638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" y="10350"/>
                    </a:moveTo>
                    <a:arcTo wR="10800" hR="10800" stAng="-10656844" swAng="52465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" y="10350"/>
                    </a:moveTo>
                    <a:arcTo wR="10800" hR="10800" stAng="-10656844" swAng="5246581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822840" y="4518000"/>
                <a:ext cx="645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90" name=""/>
              <p:cNvGrpSpPr/>
              <p:nvPr/>
            </p:nvGrpSpPr>
            <p:grpSpPr>
              <a:xfrm>
                <a:off x="3098880" y="5126040"/>
                <a:ext cx="152280" cy="456840"/>
                <a:chOff x="3098880" y="5126040"/>
                <a:chExt cx="152280" cy="456840"/>
              </a:xfrm>
            </p:grpSpPr>
            <p:sp>
              <p:nvSpPr>
                <p:cNvPr id="1191" name=""/>
                <p:cNvSpPr/>
                <p:nvPr/>
              </p:nvSpPr>
              <p:spPr>
                <a:xfrm>
                  <a:off x="3098880" y="5126040"/>
                  <a:ext cx="15192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75" y="2"/>
                      </a:moveTo>
                      <a:arcTo wR="10800" hR="10800" stAng="-5471610" swAng="547161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75" y="2"/>
                      </a:moveTo>
                      <a:arcTo wR="10800" hR="10800" stAng="-5471610" swAng="5471610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 rot="10800000">
                  <a:off x="3098880" y="5126040"/>
                  <a:ext cx="152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" y="10350"/>
                      </a:moveTo>
                      <a:arcTo wR="10800" hR="10800" stAng="-10656844" swAng="51852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" y="10350"/>
                      </a:moveTo>
                      <a:arcTo wR="10800" hR="10800" stAng="-10656844" swAng="5185234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3" name=""/>
              <p:cNvSpPr/>
              <p:nvPr/>
            </p:nvSpPr>
            <p:spPr>
              <a:xfrm>
                <a:off x="2637000" y="5127480"/>
                <a:ext cx="1059840" cy="456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68" y="0"/>
                    </a:moveTo>
                    <a:arcTo wR="10800" hR="10800" stAng="-5410292" swAng="55299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68" y="0"/>
                    </a:moveTo>
                    <a:arcTo wR="10800" hR="10800" stAng="-5410292" swAng="5529968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rot="10800000">
                <a:off x="2642760" y="5126040"/>
                <a:ext cx="106452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" y="10350"/>
                    </a:moveTo>
                    <a:arcTo wR="10800" hR="10800" stAng="-10656844" swAng="52465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" y="10350"/>
                    </a:moveTo>
                    <a:arcTo wR="10800" hR="10800" stAng="-10656844" swAng="5246581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3790800" y="5354640"/>
                <a:ext cx="676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flipV="1">
                <a:off x="3013200" y="5044680"/>
                <a:ext cx="0" cy="142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flipV="1">
                <a:off x="3017880" y="4664160"/>
                <a:ext cx="981000" cy="37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V="1">
                <a:off x="4003560" y="4511160"/>
                <a:ext cx="0" cy="142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 flipH="1">
                <a:off x="3031920" y="465948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3013200" y="4668840"/>
                <a:ext cx="0" cy="142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3022560" y="4821120"/>
                <a:ext cx="981000" cy="37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4003560" y="5202360"/>
                <a:ext cx="0" cy="142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3056040" y="4379760"/>
                <a:ext cx="6336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H="1">
                <a:off x="2244240" y="4381560"/>
                <a:ext cx="863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2254320" y="5481720"/>
                <a:ext cx="87300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3048120" y="5481720"/>
                <a:ext cx="903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460760" y="4278240"/>
                <a:ext cx="381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4460760" y="5116680"/>
                <a:ext cx="4572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/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3114720" y="4327560"/>
                <a:ext cx="96840" cy="103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3116160" y="4591080"/>
                <a:ext cx="96840" cy="103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1" name=""/>
              <p:cNvGrpSpPr/>
              <p:nvPr/>
            </p:nvGrpSpPr>
            <p:grpSpPr>
              <a:xfrm>
                <a:off x="3114720" y="5162400"/>
                <a:ext cx="98280" cy="366840"/>
                <a:chOff x="3114720" y="5162400"/>
                <a:chExt cx="98280" cy="366840"/>
              </a:xfrm>
            </p:grpSpPr>
            <p:sp>
              <p:nvSpPr>
                <p:cNvPr id="1212" name=""/>
                <p:cNvSpPr/>
                <p:nvPr/>
              </p:nvSpPr>
              <p:spPr>
                <a:xfrm>
                  <a:off x="3114720" y="5162400"/>
                  <a:ext cx="96840" cy="1033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3116160" y="5425920"/>
                  <a:ext cx="96840" cy="1033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14" name=""/>
              <p:cNvSpPr/>
              <p:nvPr/>
            </p:nvSpPr>
            <p:spPr>
              <a:xfrm flipH="1">
                <a:off x="3025440" y="5219640"/>
                <a:ext cx="9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013200" y="5192640"/>
                <a:ext cx="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013200" y="5192640"/>
                <a:ext cx="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016080" y="5133960"/>
                <a:ext cx="0" cy="856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flipH="1">
                <a:off x="3708000" y="4518000"/>
                <a:ext cx="142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flipH="1">
                <a:off x="3693600" y="5356080"/>
                <a:ext cx="142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2146320" y="5432400"/>
                <a:ext cx="96840" cy="103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2141640" y="4330800"/>
                <a:ext cx="96840" cy="1029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2" name=""/>
              <p:cNvGrpSpPr/>
              <p:nvPr/>
            </p:nvGrpSpPr>
            <p:grpSpPr>
              <a:xfrm>
                <a:off x="1601640" y="5253120"/>
                <a:ext cx="544320" cy="468000"/>
                <a:chOff x="1601640" y="5253120"/>
                <a:chExt cx="544320" cy="46800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1601640" y="5262480"/>
                  <a:ext cx="0" cy="447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 flipH="1">
                  <a:off x="1611360" y="5253120"/>
                  <a:ext cx="295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 flipH="1">
                  <a:off x="1611360" y="5710320"/>
                  <a:ext cx="295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1689480" y="5264280"/>
                  <a:ext cx="4564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25" y="0"/>
                      </a:moveTo>
                      <a:arcTo wR="10800" hR="10800" stAng="-5423873" swAng="542387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25" y="0"/>
                      </a:moveTo>
                      <a:arcTo wR="10800" hR="10800" stAng="-5423873" swAng="5423873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 rot="10800000">
                  <a:off x="1688760" y="5264280"/>
                  <a:ext cx="45720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" y="10350"/>
                      </a:moveTo>
                      <a:arcTo wR="10800" hR="10800" stAng="-10656844" swAng="52329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" y="10350"/>
                      </a:moveTo>
                      <a:arcTo wR="10800" hR="10800" stAng="-10656844" swAng="5232970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8" name=""/>
              <p:cNvSpPr/>
              <p:nvPr/>
            </p:nvSpPr>
            <p:spPr>
              <a:xfrm flipH="1">
                <a:off x="1434960" y="4533840"/>
                <a:ext cx="154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1425600" y="4543560"/>
                <a:ext cx="0" cy="798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1434960" y="5342040"/>
                <a:ext cx="162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flipH="1">
                <a:off x="1106640" y="4944960"/>
                <a:ext cx="318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flipH="1">
                <a:off x="1087200" y="4237200"/>
                <a:ext cx="501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flipH="1">
                <a:off x="1083960" y="5630760"/>
                <a:ext cx="501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4" name=""/>
            <p:cNvSpPr/>
            <p:nvPr/>
          </p:nvSpPr>
          <p:spPr>
            <a:xfrm>
              <a:off x="749160" y="4038480"/>
              <a:ext cx="444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49160" y="5423040"/>
              <a:ext cx="393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87320" y="4724280"/>
              <a:ext cx="444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"/>
          <p:cNvGrpSpPr/>
          <p:nvPr/>
        </p:nvGrpSpPr>
        <p:grpSpPr>
          <a:xfrm>
            <a:off x="6159600" y="1676520"/>
            <a:ext cx="444240" cy="2633040"/>
            <a:chOff x="6159600" y="1676520"/>
            <a:chExt cx="444240" cy="2633040"/>
          </a:xfrm>
        </p:grpSpPr>
        <p:sp>
          <p:nvSpPr>
            <p:cNvPr id="1238" name=""/>
            <p:cNvSpPr/>
            <p:nvPr/>
          </p:nvSpPr>
          <p:spPr>
            <a:xfrm>
              <a:off x="6159600" y="1676520"/>
              <a:ext cx="444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222960" y="2057400"/>
              <a:ext cx="380880" cy="225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0" name=""/>
          <p:cNvGrpSpPr/>
          <p:nvPr/>
        </p:nvGrpSpPr>
        <p:grpSpPr>
          <a:xfrm>
            <a:off x="948960" y="2043000"/>
            <a:ext cx="2518200" cy="1085040"/>
            <a:chOff x="948960" y="2043000"/>
            <a:chExt cx="2518200" cy="1085040"/>
          </a:xfrm>
        </p:grpSpPr>
        <p:sp>
          <p:nvSpPr>
            <p:cNvPr id="1241" name=""/>
            <p:cNvSpPr/>
            <p:nvPr/>
          </p:nvSpPr>
          <p:spPr>
            <a:xfrm>
              <a:off x="1636560" y="2043000"/>
              <a:ext cx="1222560" cy="1069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H="1">
              <a:off x="961560" y="2959200"/>
              <a:ext cx="676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867040" y="2197080"/>
              <a:ext cx="60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986200" y="2959200"/>
              <a:ext cx="480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5" name=""/>
            <p:cNvGrpSpPr/>
            <p:nvPr/>
          </p:nvGrpSpPr>
          <p:grpSpPr>
            <a:xfrm>
              <a:off x="961560" y="2044800"/>
              <a:ext cx="889560" cy="397440"/>
              <a:chOff x="961560" y="2044800"/>
              <a:chExt cx="889560" cy="397440"/>
            </a:xfrm>
          </p:grpSpPr>
          <p:sp>
            <p:nvSpPr>
              <p:cNvPr id="1246" name=""/>
              <p:cNvSpPr/>
              <p:nvPr/>
            </p:nvSpPr>
            <p:spPr>
              <a:xfrm flipH="1">
                <a:off x="961560" y="2197080"/>
                <a:ext cx="6764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1638360" y="2044800"/>
                <a:ext cx="212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8" name=""/>
            <p:cNvSpPr/>
            <p:nvPr/>
          </p:nvSpPr>
          <p:spPr>
            <a:xfrm>
              <a:off x="1638360" y="2730600"/>
              <a:ext cx="212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552760" y="2044800"/>
              <a:ext cx="212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2552760" y="273060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2863800" y="2900520"/>
              <a:ext cx="96840" cy="1029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948960" y="2565360"/>
              <a:ext cx="676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625760" y="2413080"/>
              <a:ext cx="428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4" name=""/>
          <p:cNvSpPr/>
          <p:nvPr/>
        </p:nvSpPr>
        <p:spPr>
          <a:xfrm>
            <a:off x="2590920" y="3892680"/>
            <a:ext cx="0" cy="21272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5614560" y="4602240"/>
            <a:ext cx="285516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sensitive to S and 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when enabled (C=1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oscillation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does C effect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um pulse widt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BAC16-954A-4BA2-84A9-28DC14DCBA1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L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7" name=""/>
          <p:cNvGrpSpPr/>
          <p:nvPr/>
        </p:nvGrpSpPr>
        <p:grpSpPr>
          <a:xfrm>
            <a:off x="1050480" y="2017800"/>
            <a:ext cx="2505600" cy="1084680"/>
            <a:chOff x="1050480" y="2017800"/>
            <a:chExt cx="2505600" cy="1084680"/>
          </a:xfrm>
        </p:grpSpPr>
        <p:sp>
          <p:nvSpPr>
            <p:cNvPr id="1258" name=""/>
            <p:cNvSpPr/>
            <p:nvPr/>
          </p:nvSpPr>
          <p:spPr>
            <a:xfrm>
              <a:off x="1725480" y="2017800"/>
              <a:ext cx="1222560" cy="1069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H="1">
              <a:off x="1050480" y="2933640"/>
              <a:ext cx="676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2955960" y="2171880"/>
              <a:ext cx="60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075120" y="2933640"/>
              <a:ext cx="480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2" name=""/>
            <p:cNvGrpSpPr/>
            <p:nvPr/>
          </p:nvGrpSpPr>
          <p:grpSpPr>
            <a:xfrm>
              <a:off x="1050480" y="2019240"/>
              <a:ext cx="889560" cy="397440"/>
              <a:chOff x="1050480" y="2019240"/>
              <a:chExt cx="889560" cy="397440"/>
            </a:xfrm>
          </p:grpSpPr>
          <p:sp>
            <p:nvSpPr>
              <p:cNvPr id="1263" name=""/>
              <p:cNvSpPr/>
              <p:nvPr/>
            </p:nvSpPr>
            <p:spPr>
              <a:xfrm flipH="1">
                <a:off x="1050480" y="2171880"/>
                <a:ext cx="6764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1727280" y="2019240"/>
                <a:ext cx="212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5" name=""/>
            <p:cNvSpPr/>
            <p:nvPr/>
          </p:nvSpPr>
          <p:spPr>
            <a:xfrm>
              <a:off x="1727280" y="2705040"/>
              <a:ext cx="212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2641680" y="2019240"/>
              <a:ext cx="212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2641680" y="270504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2952720" y="2874960"/>
              <a:ext cx="96840" cy="103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9" name=""/>
          <p:cNvGrpSpPr/>
          <p:nvPr/>
        </p:nvGrpSpPr>
        <p:grpSpPr>
          <a:xfrm>
            <a:off x="716040" y="4245120"/>
            <a:ext cx="4849560" cy="1738080"/>
            <a:chOff x="716040" y="4245120"/>
            <a:chExt cx="4849560" cy="1738080"/>
          </a:xfrm>
        </p:grpSpPr>
        <p:grpSp>
          <p:nvGrpSpPr>
            <p:cNvPr id="1270" name=""/>
            <p:cNvGrpSpPr/>
            <p:nvPr/>
          </p:nvGrpSpPr>
          <p:grpSpPr>
            <a:xfrm>
              <a:off x="2241720" y="4359240"/>
              <a:ext cx="543960" cy="468000"/>
              <a:chOff x="2241720" y="4359240"/>
              <a:chExt cx="543960" cy="468000"/>
            </a:xfrm>
          </p:grpSpPr>
          <p:sp>
            <p:nvSpPr>
              <p:cNvPr id="1271" name=""/>
              <p:cNvSpPr/>
              <p:nvPr/>
            </p:nvSpPr>
            <p:spPr>
              <a:xfrm>
                <a:off x="2241720" y="4368960"/>
                <a:ext cx="0" cy="447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 flipH="1">
                <a:off x="2251080" y="4359240"/>
                <a:ext cx="295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H="1">
                <a:off x="2251080" y="4816440"/>
                <a:ext cx="295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2329200" y="4370400"/>
                <a:ext cx="4564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25" y="0"/>
                    </a:moveTo>
                    <a:arcTo wR="10800" hR="10800" stAng="-5423873" swAng="542387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25" y="0"/>
                    </a:moveTo>
                    <a:arcTo wR="10800" hR="10800" stAng="-5423873" swAng="5423873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rot="10800000">
                <a:off x="2328480" y="4370400"/>
                <a:ext cx="4572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" y="10350"/>
                    </a:moveTo>
                    <a:arcTo wR="10800" hR="10800" stAng="-10656844" swAng="523297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" y="10350"/>
                    </a:moveTo>
                    <a:arcTo wR="10800" hR="10800" stAng="-10656844" swAng="523297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6" name=""/>
            <p:cNvGrpSpPr/>
            <p:nvPr/>
          </p:nvGrpSpPr>
          <p:grpSpPr>
            <a:xfrm>
              <a:off x="3748320" y="4492800"/>
              <a:ext cx="152280" cy="456840"/>
              <a:chOff x="3748320" y="4492800"/>
              <a:chExt cx="152280" cy="456840"/>
            </a:xfrm>
          </p:grpSpPr>
          <p:sp>
            <p:nvSpPr>
              <p:cNvPr id="1277" name=""/>
              <p:cNvSpPr/>
              <p:nvPr/>
            </p:nvSpPr>
            <p:spPr>
              <a:xfrm>
                <a:off x="3748320" y="4492800"/>
                <a:ext cx="15192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75" y="2"/>
                    </a:moveTo>
                    <a:arcTo wR="10800" hR="10800" stAng="-5471610" swAng="54716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75" y="2"/>
                    </a:moveTo>
                    <a:arcTo wR="10800" hR="10800" stAng="-5471610" swAng="547161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rot="10800000">
                <a:off x="3748320" y="4492800"/>
                <a:ext cx="1522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" y="10350"/>
                    </a:moveTo>
                    <a:arcTo wR="10800" hR="10800" stAng="-10656844" swAng="518523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" y="10350"/>
                    </a:moveTo>
                    <a:arcTo wR="10800" hR="10800" stAng="-10656844" swAng="5185234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9" name=""/>
            <p:cNvSpPr/>
            <p:nvPr/>
          </p:nvSpPr>
          <p:spPr>
            <a:xfrm>
              <a:off x="3286440" y="4494240"/>
              <a:ext cx="1059840" cy="456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8" y="0"/>
                  </a:moveTo>
                  <a:arcTo wR="10800" hR="10800" stAng="-5410292" swAng="55299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8" y="0"/>
                  </a:moveTo>
                  <a:arcTo wR="10800" hR="10800" stAng="-5410292" swAng="5529968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rot="10800000">
              <a:off x="3292200" y="4492800"/>
              <a:ext cx="10638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" y="10350"/>
                  </a:moveTo>
                  <a:arcTo wR="10800" hR="10800" stAng="-10656844" swAng="5246581"/>
                  <a:lnTo>
                    <a:pt x="10800" y="10800"/>
                  </a:lnTo>
                  <a:close/>
                </a:path>
                <a:path fill="none" w="21600" h="21600">
                  <a:moveTo>
                    <a:pt x="9" y="10350"/>
                  </a:moveTo>
                  <a:arcTo wR="10800" hR="10800" stAng="-10656844" swAng="5246581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470480" y="4721400"/>
              <a:ext cx="646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2" name=""/>
            <p:cNvGrpSpPr/>
            <p:nvPr/>
          </p:nvGrpSpPr>
          <p:grpSpPr>
            <a:xfrm>
              <a:off x="3746520" y="5329080"/>
              <a:ext cx="151920" cy="456840"/>
              <a:chOff x="3746520" y="5329080"/>
              <a:chExt cx="151920" cy="456840"/>
            </a:xfrm>
          </p:grpSpPr>
          <p:sp>
            <p:nvSpPr>
              <p:cNvPr id="1283" name=""/>
              <p:cNvSpPr/>
              <p:nvPr/>
            </p:nvSpPr>
            <p:spPr>
              <a:xfrm>
                <a:off x="3746520" y="5329080"/>
                <a:ext cx="15192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75" y="2"/>
                    </a:moveTo>
                    <a:arcTo wR="10800" hR="10800" stAng="-5471610" swAng="547161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75" y="2"/>
                    </a:moveTo>
                    <a:arcTo wR="10800" hR="10800" stAng="-5471610" swAng="547161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rot="10800000">
                <a:off x="3746880" y="5329080"/>
                <a:ext cx="15156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" y="10350"/>
                    </a:moveTo>
                    <a:arcTo wR="10800" hR="10800" stAng="-10656844" swAng="518523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" y="10350"/>
                    </a:moveTo>
                    <a:arcTo wR="10800" hR="10800" stAng="-10656844" swAng="5185234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5" name=""/>
            <p:cNvSpPr/>
            <p:nvPr/>
          </p:nvSpPr>
          <p:spPr>
            <a:xfrm>
              <a:off x="3284640" y="5330880"/>
              <a:ext cx="1059840" cy="456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68" y="0"/>
                  </a:moveTo>
                  <a:arcTo wR="10800" hR="10800" stAng="-5410292" swAng="552996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68" y="0"/>
                  </a:moveTo>
                  <a:arcTo wR="10800" hR="10800" stAng="-5410292" swAng="5529968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 rot="10800000">
              <a:off x="3290760" y="5329080"/>
              <a:ext cx="10638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" y="10350"/>
                  </a:moveTo>
                  <a:arcTo wR="10800" hR="10800" stAng="-10656844" swAng="5246581"/>
                  <a:lnTo>
                    <a:pt x="10800" y="10800"/>
                  </a:lnTo>
                  <a:close/>
                </a:path>
                <a:path fill="none" w="21600" h="21600">
                  <a:moveTo>
                    <a:pt x="9" y="10350"/>
                  </a:moveTo>
                  <a:arcTo wR="10800" hR="10800" stAng="-10656844" swAng="5246581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438800" y="5557680"/>
              <a:ext cx="676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V="1">
              <a:off x="3660840" y="5248440"/>
              <a:ext cx="0" cy="14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V="1">
              <a:off x="3665520" y="4867200"/>
              <a:ext cx="981000" cy="37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 flipV="1">
              <a:off x="4651200" y="471456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>
              <a:off x="3679560" y="4862520"/>
              <a:ext cx="82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660840" y="487188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670200" y="5024520"/>
              <a:ext cx="981000" cy="371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651200" y="5405400"/>
              <a:ext cx="0" cy="14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3703680" y="4583160"/>
              <a:ext cx="633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 flipH="1">
              <a:off x="2892600" y="4584600"/>
              <a:ext cx="8632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901960" y="5684760"/>
              <a:ext cx="8730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3695760" y="5684760"/>
              <a:ext cx="903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108400" y="4481640"/>
              <a:ext cx="381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108400" y="531972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/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762360" y="4530600"/>
              <a:ext cx="96840" cy="103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3763800" y="4794120"/>
              <a:ext cx="96840" cy="103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3" name=""/>
            <p:cNvGrpSpPr/>
            <p:nvPr/>
          </p:nvGrpSpPr>
          <p:grpSpPr>
            <a:xfrm>
              <a:off x="3762360" y="5365800"/>
              <a:ext cx="98280" cy="366840"/>
              <a:chOff x="3762360" y="5365800"/>
              <a:chExt cx="98280" cy="366840"/>
            </a:xfrm>
          </p:grpSpPr>
          <p:sp>
            <p:nvSpPr>
              <p:cNvPr id="1304" name=""/>
              <p:cNvSpPr/>
              <p:nvPr/>
            </p:nvSpPr>
            <p:spPr>
              <a:xfrm>
                <a:off x="3762360" y="5365800"/>
                <a:ext cx="96840" cy="1029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763800" y="5629320"/>
                <a:ext cx="96840" cy="103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6" name=""/>
            <p:cNvSpPr/>
            <p:nvPr/>
          </p:nvSpPr>
          <p:spPr>
            <a:xfrm flipH="1">
              <a:off x="3673080" y="5423040"/>
              <a:ext cx="9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666960" y="5396040"/>
              <a:ext cx="19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666960" y="5396040"/>
              <a:ext cx="19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664080" y="5337000"/>
              <a:ext cx="0" cy="8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>
              <a:off x="4355640" y="4721400"/>
              <a:ext cx="142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H="1">
              <a:off x="4341960" y="5559480"/>
              <a:ext cx="142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793960" y="5635800"/>
              <a:ext cx="96840" cy="1029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789280" y="4533840"/>
              <a:ext cx="96840" cy="103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4" name=""/>
            <p:cNvGrpSpPr/>
            <p:nvPr/>
          </p:nvGrpSpPr>
          <p:grpSpPr>
            <a:xfrm>
              <a:off x="2249640" y="5456160"/>
              <a:ext cx="543960" cy="468000"/>
              <a:chOff x="2249640" y="5456160"/>
              <a:chExt cx="543960" cy="468000"/>
            </a:xfrm>
          </p:grpSpPr>
          <p:sp>
            <p:nvSpPr>
              <p:cNvPr id="1315" name=""/>
              <p:cNvSpPr/>
              <p:nvPr/>
            </p:nvSpPr>
            <p:spPr>
              <a:xfrm>
                <a:off x="2249640" y="5465880"/>
                <a:ext cx="0" cy="447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flipH="1">
                <a:off x="2259000" y="5456160"/>
                <a:ext cx="295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H="1">
                <a:off x="2259000" y="5913360"/>
                <a:ext cx="295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2337120" y="5467320"/>
                <a:ext cx="45648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25" y="0"/>
                    </a:moveTo>
                    <a:arcTo wR="10800" hR="10800" stAng="-5423873" swAng="542387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25" y="0"/>
                    </a:moveTo>
                    <a:arcTo wR="10800" hR="10800" stAng="-5423873" swAng="5423873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rot="10800000">
                <a:off x="2336400" y="5467320"/>
                <a:ext cx="4572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" y="10350"/>
                    </a:moveTo>
                    <a:arcTo wR="10800" hR="10800" stAng="-10656844" swAng="523297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" y="10350"/>
                    </a:moveTo>
                    <a:arcTo wR="10800" hR="10800" stAng="-10656844" swAng="523297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0" name=""/>
            <p:cNvSpPr/>
            <p:nvPr/>
          </p:nvSpPr>
          <p:spPr>
            <a:xfrm flipH="1">
              <a:off x="2082600" y="4737240"/>
              <a:ext cx="15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073240" y="4746600"/>
              <a:ext cx="0" cy="798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082960" y="5545080"/>
              <a:ext cx="161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 flipH="1">
              <a:off x="1754280" y="5148360"/>
              <a:ext cx="318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H="1">
              <a:off x="1734840" y="4440240"/>
              <a:ext cx="501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H="1">
              <a:off x="1881360" y="5834160"/>
              <a:ext cx="352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26" name=""/>
            <p:cNvGrpSpPr/>
            <p:nvPr/>
          </p:nvGrpSpPr>
          <p:grpSpPr>
            <a:xfrm>
              <a:off x="1488960" y="5680080"/>
              <a:ext cx="379440" cy="303120"/>
              <a:chOff x="1488960" y="5680080"/>
              <a:chExt cx="379440" cy="303120"/>
            </a:xfrm>
          </p:grpSpPr>
          <p:sp>
            <p:nvSpPr>
              <p:cNvPr id="1327" name=""/>
              <p:cNvSpPr/>
              <p:nvPr/>
            </p:nvSpPr>
            <p:spPr>
              <a:xfrm>
                <a:off x="1771560" y="5776920"/>
                <a:ext cx="96840" cy="103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 flipH="1" flipV="1">
                <a:off x="1492200" y="5680080"/>
                <a:ext cx="270000" cy="147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flipH="1">
                <a:off x="1492200" y="5835600"/>
                <a:ext cx="270000" cy="147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1488960" y="5686560"/>
                <a:ext cx="0" cy="293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1" name=""/>
            <p:cNvSpPr/>
            <p:nvPr/>
          </p:nvSpPr>
          <p:spPr>
            <a:xfrm flipH="1">
              <a:off x="1233000" y="5830920"/>
              <a:ext cx="250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H="1">
              <a:off x="1053720" y="5149800"/>
              <a:ext cx="69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 flipH="1">
              <a:off x="1063800" y="4440240"/>
              <a:ext cx="69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V="1">
              <a:off x="1235160" y="4452840"/>
              <a:ext cx="0" cy="137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39800" y="4245120"/>
              <a:ext cx="361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16040" y="4919760"/>
              <a:ext cx="430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7" name=""/>
          <p:cNvSpPr/>
          <p:nvPr/>
        </p:nvSpPr>
        <p:spPr>
          <a:xfrm>
            <a:off x="5319720" y="1547640"/>
            <a:ext cx="3432240" cy="1895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330880" y="2006640"/>
            <a:ext cx="3267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921360" y="1558800"/>
            <a:ext cx="0" cy="1895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473800" y="1625760"/>
            <a:ext cx="558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6324480" y="1625760"/>
            <a:ext cx="444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7074000" y="1625760"/>
            <a:ext cx="38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7988400" y="162576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5473800" y="2006640"/>
            <a:ext cx="533160" cy="13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6388200" y="2006640"/>
            <a:ext cx="533160" cy="13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997680" y="2006640"/>
            <a:ext cx="121932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759800" y="2006640"/>
            <a:ext cx="121896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 /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622840" y="3657600"/>
            <a:ext cx="3125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cteristic Equ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(t+1) =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e a data bit, not set/re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“Transparent” l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illegal operation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94AAB-FF19-493F-A6DE-51AD4415A075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of Combinational Logic Conce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Sequential Logi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-stable Logic Elements and Metas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asic Sequential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lip-flops: Type, Function, and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haracteristic Eq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locked Synchronous State Machine (CSS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sis of State Mach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5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 structure, Analysis proced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5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SSM Models: Mealy Vs. Mo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s of Re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5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 tables and dia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5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ing Setup Time, Hold Times, and Maximum clock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1" name=""/>
          <p:cNvGrpSpPr/>
          <p:nvPr/>
        </p:nvGrpSpPr>
        <p:grpSpPr>
          <a:xfrm>
            <a:off x="6400800" y="1981080"/>
            <a:ext cx="1969200" cy="2820960"/>
            <a:chOff x="6400800" y="1981080"/>
            <a:chExt cx="1969200" cy="2820960"/>
          </a:xfrm>
        </p:grpSpPr>
        <p:grpSp>
          <p:nvGrpSpPr>
            <p:cNvPr id="1352" name=""/>
            <p:cNvGrpSpPr/>
            <p:nvPr/>
          </p:nvGrpSpPr>
          <p:grpSpPr>
            <a:xfrm>
              <a:off x="6400800" y="1981080"/>
              <a:ext cx="1069560" cy="1380960"/>
              <a:chOff x="6400800" y="1981080"/>
              <a:chExt cx="1069560" cy="1380960"/>
            </a:xfrm>
          </p:grpSpPr>
          <p:sp>
            <p:nvSpPr>
              <p:cNvPr id="1353" name=""/>
              <p:cNvSpPr/>
              <p:nvPr/>
            </p:nvSpPr>
            <p:spPr>
              <a:xfrm>
                <a:off x="6400800" y="1981080"/>
                <a:ext cx="1069560" cy="1380960"/>
              </a:xfrm>
              <a:custGeom>
                <a:avLst/>
                <a:gdLst/>
                <a:ahLst/>
                <a:rect l="l" t="t" r="r" b="b"/>
                <a:pathLst>
                  <a:path w="674" h="870">
                    <a:moveTo>
                      <a:pt x="664" y="182"/>
                    </a:moveTo>
                    <a:lnTo>
                      <a:pt x="668" y="114"/>
                    </a:lnTo>
                    <a:lnTo>
                      <a:pt x="635" y="51"/>
                    </a:lnTo>
                    <a:lnTo>
                      <a:pt x="571" y="0"/>
                    </a:lnTo>
                    <a:lnTo>
                      <a:pt x="474" y="22"/>
                    </a:lnTo>
                    <a:lnTo>
                      <a:pt x="389" y="80"/>
                    </a:lnTo>
                    <a:lnTo>
                      <a:pt x="283" y="127"/>
                    </a:lnTo>
                    <a:lnTo>
                      <a:pt x="169" y="174"/>
                    </a:lnTo>
                    <a:lnTo>
                      <a:pt x="63" y="238"/>
                    </a:lnTo>
                    <a:lnTo>
                      <a:pt x="0" y="297"/>
                    </a:lnTo>
                    <a:lnTo>
                      <a:pt x="13" y="314"/>
                    </a:lnTo>
                    <a:lnTo>
                      <a:pt x="131" y="424"/>
                    </a:lnTo>
                    <a:lnTo>
                      <a:pt x="173" y="483"/>
                    </a:lnTo>
                    <a:lnTo>
                      <a:pt x="182" y="539"/>
                    </a:lnTo>
                    <a:lnTo>
                      <a:pt x="186" y="611"/>
                    </a:lnTo>
                    <a:lnTo>
                      <a:pt x="194" y="704"/>
                    </a:lnTo>
                    <a:lnTo>
                      <a:pt x="216" y="802"/>
                    </a:lnTo>
                    <a:lnTo>
                      <a:pt x="249" y="856"/>
                    </a:lnTo>
                    <a:lnTo>
                      <a:pt x="283" y="869"/>
                    </a:lnTo>
                    <a:lnTo>
                      <a:pt x="321" y="840"/>
                    </a:lnTo>
                    <a:lnTo>
                      <a:pt x="385" y="802"/>
                    </a:lnTo>
                    <a:lnTo>
                      <a:pt x="452" y="759"/>
                    </a:lnTo>
                    <a:lnTo>
                      <a:pt x="528" y="729"/>
                    </a:lnTo>
                    <a:lnTo>
                      <a:pt x="597" y="720"/>
                    </a:lnTo>
                    <a:lnTo>
                      <a:pt x="630" y="666"/>
                    </a:lnTo>
                    <a:lnTo>
                      <a:pt x="655" y="585"/>
                    </a:lnTo>
                    <a:lnTo>
                      <a:pt x="673" y="454"/>
                    </a:lnTo>
                    <a:lnTo>
                      <a:pt x="668" y="339"/>
                    </a:lnTo>
                    <a:lnTo>
                      <a:pt x="660" y="272"/>
                    </a:lnTo>
                    <a:lnTo>
                      <a:pt x="630" y="272"/>
                    </a:lnTo>
                    <a:lnTo>
                      <a:pt x="635" y="386"/>
                    </a:lnTo>
                    <a:lnTo>
                      <a:pt x="635" y="509"/>
                    </a:lnTo>
                    <a:lnTo>
                      <a:pt x="617" y="581"/>
                    </a:lnTo>
                    <a:lnTo>
                      <a:pt x="588" y="666"/>
                    </a:lnTo>
                    <a:lnTo>
                      <a:pt x="521" y="700"/>
                    </a:lnTo>
                    <a:lnTo>
                      <a:pt x="427" y="725"/>
                    </a:lnTo>
                    <a:lnTo>
                      <a:pt x="351" y="767"/>
                    </a:lnTo>
                    <a:lnTo>
                      <a:pt x="279" y="818"/>
                    </a:lnTo>
                    <a:lnTo>
                      <a:pt x="249" y="784"/>
                    </a:lnTo>
                    <a:lnTo>
                      <a:pt x="232" y="713"/>
                    </a:lnTo>
                    <a:lnTo>
                      <a:pt x="224" y="619"/>
                    </a:lnTo>
                    <a:lnTo>
                      <a:pt x="216" y="521"/>
                    </a:lnTo>
                    <a:lnTo>
                      <a:pt x="186" y="437"/>
                    </a:lnTo>
                    <a:lnTo>
                      <a:pt x="102" y="348"/>
                    </a:lnTo>
                    <a:lnTo>
                      <a:pt x="63" y="301"/>
                    </a:lnTo>
                    <a:lnTo>
                      <a:pt x="67" y="284"/>
                    </a:lnTo>
                    <a:lnTo>
                      <a:pt x="173" y="212"/>
                    </a:lnTo>
                    <a:lnTo>
                      <a:pt x="279" y="165"/>
                    </a:lnTo>
                    <a:lnTo>
                      <a:pt x="368" y="123"/>
                    </a:lnTo>
                    <a:lnTo>
                      <a:pt x="423" y="98"/>
                    </a:lnTo>
                    <a:lnTo>
                      <a:pt x="478" y="64"/>
                    </a:lnTo>
                    <a:lnTo>
                      <a:pt x="512" y="47"/>
                    </a:lnTo>
                    <a:lnTo>
                      <a:pt x="567" y="42"/>
                    </a:lnTo>
                    <a:lnTo>
                      <a:pt x="601" y="72"/>
                    </a:lnTo>
                    <a:lnTo>
                      <a:pt x="626" y="119"/>
                    </a:lnTo>
                    <a:lnTo>
                      <a:pt x="626" y="161"/>
                    </a:lnTo>
                    <a:lnTo>
                      <a:pt x="630" y="203"/>
                    </a:lnTo>
                    <a:lnTo>
                      <a:pt x="664" y="18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6903720" y="2403360"/>
                <a:ext cx="337680" cy="495360"/>
              </a:xfrm>
              <a:custGeom>
                <a:avLst/>
                <a:gdLst/>
                <a:ahLst/>
                <a:rect l="l" t="t" r="r" b="b"/>
                <a:pathLst>
                  <a:path w="213" h="312">
                    <a:moveTo>
                      <a:pt x="187" y="86"/>
                    </a:moveTo>
                    <a:lnTo>
                      <a:pt x="140" y="35"/>
                    </a:lnTo>
                    <a:lnTo>
                      <a:pt x="64" y="0"/>
                    </a:lnTo>
                    <a:lnTo>
                      <a:pt x="26" y="69"/>
                    </a:lnTo>
                    <a:lnTo>
                      <a:pt x="0" y="158"/>
                    </a:lnTo>
                    <a:lnTo>
                      <a:pt x="60" y="311"/>
                    </a:lnTo>
                    <a:lnTo>
                      <a:pt x="136" y="306"/>
                    </a:lnTo>
                    <a:lnTo>
                      <a:pt x="212" y="255"/>
                    </a:lnTo>
                    <a:lnTo>
                      <a:pt x="212" y="124"/>
                    </a:lnTo>
                    <a:lnTo>
                      <a:pt x="191" y="120"/>
                    </a:lnTo>
                    <a:lnTo>
                      <a:pt x="174" y="141"/>
                    </a:lnTo>
                    <a:lnTo>
                      <a:pt x="178" y="243"/>
                    </a:lnTo>
                    <a:lnTo>
                      <a:pt x="127" y="281"/>
                    </a:lnTo>
                    <a:lnTo>
                      <a:pt x="69" y="272"/>
                    </a:lnTo>
                    <a:lnTo>
                      <a:pt x="35" y="162"/>
                    </a:lnTo>
                    <a:lnTo>
                      <a:pt x="82" y="162"/>
                    </a:lnTo>
                    <a:lnTo>
                      <a:pt x="140" y="133"/>
                    </a:lnTo>
                    <a:lnTo>
                      <a:pt x="136" y="124"/>
                    </a:lnTo>
                    <a:lnTo>
                      <a:pt x="64" y="141"/>
                    </a:lnTo>
                    <a:lnTo>
                      <a:pt x="26" y="136"/>
                    </a:lnTo>
                    <a:lnTo>
                      <a:pt x="73" y="31"/>
                    </a:lnTo>
                    <a:lnTo>
                      <a:pt x="124" y="64"/>
                    </a:lnTo>
                    <a:lnTo>
                      <a:pt x="170" y="115"/>
                    </a:lnTo>
                    <a:lnTo>
                      <a:pt x="187" y="8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5" name=""/>
            <p:cNvGrpSpPr/>
            <p:nvPr/>
          </p:nvGrpSpPr>
          <p:grpSpPr>
            <a:xfrm>
              <a:off x="6568920" y="2136600"/>
              <a:ext cx="1801080" cy="2665440"/>
              <a:chOff x="6568920" y="2136600"/>
              <a:chExt cx="1801080" cy="2665440"/>
            </a:xfrm>
          </p:grpSpPr>
          <p:sp>
            <p:nvSpPr>
              <p:cNvPr id="1356" name=""/>
              <p:cNvSpPr/>
              <p:nvPr/>
            </p:nvSpPr>
            <p:spPr>
              <a:xfrm>
                <a:off x="6568920" y="2593800"/>
                <a:ext cx="1452240" cy="492120"/>
              </a:xfrm>
              <a:custGeom>
                <a:avLst/>
                <a:gdLst/>
                <a:ahLst/>
                <a:rect l="l" t="t" r="r" b="b"/>
                <a:pathLst>
                  <a:path w="915" h="310">
                    <a:moveTo>
                      <a:pt x="914" y="241"/>
                    </a:moveTo>
                    <a:lnTo>
                      <a:pt x="893" y="216"/>
                    </a:lnTo>
                    <a:lnTo>
                      <a:pt x="846" y="207"/>
                    </a:lnTo>
                    <a:lnTo>
                      <a:pt x="698" y="237"/>
                    </a:lnTo>
                    <a:lnTo>
                      <a:pt x="554" y="263"/>
                    </a:lnTo>
                    <a:lnTo>
                      <a:pt x="376" y="258"/>
                    </a:lnTo>
                    <a:lnTo>
                      <a:pt x="211" y="224"/>
                    </a:lnTo>
                    <a:lnTo>
                      <a:pt x="110" y="165"/>
                    </a:lnTo>
                    <a:lnTo>
                      <a:pt x="123" y="118"/>
                    </a:lnTo>
                    <a:lnTo>
                      <a:pt x="105" y="54"/>
                    </a:lnTo>
                    <a:lnTo>
                      <a:pt x="67" y="21"/>
                    </a:lnTo>
                    <a:lnTo>
                      <a:pt x="25" y="0"/>
                    </a:lnTo>
                    <a:lnTo>
                      <a:pt x="8" y="46"/>
                    </a:lnTo>
                    <a:lnTo>
                      <a:pt x="0" y="92"/>
                    </a:lnTo>
                    <a:lnTo>
                      <a:pt x="17" y="181"/>
                    </a:lnTo>
                    <a:lnTo>
                      <a:pt x="59" y="207"/>
                    </a:lnTo>
                    <a:lnTo>
                      <a:pt x="161" y="241"/>
                    </a:lnTo>
                    <a:lnTo>
                      <a:pt x="270" y="270"/>
                    </a:lnTo>
                    <a:lnTo>
                      <a:pt x="453" y="305"/>
                    </a:lnTo>
                    <a:lnTo>
                      <a:pt x="622" y="309"/>
                    </a:lnTo>
                    <a:lnTo>
                      <a:pt x="851" y="288"/>
                    </a:lnTo>
                    <a:lnTo>
                      <a:pt x="914" y="241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347960" y="2243160"/>
                <a:ext cx="786960" cy="701640"/>
              </a:xfrm>
              <a:custGeom>
                <a:avLst/>
                <a:gdLst/>
                <a:ahLst/>
                <a:rect l="l" t="t" r="r" b="b"/>
                <a:pathLst>
                  <a:path w="496" h="442">
                    <a:moveTo>
                      <a:pt x="482" y="441"/>
                    </a:moveTo>
                    <a:lnTo>
                      <a:pt x="495" y="399"/>
                    </a:lnTo>
                    <a:lnTo>
                      <a:pt x="469" y="361"/>
                    </a:lnTo>
                    <a:lnTo>
                      <a:pt x="385" y="327"/>
                    </a:lnTo>
                    <a:lnTo>
                      <a:pt x="287" y="318"/>
                    </a:lnTo>
                    <a:lnTo>
                      <a:pt x="220" y="297"/>
                    </a:lnTo>
                    <a:lnTo>
                      <a:pt x="177" y="259"/>
                    </a:lnTo>
                    <a:lnTo>
                      <a:pt x="131" y="174"/>
                    </a:lnTo>
                    <a:lnTo>
                      <a:pt x="93" y="81"/>
                    </a:lnTo>
                    <a:lnTo>
                      <a:pt x="93" y="34"/>
                    </a:lnTo>
                    <a:lnTo>
                      <a:pt x="71" y="9"/>
                    </a:lnTo>
                    <a:lnTo>
                      <a:pt x="42" y="0"/>
                    </a:lnTo>
                    <a:lnTo>
                      <a:pt x="12" y="22"/>
                    </a:lnTo>
                    <a:lnTo>
                      <a:pt x="0" y="68"/>
                    </a:lnTo>
                    <a:lnTo>
                      <a:pt x="4" y="127"/>
                    </a:lnTo>
                    <a:lnTo>
                      <a:pt x="20" y="170"/>
                    </a:lnTo>
                    <a:lnTo>
                      <a:pt x="38" y="170"/>
                    </a:lnTo>
                    <a:lnTo>
                      <a:pt x="46" y="153"/>
                    </a:lnTo>
                    <a:lnTo>
                      <a:pt x="71" y="149"/>
                    </a:lnTo>
                    <a:lnTo>
                      <a:pt x="118" y="212"/>
                    </a:lnTo>
                    <a:lnTo>
                      <a:pt x="173" y="310"/>
                    </a:lnTo>
                    <a:lnTo>
                      <a:pt x="211" y="352"/>
                    </a:lnTo>
                    <a:lnTo>
                      <a:pt x="287" y="377"/>
                    </a:lnTo>
                    <a:lnTo>
                      <a:pt x="376" y="403"/>
                    </a:lnTo>
                    <a:lnTo>
                      <a:pt x="435" y="424"/>
                    </a:lnTo>
                    <a:lnTo>
                      <a:pt x="482" y="441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7636680" y="2841480"/>
                <a:ext cx="598320" cy="1036800"/>
              </a:xfrm>
              <a:custGeom>
                <a:avLst/>
                <a:gdLst/>
                <a:ahLst/>
                <a:rect l="l" t="t" r="r" b="b"/>
                <a:pathLst>
                  <a:path w="377" h="653">
                    <a:moveTo>
                      <a:pt x="376" y="85"/>
                    </a:moveTo>
                    <a:lnTo>
                      <a:pt x="356" y="34"/>
                    </a:lnTo>
                    <a:lnTo>
                      <a:pt x="326" y="0"/>
                    </a:lnTo>
                    <a:lnTo>
                      <a:pt x="250" y="0"/>
                    </a:lnTo>
                    <a:lnTo>
                      <a:pt x="173" y="34"/>
                    </a:lnTo>
                    <a:lnTo>
                      <a:pt x="84" y="131"/>
                    </a:lnTo>
                    <a:lnTo>
                      <a:pt x="38" y="208"/>
                    </a:lnTo>
                    <a:lnTo>
                      <a:pt x="8" y="313"/>
                    </a:lnTo>
                    <a:lnTo>
                      <a:pt x="0" y="436"/>
                    </a:lnTo>
                    <a:lnTo>
                      <a:pt x="17" y="568"/>
                    </a:lnTo>
                    <a:lnTo>
                      <a:pt x="59" y="632"/>
                    </a:lnTo>
                    <a:lnTo>
                      <a:pt x="135" y="652"/>
                    </a:lnTo>
                    <a:lnTo>
                      <a:pt x="182" y="649"/>
                    </a:lnTo>
                    <a:lnTo>
                      <a:pt x="220" y="627"/>
                    </a:lnTo>
                    <a:lnTo>
                      <a:pt x="254" y="598"/>
                    </a:lnTo>
                    <a:lnTo>
                      <a:pt x="267" y="547"/>
                    </a:lnTo>
                    <a:lnTo>
                      <a:pt x="258" y="496"/>
                    </a:lnTo>
                    <a:lnTo>
                      <a:pt x="229" y="466"/>
                    </a:lnTo>
                    <a:lnTo>
                      <a:pt x="208" y="433"/>
                    </a:lnTo>
                    <a:lnTo>
                      <a:pt x="199" y="390"/>
                    </a:lnTo>
                    <a:lnTo>
                      <a:pt x="199" y="352"/>
                    </a:lnTo>
                    <a:lnTo>
                      <a:pt x="216" y="318"/>
                    </a:lnTo>
                    <a:lnTo>
                      <a:pt x="275" y="259"/>
                    </a:lnTo>
                    <a:lnTo>
                      <a:pt x="347" y="191"/>
                    </a:lnTo>
                    <a:lnTo>
                      <a:pt x="373" y="135"/>
                    </a:lnTo>
                    <a:lnTo>
                      <a:pt x="376" y="8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7757640" y="2136600"/>
                <a:ext cx="612360" cy="546120"/>
              </a:xfrm>
              <a:custGeom>
                <a:avLst/>
                <a:gdLst/>
                <a:ahLst/>
                <a:rect l="l" t="t" r="r" b="b"/>
                <a:pathLst>
                  <a:path w="386" h="344">
                    <a:moveTo>
                      <a:pt x="102" y="186"/>
                    </a:moveTo>
                    <a:lnTo>
                      <a:pt x="131" y="127"/>
                    </a:lnTo>
                    <a:lnTo>
                      <a:pt x="186" y="55"/>
                    </a:lnTo>
                    <a:lnTo>
                      <a:pt x="237" y="8"/>
                    </a:lnTo>
                    <a:lnTo>
                      <a:pt x="297" y="0"/>
                    </a:lnTo>
                    <a:lnTo>
                      <a:pt x="347" y="17"/>
                    </a:lnTo>
                    <a:lnTo>
                      <a:pt x="381" y="59"/>
                    </a:lnTo>
                    <a:lnTo>
                      <a:pt x="385" y="118"/>
                    </a:lnTo>
                    <a:lnTo>
                      <a:pt x="360" y="203"/>
                    </a:lnTo>
                    <a:lnTo>
                      <a:pt x="297" y="283"/>
                    </a:lnTo>
                    <a:lnTo>
                      <a:pt x="224" y="339"/>
                    </a:lnTo>
                    <a:lnTo>
                      <a:pt x="157" y="343"/>
                    </a:lnTo>
                    <a:lnTo>
                      <a:pt x="115" y="326"/>
                    </a:lnTo>
                    <a:lnTo>
                      <a:pt x="106" y="301"/>
                    </a:lnTo>
                    <a:lnTo>
                      <a:pt x="102" y="263"/>
                    </a:lnTo>
                    <a:lnTo>
                      <a:pt x="51" y="271"/>
                    </a:lnTo>
                    <a:lnTo>
                      <a:pt x="17" y="288"/>
                    </a:lnTo>
                    <a:lnTo>
                      <a:pt x="0" y="263"/>
                    </a:lnTo>
                    <a:lnTo>
                      <a:pt x="17" y="245"/>
                    </a:lnTo>
                    <a:lnTo>
                      <a:pt x="72" y="225"/>
                    </a:lnTo>
                    <a:lnTo>
                      <a:pt x="106" y="212"/>
                    </a:lnTo>
                    <a:lnTo>
                      <a:pt x="102" y="18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7717680" y="3703680"/>
                <a:ext cx="375840" cy="1023840"/>
              </a:xfrm>
              <a:custGeom>
                <a:avLst/>
                <a:gdLst/>
                <a:ahLst/>
                <a:rect l="l" t="t" r="r" b="b"/>
                <a:pathLst>
                  <a:path w="237" h="645">
                    <a:moveTo>
                      <a:pt x="178" y="0"/>
                    </a:moveTo>
                    <a:lnTo>
                      <a:pt x="135" y="4"/>
                    </a:lnTo>
                    <a:lnTo>
                      <a:pt x="105" y="59"/>
                    </a:lnTo>
                    <a:lnTo>
                      <a:pt x="114" y="115"/>
                    </a:lnTo>
                    <a:lnTo>
                      <a:pt x="127" y="229"/>
                    </a:lnTo>
                    <a:lnTo>
                      <a:pt x="122" y="301"/>
                    </a:lnTo>
                    <a:lnTo>
                      <a:pt x="127" y="373"/>
                    </a:lnTo>
                    <a:lnTo>
                      <a:pt x="160" y="521"/>
                    </a:lnTo>
                    <a:lnTo>
                      <a:pt x="169" y="559"/>
                    </a:lnTo>
                    <a:lnTo>
                      <a:pt x="160" y="568"/>
                    </a:lnTo>
                    <a:lnTo>
                      <a:pt x="114" y="543"/>
                    </a:lnTo>
                    <a:lnTo>
                      <a:pt x="38" y="530"/>
                    </a:lnTo>
                    <a:lnTo>
                      <a:pt x="0" y="547"/>
                    </a:lnTo>
                    <a:lnTo>
                      <a:pt x="4" y="576"/>
                    </a:lnTo>
                    <a:lnTo>
                      <a:pt x="55" y="589"/>
                    </a:lnTo>
                    <a:lnTo>
                      <a:pt x="114" y="594"/>
                    </a:lnTo>
                    <a:lnTo>
                      <a:pt x="173" y="619"/>
                    </a:lnTo>
                    <a:lnTo>
                      <a:pt x="219" y="644"/>
                    </a:lnTo>
                    <a:lnTo>
                      <a:pt x="236" y="632"/>
                    </a:lnTo>
                    <a:lnTo>
                      <a:pt x="236" y="589"/>
                    </a:lnTo>
                    <a:lnTo>
                      <a:pt x="203" y="509"/>
                    </a:lnTo>
                    <a:lnTo>
                      <a:pt x="185" y="415"/>
                    </a:lnTo>
                    <a:lnTo>
                      <a:pt x="178" y="284"/>
                    </a:lnTo>
                    <a:lnTo>
                      <a:pt x="194" y="166"/>
                    </a:lnTo>
                    <a:lnTo>
                      <a:pt x="211" y="72"/>
                    </a:lnTo>
                    <a:lnTo>
                      <a:pt x="194" y="0"/>
                    </a:lnTo>
                    <a:lnTo>
                      <a:pt x="178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7281360" y="3609720"/>
                <a:ext cx="605880" cy="1192320"/>
              </a:xfrm>
              <a:custGeom>
                <a:avLst/>
                <a:gdLst/>
                <a:ahLst/>
                <a:rect l="l" t="t" r="r" b="b"/>
                <a:pathLst>
                  <a:path w="382" h="751">
                    <a:moveTo>
                      <a:pt x="300" y="8"/>
                    </a:moveTo>
                    <a:lnTo>
                      <a:pt x="359" y="0"/>
                    </a:lnTo>
                    <a:lnTo>
                      <a:pt x="381" y="42"/>
                    </a:lnTo>
                    <a:lnTo>
                      <a:pt x="359" y="92"/>
                    </a:lnTo>
                    <a:lnTo>
                      <a:pt x="300" y="177"/>
                    </a:lnTo>
                    <a:lnTo>
                      <a:pt x="254" y="301"/>
                    </a:lnTo>
                    <a:lnTo>
                      <a:pt x="237" y="402"/>
                    </a:lnTo>
                    <a:lnTo>
                      <a:pt x="245" y="508"/>
                    </a:lnTo>
                    <a:lnTo>
                      <a:pt x="262" y="644"/>
                    </a:lnTo>
                    <a:lnTo>
                      <a:pt x="279" y="720"/>
                    </a:lnTo>
                    <a:lnTo>
                      <a:pt x="270" y="750"/>
                    </a:lnTo>
                    <a:lnTo>
                      <a:pt x="241" y="750"/>
                    </a:lnTo>
                    <a:lnTo>
                      <a:pt x="186" y="724"/>
                    </a:lnTo>
                    <a:lnTo>
                      <a:pt x="101" y="707"/>
                    </a:lnTo>
                    <a:lnTo>
                      <a:pt x="12" y="707"/>
                    </a:lnTo>
                    <a:lnTo>
                      <a:pt x="0" y="682"/>
                    </a:lnTo>
                    <a:lnTo>
                      <a:pt x="50" y="648"/>
                    </a:lnTo>
                    <a:lnTo>
                      <a:pt x="76" y="648"/>
                    </a:lnTo>
                    <a:lnTo>
                      <a:pt x="186" y="682"/>
                    </a:lnTo>
                    <a:lnTo>
                      <a:pt x="219" y="695"/>
                    </a:lnTo>
                    <a:lnTo>
                      <a:pt x="228" y="678"/>
                    </a:lnTo>
                    <a:lnTo>
                      <a:pt x="212" y="568"/>
                    </a:lnTo>
                    <a:lnTo>
                      <a:pt x="190" y="449"/>
                    </a:lnTo>
                    <a:lnTo>
                      <a:pt x="186" y="343"/>
                    </a:lnTo>
                    <a:lnTo>
                      <a:pt x="203" y="237"/>
                    </a:lnTo>
                    <a:lnTo>
                      <a:pt x="232" y="114"/>
                    </a:lnTo>
                    <a:lnTo>
                      <a:pt x="266" y="21"/>
                    </a:lnTo>
                    <a:lnTo>
                      <a:pt x="300" y="8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62" name=""/>
          <p:cNvSpPr/>
          <p:nvPr/>
        </p:nvSpPr>
        <p:spPr>
          <a:xfrm>
            <a:off x="228600" y="2362320"/>
            <a:ext cx="304920" cy="228600"/>
          </a:xfrm>
          <a:prstGeom prst="rightArrow">
            <a:avLst>
              <a:gd name="adj1" fmla="val 50000"/>
              <a:gd name="adj2" fmla="val 66748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F95DD-82BB-44C5-A582-CC16C0D4851F}" type="slidenum">
              <a:t>34</a:t>
            </a:fld>
          </a:p>
        </p:txBody>
      </p:sp>
    </p:spTree>
  </p:cSld>
  <p:transition spd="med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Sequential Log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en-US" sz="2000" spc="-1" strike="noStrike">
                <a:solidFill>
                  <a:srgbClr val="969696"/>
                </a:solidFill>
                <a:latin typeface="Times New Roman"/>
              </a:rPr>
              <a:t>Asynchronous Sequential Circu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ses ordinary gates and feedback loops to implement “memory” in a logic circu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eting minimum pulse width requirements may be trick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000" spc="-1" strike="noStrike">
                <a:solidFill>
                  <a:srgbClr val="969696"/>
                </a:solidFill>
                <a:latin typeface="Times New Roman"/>
              </a:rPr>
              <a:t>Synchronous Sequential Circu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ses flip-flops (internally, an asynchronous sequential device) to form useful sequential logic functions or application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tate variables and outputs of a synchronous system change with respect to a controlling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lo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eting minimum pulse width requirements is simplified by restating all timing constraints in terms of the clock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2751F-DAA1-4509-A651-9FF4D09BE22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tial Logic Defin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Times New Roman"/>
              </a:rPr>
              <a:t>Clo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the master timing element behind the state changes of most sequential circui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lock signal i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ctive hig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f the state changes occur at the rising edge (for edge triggered devices) or in the logic 1 state (for pulse-triggered devic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ctive l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f state changes occur at the falling edge or in the logic 0 sta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Times New Roman"/>
              </a:rPr>
              <a:t>Clock Peri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time between successive transitions in the same dir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Times New Roman"/>
              </a:rPr>
              <a:t>Clock Frequen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reciprocal of the clock peri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Times New Roman"/>
              </a:rPr>
              <a:t>Clock Ti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the first edge or pulse in a clock period, or the period its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69696"/>
                </a:solidFill>
                <a:latin typeface="Times New Roman"/>
              </a:rPr>
              <a:t>Duty Cyc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the percentage of time that a clock is at its assertion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BCB98-9A8F-4596-A1C3-CE868617533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"/>
          <p:cNvSpPr/>
          <p:nvPr/>
        </p:nvSpPr>
        <p:spPr>
          <a:xfrm>
            <a:off x="3581280" y="3200400"/>
            <a:ext cx="990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Peri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8" name=""/>
          <p:cNvGrpSpPr/>
          <p:nvPr/>
        </p:nvGrpSpPr>
        <p:grpSpPr>
          <a:xfrm>
            <a:off x="2203560" y="1911240"/>
            <a:ext cx="5022720" cy="1649520"/>
            <a:chOff x="2203560" y="1911240"/>
            <a:chExt cx="5022720" cy="1649520"/>
          </a:xfrm>
        </p:grpSpPr>
        <p:sp>
          <p:nvSpPr>
            <p:cNvPr id="1369" name=""/>
            <p:cNvSpPr/>
            <p:nvPr/>
          </p:nvSpPr>
          <p:spPr>
            <a:xfrm>
              <a:off x="2203560" y="2355840"/>
              <a:ext cx="5022720" cy="755640"/>
            </a:xfrm>
            <a:custGeom>
              <a:avLst/>
              <a:gdLst/>
              <a:ahLst/>
              <a:rect l="l" t="t" r="r" b="b"/>
              <a:pathLst>
                <a:path w="3164" h="476">
                  <a:moveTo>
                    <a:pt x="0" y="475"/>
                  </a:moveTo>
                  <a:lnTo>
                    <a:pt x="431" y="475"/>
                  </a:lnTo>
                  <a:lnTo>
                    <a:pt x="575" y="0"/>
                  </a:lnTo>
                  <a:lnTo>
                    <a:pt x="1150" y="0"/>
                  </a:lnTo>
                  <a:lnTo>
                    <a:pt x="1294" y="475"/>
                  </a:lnTo>
                  <a:lnTo>
                    <a:pt x="1869" y="475"/>
                  </a:lnTo>
                  <a:lnTo>
                    <a:pt x="2013" y="0"/>
                  </a:lnTo>
                  <a:lnTo>
                    <a:pt x="2588" y="0"/>
                  </a:lnTo>
                  <a:lnTo>
                    <a:pt x="2732" y="475"/>
                  </a:lnTo>
                  <a:lnTo>
                    <a:pt x="3163" y="475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3002040" y="1911240"/>
              <a:ext cx="0" cy="164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284800" y="1911240"/>
              <a:ext cx="0" cy="164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492800" y="3409920"/>
              <a:ext cx="72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200560" y="3409920"/>
              <a:ext cx="85680" cy="1440"/>
            </a:xfrm>
            <a:custGeom>
              <a:avLst/>
              <a:gdLst/>
              <a:ahLst/>
              <a:rect l="l" t="t" r="r" b="b"/>
              <a:pathLst>
                <a:path w="54" h="1">
                  <a:moveTo>
                    <a:pt x="0" y="0"/>
                  </a:moveTo>
                  <a:lnTo>
                    <a:pt x="5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H="1">
              <a:off x="3084480" y="3409920"/>
              <a:ext cx="48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002040" y="3409920"/>
              <a:ext cx="85680" cy="1440"/>
            </a:xfrm>
            <a:custGeom>
              <a:avLst/>
              <a:gdLst/>
              <a:ahLst/>
              <a:rect l="l" t="t" r="r" b="b"/>
              <a:pathLst>
                <a:path w="54" h="1">
                  <a:moveTo>
                    <a:pt x="53" y="0"/>
                  </a:moveTo>
                  <a:lnTo>
                    <a:pt x="0" y="0"/>
                  </a:lnTo>
                  <a:lnTo>
                    <a:pt x="5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143240" y="2212920"/>
              <a:ext cx="0" cy="89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426360" y="2212920"/>
              <a:ext cx="0" cy="89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089760" y="2959200"/>
              <a:ext cx="26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342120" y="2959200"/>
              <a:ext cx="85680" cy="1440"/>
            </a:xfrm>
            <a:custGeom>
              <a:avLst/>
              <a:gdLst/>
              <a:ahLst/>
              <a:rect l="l" t="t" r="r" b="b"/>
              <a:pathLst>
                <a:path w="54" h="1">
                  <a:moveTo>
                    <a:pt x="0" y="0"/>
                  </a:moveTo>
                  <a:lnTo>
                    <a:pt x="5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5366880" y="2959200"/>
              <a:ext cx="26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284800" y="2959200"/>
              <a:ext cx="85680" cy="1440"/>
            </a:xfrm>
            <a:custGeom>
              <a:avLst/>
              <a:gdLst/>
              <a:ahLst/>
              <a:rect l="l" t="t" r="r" b="b"/>
              <a:pathLst>
                <a:path w="54" h="1">
                  <a:moveTo>
                    <a:pt x="53" y="0"/>
                  </a:moveTo>
                  <a:lnTo>
                    <a:pt x="0" y="0"/>
                  </a:lnTo>
                  <a:lnTo>
                    <a:pt x="5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H="1">
              <a:off x="4149360" y="2657520"/>
              <a:ext cx="33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948200" y="2657520"/>
              <a:ext cx="33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4" name=""/>
          <p:cNvSpPr/>
          <p:nvPr/>
        </p:nvSpPr>
        <p:spPr>
          <a:xfrm>
            <a:off x="5715000" y="2743200"/>
            <a:ext cx="4572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969696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4572000" y="2438280"/>
            <a:ext cx="5335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969696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505320" y="1371600"/>
            <a:ext cx="2514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State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 flipH="1">
            <a:off x="3054240" y="1606680"/>
            <a:ext cx="527040" cy="45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959360" y="1682640"/>
            <a:ext cx="298440" cy="679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62120" y="2438280"/>
            <a:ext cx="1523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 Hi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505320" y="5791320"/>
            <a:ext cx="990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Peri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1" name=""/>
          <p:cNvGrpSpPr/>
          <p:nvPr/>
        </p:nvGrpSpPr>
        <p:grpSpPr>
          <a:xfrm>
            <a:off x="2127240" y="4502160"/>
            <a:ext cx="5022720" cy="1649520"/>
            <a:chOff x="2127240" y="4502160"/>
            <a:chExt cx="5022720" cy="1649520"/>
          </a:xfrm>
        </p:grpSpPr>
        <p:sp>
          <p:nvSpPr>
            <p:cNvPr id="1392" name=""/>
            <p:cNvSpPr/>
            <p:nvPr/>
          </p:nvSpPr>
          <p:spPr>
            <a:xfrm>
              <a:off x="2127240" y="4946760"/>
              <a:ext cx="5022720" cy="755640"/>
            </a:xfrm>
            <a:custGeom>
              <a:avLst/>
              <a:gdLst/>
              <a:ahLst/>
              <a:rect l="l" t="t" r="r" b="b"/>
              <a:pathLst>
                <a:path w="3164" h="476">
                  <a:moveTo>
                    <a:pt x="0" y="475"/>
                  </a:moveTo>
                  <a:lnTo>
                    <a:pt x="431" y="475"/>
                  </a:lnTo>
                  <a:lnTo>
                    <a:pt x="575" y="0"/>
                  </a:lnTo>
                  <a:lnTo>
                    <a:pt x="1150" y="0"/>
                  </a:lnTo>
                  <a:lnTo>
                    <a:pt x="1294" y="475"/>
                  </a:lnTo>
                  <a:lnTo>
                    <a:pt x="1869" y="475"/>
                  </a:lnTo>
                  <a:lnTo>
                    <a:pt x="2013" y="0"/>
                  </a:lnTo>
                  <a:lnTo>
                    <a:pt x="2588" y="0"/>
                  </a:lnTo>
                  <a:lnTo>
                    <a:pt x="2732" y="475"/>
                  </a:lnTo>
                  <a:lnTo>
                    <a:pt x="3163" y="475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925720" y="4502160"/>
              <a:ext cx="0" cy="164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208480" y="4502160"/>
              <a:ext cx="0" cy="164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416480" y="6000840"/>
              <a:ext cx="72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124600" y="6000840"/>
              <a:ext cx="85680" cy="1440"/>
            </a:xfrm>
            <a:custGeom>
              <a:avLst/>
              <a:gdLst/>
              <a:ahLst/>
              <a:rect l="l" t="t" r="r" b="b"/>
              <a:pathLst>
                <a:path w="54" h="1">
                  <a:moveTo>
                    <a:pt x="0" y="0"/>
                  </a:moveTo>
                  <a:lnTo>
                    <a:pt x="5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H="1">
              <a:off x="3007800" y="6000840"/>
              <a:ext cx="48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925720" y="6000840"/>
              <a:ext cx="85680" cy="1440"/>
            </a:xfrm>
            <a:custGeom>
              <a:avLst/>
              <a:gdLst/>
              <a:ahLst/>
              <a:rect l="l" t="t" r="r" b="b"/>
              <a:pathLst>
                <a:path w="54" h="1">
                  <a:moveTo>
                    <a:pt x="53" y="0"/>
                  </a:moveTo>
                  <a:lnTo>
                    <a:pt x="0" y="0"/>
                  </a:lnTo>
                  <a:lnTo>
                    <a:pt x="5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4067280" y="4803840"/>
              <a:ext cx="0" cy="89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350040" y="4803840"/>
              <a:ext cx="0" cy="89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013440" y="5549760"/>
              <a:ext cx="268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265800" y="5549760"/>
              <a:ext cx="85680" cy="1800"/>
            </a:xfrm>
            <a:custGeom>
              <a:avLst/>
              <a:gdLst/>
              <a:ahLst/>
              <a:rect l="l" t="t" r="r" b="b"/>
              <a:pathLst>
                <a:path w="54" h="1">
                  <a:moveTo>
                    <a:pt x="0" y="0"/>
                  </a:moveTo>
                  <a:lnTo>
                    <a:pt x="53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5290920" y="5549760"/>
              <a:ext cx="260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208480" y="5549760"/>
              <a:ext cx="85680" cy="1800"/>
            </a:xfrm>
            <a:custGeom>
              <a:avLst/>
              <a:gdLst/>
              <a:ahLst/>
              <a:rect l="l" t="t" r="r" b="b"/>
              <a:pathLst>
                <a:path w="54" h="1">
                  <a:moveTo>
                    <a:pt x="53" y="0"/>
                  </a:moveTo>
                  <a:lnTo>
                    <a:pt x="0" y="0"/>
                  </a:lnTo>
                  <a:lnTo>
                    <a:pt x="53" y="0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H="1">
              <a:off x="4073040" y="5248440"/>
              <a:ext cx="33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4871880" y="5248440"/>
              <a:ext cx="33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7" name=""/>
          <p:cNvSpPr/>
          <p:nvPr/>
        </p:nvSpPr>
        <p:spPr>
          <a:xfrm>
            <a:off x="5638680" y="5334120"/>
            <a:ext cx="45720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969696"/>
                </a:solidFill>
                <a:latin typeface="Times New Roman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4495680" y="5029200"/>
            <a:ext cx="53352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969696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572000" y="3962520"/>
            <a:ext cx="2514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State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 flipH="1">
            <a:off x="4121280" y="4273560"/>
            <a:ext cx="527040" cy="67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6026040" y="4273560"/>
            <a:ext cx="298440" cy="67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85800" y="5029200"/>
            <a:ext cx="1523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 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543800" y="5181480"/>
            <a:ext cx="1371600" cy="7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ty Cycle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Peri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7543800" y="1447920"/>
            <a:ext cx="1295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= 1/Peri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aracteri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7543800" y="2743200"/>
            <a:ext cx="1371600" cy="7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ty Cycle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Peri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D3624-6AAB-4933-A1BA-52BD07D2747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/Slave S-R Flip-Fl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4668840" y="4459320"/>
            <a:ext cx="600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 flipH="1">
            <a:off x="1315800" y="4457880"/>
            <a:ext cx="1439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3792600" y="5943600"/>
            <a:ext cx="96840" cy="1033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1" name=""/>
          <p:cNvGrpSpPr/>
          <p:nvPr/>
        </p:nvGrpSpPr>
        <p:grpSpPr>
          <a:xfrm>
            <a:off x="3890880" y="5834160"/>
            <a:ext cx="273240" cy="303120"/>
            <a:chOff x="3890880" y="5834160"/>
            <a:chExt cx="273240" cy="303120"/>
          </a:xfrm>
        </p:grpSpPr>
        <p:sp>
          <p:nvSpPr>
            <p:cNvPr id="1422" name=""/>
            <p:cNvSpPr/>
            <p:nvPr/>
          </p:nvSpPr>
          <p:spPr>
            <a:xfrm flipH="1" flipV="1">
              <a:off x="3894120" y="5834160"/>
              <a:ext cx="270000" cy="14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>
              <a:off x="3894120" y="5989680"/>
              <a:ext cx="270000" cy="14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890880" y="5840280"/>
              <a:ext cx="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5" name=""/>
          <p:cNvSpPr/>
          <p:nvPr/>
        </p:nvSpPr>
        <p:spPr>
          <a:xfrm>
            <a:off x="2416320" y="5989680"/>
            <a:ext cx="1404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2766960" y="4836960"/>
            <a:ext cx="0" cy="1148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181400" y="5981760"/>
            <a:ext cx="1005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194440" y="4836960"/>
            <a:ext cx="0" cy="1141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H="1">
            <a:off x="1351080" y="5997600"/>
            <a:ext cx="106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939960" y="4216320"/>
            <a:ext cx="507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990720" y="5778360"/>
            <a:ext cx="406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7746840" y="4254480"/>
            <a:ext cx="419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7734240" y="4991040"/>
            <a:ext cx="736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H="1">
            <a:off x="1342800" y="5219640"/>
            <a:ext cx="209844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670280" y="4457880"/>
            <a:ext cx="600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4789440" y="5219640"/>
            <a:ext cx="480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2763360" y="4303800"/>
            <a:ext cx="2000880" cy="1084680"/>
            <a:chOff x="2763360" y="4303800"/>
            <a:chExt cx="2000880" cy="1084680"/>
          </a:xfrm>
        </p:grpSpPr>
        <p:sp>
          <p:nvSpPr>
            <p:cNvPr id="1438" name=""/>
            <p:cNvSpPr/>
            <p:nvPr/>
          </p:nvSpPr>
          <p:spPr>
            <a:xfrm flipH="1">
              <a:off x="2763360" y="5221440"/>
              <a:ext cx="676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3440160" y="4303800"/>
              <a:ext cx="1222200" cy="1069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0" name=""/>
            <p:cNvGrpSpPr/>
            <p:nvPr/>
          </p:nvGrpSpPr>
          <p:grpSpPr>
            <a:xfrm>
              <a:off x="2765520" y="4305240"/>
              <a:ext cx="888840" cy="397440"/>
              <a:chOff x="2765520" y="4305240"/>
              <a:chExt cx="888840" cy="397440"/>
            </a:xfrm>
          </p:grpSpPr>
          <p:sp>
            <p:nvSpPr>
              <p:cNvPr id="1441" name=""/>
              <p:cNvSpPr/>
              <p:nvPr/>
            </p:nvSpPr>
            <p:spPr>
              <a:xfrm flipH="1">
                <a:off x="2765520" y="4457880"/>
                <a:ext cx="6760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3441600" y="4305240"/>
                <a:ext cx="212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3" name=""/>
            <p:cNvSpPr/>
            <p:nvPr/>
          </p:nvSpPr>
          <p:spPr>
            <a:xfrm>
              <a:off x="3441600" y="4991040"/>
              <a:ext cx="212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4356000" y="4305240"/>
              <a:ext cx="212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356000" y="4991040"/>
              <a:ext cx="381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667400" y="5160960"/>
              <a:ext cx="96840" cy="103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H="1">
              <a:off x="2790360" y="4826160"/>
              <a:ext cx="638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429000" y="4673520"/>
              <a:ext cx="428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9" name=""/>
          <p:cNvSpPr/>
          <p:nvPr/>
        </p:nvSpPr>
        <p:spPr>
          <a:xfrm>
            <a:off x="939960" y="4978440"/>
            <a:ext cx="212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0" name=""/>
          <p:cNvGrpSpPr/>
          <p:nvPr/>
        </p:nvGrpSpPr>
        <p:grpSpPr>
          <a:xfrm>
            <a:off x="5178240" y="4303800"/>
            <a:ext cx="2516400" cy="1084680"/>
            <a:chOff x="5178240" y="4303800"/>
            <a:chExt cx="2516400" cy="1084680"/>
          </a:xfrm>
        </p:grpSpPr>
        <p:sp>
          <p:nvSpPr>
            <p:cNvPr id="1451" name=""/>
            <p:cNvSpPr/>
            <p:nvPr/>
          </p:nvSpPr>
          <p:spPr>
            <a:xfrm flipH="1">
              <a:off x="5189040" y="5221440"/>
              <a:ext cx="676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094520" y="4459320"/>
              <a:ext cx="60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7213680" y="5221440"/>
              <a:ext cx="480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H="1">
              <a:off x="5202360" y="5221440"/>
              <a:ext cx="676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878440" y="4303800"/>
              <a:ext cx="1222560" cy="1069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6" name=""/>
            <p:cNvGrpSpPr/>
            <p:nvPr/>
          </p:nvGrpSpPr>
          <p:grpSpPr>
            <a:xfrm>
              <a:off x="5203440" y="4305240"/>
              <a:ext cx="889560" cy="397440"/>
              <a:chOff x="5203440" y="4305240"/>
              <a:chExt cx="889560" cy="397440"/>
            </a:xfrm>
          </p:grpSpPr>
          <p:sp>
            <p:nvSpPr>
              <p:cNvPr id="1457" name=""/>
              <p:cNvSpPr/>
              <p:nvPr/>
            </p:nvSpPr>
            <p:spPr>
              <a:xfrm flipH="1">
                <a:off x="5203440" y="4457880"/>
                <a:ext cx="6764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880240" y="4305240"/>
                <a:ext cx="212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9" name=""/>
            <p:cNvSpPr/>
            <p:nvPr/>
          </p:nvSpPr>
          <p:spPr>
            <a:xfrm>
              <a:off x="5880240" y="4991040"/>
              <a:ext cx="212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794640" y="4305240"/>
              <a:ext cx="212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794640" y="499104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105680" y="5160960"/>
              <a:ext cx="96840" cy="103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H="1">
              <a:off x="5178240" y="4826160"/>
              <a:ext cx="688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867280" y="4673520"/>
              <a:ext cx="428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5" name=""/>
          <p:cNvGrpSpPr/>
          <p:nvPr/>
        </p:nvGrpSpPr>
        <p:grpSpPr>
          <a:xfrm>
            <a:off x="1203120" y="1878120"/>
            <a:ext cx="2516400" cy="1084680"/>
            <a:chOff x="1203120" y="1878120"/>
            <a:chExt cx="2516400" cy="1084680"/>
          </a:xfrm>
        </p:grpSpPr>
        <p:sp>
          <p:nvSpPr>
            <p:cNvPr id="1466" name=""/>
            <p:cNvSpPr/>
            <p:nvPr/>
          </p:nvSpPr>
          <p:spPr>
            <a:xfrm flipH="1">
              <a:off x="1213920" y="2795760"/>
              <a:ext cx="676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119400" y="2033640"/>
              <a:ext cx="60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238560" y="2795760"/>
              <a:ext cx="480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H="1">
              <a:off x="1227240" y="2795760"/>
              <a:ext cx="676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1903320" y="1878120"/>
              <a:ext cx="1222560" cy="1069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1" name=""/>
            <p:cNvGrpSpPr/>
            <p:nvPr/>
          </p:nvGrpSpPr>
          <p:grpSpPr>
            <a:xfrm>
              <a:off x="1228320" y="1879560"/>
              <a:ext cx="889560" cy="397440"/>
              <a:chOff x="1228320" y="1879560"/>
              <a:chExt cx="889560" cy="397440"/>
            </a:xfrm>
          </p:grpSpPr>
          <p:sp>
            <p:nvSpPr>
              <p:cNvPr id="1472" name=""/>
              <p:cNvSpPr/>
              <p:nvPr/>
            </p:nvSpPr>
            <p:spPr>
              <a:xfrm flipH="1">
                <a:off x="1228320" y="2031840"/>
                <a:ext cx="67644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1905120" y="1879560"/>
                <a:ext cx="212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4" name=""/>
            <p:cNvSpPr/>
            <p:nvPr/>
          </p:nvSpPr>
          <p:spPr>
            <a:xfrm>
              <a:off x="1905120" y="2565360"/>
              <a:ext cx="212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819520" y="1879560"/>
              <a:ext cx="212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819520" y="256536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130560" y="2735280"/>
              <a:ext cx="96840" cy="103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H="1">
              <a:off x="1203120" y="2400480"/>
              <a:ext cx="688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1892160" y="2247840"/>
              <a:ext cx="428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0" name=""/>
          <p:cNvGrpSpPr/>
          <p:nvPr/>
        </p:nvGrpSpPr>
        <p:grpSpPr>
          <a:xfrm>
            <a:off x="2687760" y="2019240"/>
            <a:ext cx="144360" cy="152640"/>
            <a:chOff x="2687760" y="2019240"/>
            <a:chExt cx="144360" cy="152640"/>
          </a:xfrm>
        </p:grpSpPr>
        <p:sp>
          <p:nvSpPr>
            <p:cNvPr id="1481" name=""/>
            <p:cNvSpPr/>
            <p:nvPr/>
          </p:nvSpPr>
          <p:spPr>
            <a:xfrm>
              <a:off x="2687760" y="2019240"/>
              <a:ext cx="1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832120" y="2027160"/>
              <a:ext cx="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3" name=""/>
          <p:cNvGrpSpPr/>
          <p:nvPr/>
        </p:nvGrpSpPr>
        <p:grpSpPr>
          <a:xfrm>
            <a:off x="2674800" y="2705040"/>
            <a:ext cx="144720" cy="152640"/>
            <a:chOff x="2674800" y="2705040"/>
            <a:chExt cx="144720" cy="152640"/>
          </a:xfrm>
        </p:grpSpPr>
        <p:sp>
          <p:nvSpPr>
            <p:cNvPr id="1484" name=""/>
            <p:cNvSpPr/>
            <p:nvPr/>
          </p:nvSpPr>
          <p:spPr>
            <a:xfrm>
              <a:off x="2674800" y="2705040"/>
              <a:ext cx="14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819520" y="2712960"/>
              <a:ext cx="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6" name=""/>
          <p:cNvSpPr/>
          <p:nvPr/>
        </p:nvSpPr>
        <p:spPr>
          <a:xfrm>
            <a:off x="4152960" y="1054080"/>
            <a:ext cx="4181400" cy="2984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4164120" y="1638360"/>
            <a:ext cx="4181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 flipH="1">
            <a:off x="6501960" y="1066680"/>
            <a:ext cx="1800" cy="298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243320" y="1165320"/>
            <a:ext cx="558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5894280" y="1152360"/>
            <a:ext cx="406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6656400" y="1152360"/>
            <a:ext cx="38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7570800" y="115236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4243320" y="1650960"/>
            <a:ext cx="533520" cy="22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6580080" y="1638360"/>
            <a:ext cx="1219320" cy="22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st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3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st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de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7342200" y="1638360"/>
            <a:ext cx="1219320" cy="22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st 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 /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de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967280" y="1165320"/>
            <a:ext cx="558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967280" y="1650960"/>
            <a:ext cx="533520" cy="22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5892840" y="1663560"/>
            <a:ext cx="368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9" name=""/>
          <p:cNvGrpSpPr/>
          <p:nvPr/>
        </p:nvGrpSpPr>
        <p:grpSpPr>
          <a:xfrm>
            <a:off x="5875200" y="2209680"/>
            <a:ext cx="373320" cy="228600"/>
            <a:chOff x="5875200" y="2209680"/>
            <a:chExt cx="373320" cy="228600"/>
          </a:xfrm>
        </p:grpSpPr>
        <p:sp>
          <p:nvSpPr>
            <p:cNvPr id="1500" name=""/>
            <p:cNvSpPr/>
            <p:nvPr/>
          </p:nvSpPr>
          <p:spPr>
            <a:xfrm>
              <a:off x="5875200" y="2438280"/>
              <a:ext cx="6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V="1">
              <a:off x="5943600" y="2214360"/>
              <a:ext cx="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951520" y="2209680"/>
              <a:ext cx="2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172200" y="2217600"/>
              <a:ext cx="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180120" y="2438280"/>
              <a:ext cx="6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5" name=""/>
          <p:cNvGrpSpPr/>
          <p:nvPr/>
        </p:nvGrpSpPr>
        <p:grpSpPr>
          <a:xfrm>
            <a:off x="5875200" y="2666880"/>
            <a:ext cx="373320" cy="228600"/>
            <a:chOff x="5875200" y="2666880"/>
            <a:chExt cx="373320" cy="228600"/>
          </a:xfrm>
        </p:grpSpPr>
        <p:sp>
          <p:nvSpPr>
            <p:cNvPr id="1506" name=""/>
            <p:cNvSpPr/>
            <p:nvPr/>
          </p:nvSpPr>
          <p:spPr>
            <a:xfrm>
              <a:off x="5875200" y="2895480"/>
              <a:ext cx="6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V="1">
              <a:off x="5943600" y="2671560"/>
              <a:ext cx="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5951520" y="2666880"/>
              <a:ext cx="2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172200" y="2674800"/>
              <a:ext cx="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180120" y="2895480"/>
              <a:ext cx="6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1" name=""/>
          <p:cNvGrpSpPr/>
          <p:nvPr/>
        </p:nvGrpSpPr>
        <p:grpSpPr>
          <a:xfrm>
            <a:off x="5875200" y="3124080"/>
            <a:ext cx="373320" cy="228600"/>
            <a:chOff x="5875200" y="3124080"/>
            <a:chExt cx="373320" cy="228600"/>
          </a:xfrm>
        </p:grpSpPr>
        <p:sp>
          <p:nvSpPr>
            <p:cNvPr id="1512" name=""/>
            <p:cNvSpPr/>
            <p:nvPr/>
          </p:nvSpPr>
          <p:spPr>
            <a:xfrm>
              <a:off x="5875200" y="3352680"/>
              <a:ext cx="6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V="1">
              <a:off x="5943600" y="3128760"/>
              <a:ext cx="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951520" y="3124080"/>
              <a:ext cx="2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172200" y="3132000"/>
              <a:ext cx="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180120" y="3352680"/>
              <a:ext cx="6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5875200" y="3581280"/>
            <a:ext cx="373320" cy="228600"/>
            <a:chOff x="5875200" y="3581280"/>
            <a:chExt cx="373320" cy="228600"/>
          </a:xfrm>
        </p:grpSpPr>
        <p:sp>
          <p:nvSpPr>
            <p:cNvPr id="1518" name=""/>
            <p:cNvSpPr/>
            <p:nvPr/>
          </p:nvSpPr>
          <p:spPr>
            <a:xfrm>
              <a:off x="5875200" y="3809880"/>
              <a:ext cx="6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5943600" y="3585960"/>
              <a:ext cx="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951520" y="3581280"/>
              <a:ext cx="2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172200" y="3589200"/>
              <a:ext cx="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180120" y="3809880"/>
              <a:ext cx="6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3" name=""/>
          <p:cNvSpPr/>
          <p:nvPr/>
        </p:nvSpPr>
        <p:spPr>
          <a:xfrm>
            <a:off x="457200" y="2971800"/>
            <a:ext cx="33228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lse-triggered” S-R flip-fl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signals may confli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ally, inputs are held for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ire enable pu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5562720" y="579132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one state change/pu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89055-AEA2-4E57-B01D-0CDF45CF69F8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er/Slave J-K Flip-Fl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6" name=""/>
          <p:cNvGrpSpPr/>
          <p:nvPr/>
        </p:nvGrpSpPr>
        <p:grpSpPr>
          <a:xfrm>
            <a:off x="1203120" y="1878120"/>
            <a:ext cx="2516400" cy="1084680"/>
            <a:chOff x="1203120" y="1878120"/>
            <a:chExt cx="2516400" cy="1084680"/>
          </a:xfrm>
        </p:grpSpPr>
        <p:sp>
          <p:nvSpPr>
            <p:cNvPr id="1527" name=""/>
            <p:cNvSpPr/>
            <p:nvPr/>
          </p:nvSpPr>
          <p:spPr>
            <a:xfrm flipH="1">
              <a:off x="1213920" y="2795760"/>
              <a:ext cx="676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3119400" y="2033640"/>
              <a:ext cx="60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238560" y="2795760"/>
              <a:ext cx="480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>
              <a:off x="1227240" y="2795760"/>
              <a:ext cx="676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903320" y="1878120"/>
              <a:ext cx="1222560" cy="1069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2" name=""/>
            <p:cNvGrpSpPr/>
            <p:nvPr/>
          </p:nvGrpSpPr>
          <p:grpSpPr>
            <a:xfrm>
              <a:off x="1228320" y="1879560"/>
              <a:ext cx="889560" cy="397440"/>
              <a:chOff x="1228320" y="1879560"/>
              <a:chExt cx="889560" cy="397440"/>
            </a:xfrm>
          </p:grpSpPr>
          <p:sp>
            <p:nvSpPr>
              <p:cNvPr id="1533" name=""/>
              <p:cNvSpPr/>
              <p:nvPr/>
            </p:nvSpPr>
            <p:spPr>
              <a:xfrm flipH="1">
                <a:off x="1228320" y="2031840"/>
                <a:ext cx="67644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1905120" y="1879560"/>
                <a:ext cx="212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5" name=""/>
            <p:cNvSpPr/>
            <p:nvPr/>
          </p:nvSpPr>
          <p:spPr>
            <a:xfrm>
              <a:off x="1905120" y="2565360"/>
              <a:ext cx="212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819520" y="1879560"/>
              <a:ext cx="212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819520" y="256536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3130560" y="2735280"/>
              <a:ext cx="96840" cy="103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>
              <a:off x="1203120" y="2400480"/>
              <a:ext cx="688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892160" y="2247840"/>
              <a:ext cx="428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1" name=""/>
          <p:cNvGrpSpPr/>
          <p:nvPr/>
        </p:nvGrpSpPr>
        <p:grpSpPr>
          <a:xfrm>
            <a:off x="2687760" y="2019240"/>
            <a:ext cx="144360" cy="152640"/>
            <a:chOff x="2687760" y="2019240"/>
            <a:chExt cx="144360" cy="152640"/>
          </a:xfrm>
        </p:grpSpPr>
        <p:sp>
          <p:nvSpPr>
            <p:cNvPr id="1542" name=""/>
            <p:cNvSpPr/>
            <p:nvPr/>
          </p:nvSpPr>
          <p:spPr>
            <a:xfrm>
              <a:off x="2687760" y="2019240"/>
              <a:ext cx="14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832120" y="2027160"/>
              <a:ext cx="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4" name=""/>
          <p:cNvGrpSpPr/>
          <p:nvPr/>
        </p:nvGrpSpPr>
        <p:grpSpPr>
          <a:xfrm>
            <a:off x="2674800" y="2705040"/>
            <a:ext cx="144720" cy="152640"/>
            <a:chOff x="2674800" y="2705040"/>
            <a:chExt cx="144720" cy="152640"/>
          </a:xfrm>
        </p:grpSpPr>
        <p:sp>
          <p:nvSpPr>
            <p:cNvPr id="1545" name=""/>
            <p:cNvSpPr/>
            <p:nvPr/>
          </p:nvSpPr>
          <p:spPr>
            <a:xfrm>
              <a:off x="2674800" y="2705040"/>
              <a:ext cx="144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819520" y="2712960"/>
              <a:ext cx="0" cy="14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7" name=""/>
          <p:cNvSpPr/>
          <p:nvPr/>
        </p:nvSpPr>
        <p:spPr>
          <a:xfrm>
            <a:off x="4152960" y="1054080"/>
            <a:ext cx="4181400" cy="2984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164120" y="1638360"/>
            <a:ext cx="4181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H="1">
            <a:off x="6501960" y="1066680"/>
            <a:ext cx="1800" cy="298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4243320" y="1165320"/>
            <a:ext cx="558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5894280" y="1152360"/>
            <a:ext cx="406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6656400" y="1152360"/>
            <a:ext cx="380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7570800" y="115236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4243320" y="1650960"/>
            <a:ext cx="533520" cy="22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554880" y="1650960"/>
            <a:ext cx="1218960" cy="21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st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st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 /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7418520" y="1638360"/>
            <a:ext cx="1218960" cy="22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st /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 /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st 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4967280" y="1165320"/>
            <a:ext cx="558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4967280" y="1650960"/>
            <a:ext cx="533520" cy="22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5892840" y="1663560"/>
            <a:ext cx="368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0" name=""/>
          <p:cNvGrpSpPr/>
          <p:nvPr/>
        </p:nvGrpSpPr>
        <p:grpSpPr>
          <a:xfrm>
            <a:off x="5875200" y="2209680"/>
            <a:ext cx="373320" cy="228600"/>
            <a:chOff x="5875200" y="2209680"/>
            <a:chExt cx="373320" cy="228600"/>
          </a:xfrm>
        </p:grpSpPr>
        <p:sp>
          <p:nvSpPr>
            <p:cNvPr id="1561" name=""/>
            <p:cNvSpPr/>
            <p:nvPr/>
          </p:nvSpPr>
          <p:spPr>
            <a:xfrm>
              <a:off x="5875200" y="2438280"/>
              <a:ext cx="6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V="1">
              <a:off x="5943600" y="2214360"/>
              <a:ext cx="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951520" y="2209680"/>
              <a:ext cx="2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172200" y="2217600"/>
              <a:ext cx="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180120" y="2438280"/>
              <a:ext cx="6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6" name=""/>
          <p:cNvGrpSpPr/>
          <p:nvPr/>
        </p:nvGrpSpPr>
        <p:grpSpPr>
          <a:xfrm>
            <a:off x="5875200" y="2666880"/>
            <a:ext cx="373320" cy="228600"/>
            <a:chOff x="5875200" y="2666880"/>
            <a:chExt cx="373320" cy="228600"/>
          </a:xfrm>
        </p:grpSpPr>
        <p:sp>
          <p:nvSpPr>
            <p:cNvPr id="1567" name=""/>
            <p:cNvSpPr/>
            <p:nvPr/>
          </p:nvSpPr>
          <p:spPr>
            <a:xfrm>
              <a:off x="5875200" y="2895480"/>
              <a:ext cx="6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V="1">
              <a:off x="5943600" y="2671560"/>
              <a:ext cx="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951520" y="2666880"/>
              <a:ext cx="2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6172200" y="2674800"/>
              <a:ext cx="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180120" y="2895480"/>
              <a:ext cx="6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2" name=""/>
          <p:cNvGrpSpPr/>
          <p:nvPr/>
        </p:nvGrpSpPr>
        <p:grpSpPr>
          <a:xfrm>
            <a:off x="5875200" y="3124080"/>
            <a:ext cx="373320" cy="228600"/>
            <a:chOff x="5875200" y="3124080"/>
            <a:chExt cx="373320" cy="228600"/>
          </a:xfrm>
        </p:grpSpPr>
        <p:sp>
          <p:nvSpPr>
            <p:cNvPr id="1573" name=""/>
            <p:cNvSpPr/>
            <p:nvPr/>
          </p:nvSpPr>
          <p:spPr>
            <a:xfrm>
              <a:off x="5875200" y="3352680"/>
              <a:ext cx="6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V="1">
              <a:off x="5943600" y="3128760"/>
              <a:ext cx="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951520" y="3124080"/>
              <a:ext cx="2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172200" y="3132000"/>
              <a:ext cx="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180120" y="3352680"/>
              <a:ext cx="6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8" name=""/>
          <p:cNvGrpSpPr/>
          <p:nvPr/>
        </p:nvGrpSpPr>
        <p:grpSpPr>
          <a:xfrm>
            <a:off x="5875200" y="3581280"/>
            <a:ext cx="373320" cy="228600"/>
            <a:chOff x="5875200" y="3581280"/>
            <a:chExt cx="373320" cy="228600"/>
          </a:xfrm>
        </p:grpSpPr>
        <p:sp>
          <p:nvSpPr>
            <p:cNvPr id="1579" name=""/>
            <p:cNvSpPr/>
            <p:nvPr/>
          </p:nvSpPr>
          <p:spPr>
            <a:xfrm>
              <a:off x="5875200" y="3809880"/>
              <a:ext cx="6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V="1">
              <a:off x="5943600" y="3585960"/>
              <a:ext cx="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951520" y="3581280"/>
              <a:ext cx="220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172200" y="3589200"/>
              <a:ext cx="0" cy="22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180120" y="3809880"/>
              <a:ext cx="6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4" name=""/>
          <p:cNvGrpSpPr/>
          <p:nvPr/>
        </p:nvGrpSpPr>
        <p:grpSpPr>
          <a:xfrm>
            <a:off x="977760" y="4165560"/>
            <a:ext cx="7480440" cy="2211480"/>
            <a:chOff x="977760" y="4165560"/>
            <a:chExt cx="7480440" cy="2211480"/>
          </a:xfrm>
        </p:grpSpPr>
        <p:sp>
          <p:nvSpPr>
            <p:cNvPr id="1585" name=""/>
            <p:cNvSpPr/>
            <p:nvPr/>
          </p:nvSpPr>
          <p:spPr>
            <a:xfrm>
              <a:off x="4656240" y="4599000"/>
              <a:ext cx="60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3778200" y="6081840"/>
              <a:ext cx="100080" cy="106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7" name=""/>
            <p:cNvGrpSpPr/>
            <p:nvPr/>
          </p:nvGrpSpPr>
          <p:grpSpPr>
            <a:xfrm>
              <a:off x="3878280" y="5973840"/>
              <a:ext cx="272520" cy="303120"/>
              <a:chOff x="3878280" y="5973840"/>
              <a:chExt cx="272520" cy="303120"/>
            </a:xfrm>
          </p:grpSpPr>
          <p:sp>
            <p:nvSpPr>
              <p:cNvPr id="1588" name=""/>
              <p:cNvSpPr/>
              <p:nvPr/>
            </p:nvSpPr>
            <p:spPr>
              <a:xfrm flipH="1" flipV="1">
                <a:off x="3881160" y="5973840"/>
                <a:ext cx="269640" cy="147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flipH="1">
                <a:off x="3881160" y="6129360"/>
                <a:ext cx="269640" cy="147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3878280" y="5979960"/>
                <a:ext cx="0" cy="293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1" name=""/>
            <p:cNvSpPr/>
            <p:nvPr/>
          </p:nvSpPr>
          <p:spPr>
            <a:xfrm>
              <a:off x="2403360" y="6129360"/>
              <a:ext cx="1405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754360" y="4976640"/>
              <a:ext cx="0" cy="1148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168800" y="6121440"/>
              <a:ext cx="1004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5181480" y="4976640"/>
              <a:ext cx="0" cy="1141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>
              <a:off x="1337760" y="6137280"/>
              <a:ext cx="1062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977760" y="5918040"/>
              <a:ext cx="406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734240" y="4394160"/>
              <a:ext cx="419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721640" y="5130720"/>
              <a:ext cx="736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/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H="1">
              <a:off x="2562120" y="5359320"/>
              <a:ext cx="8668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657680" y="4597560"/>
              <a:ext cx="60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776840" y="5359320"/>
              <a:ext cx="480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425760" y="4441680"/>
              <a:ext cx="1225440" cy="1073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2549160" y="4605480"/>
              <a:ext cx="879480" cy="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429000" y="4444920"/>
              <a:ext cx="212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429000" y="5130720"/>
              <a:ext cx="212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4343400" y="4444920"/>
              <a:ext cx="212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4343400" y="513072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653000" y="5299200"/>
              <a:ext cx="100080" cy="106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>
              <a:off x="2777760" y="4965840"/>
              <a:ext cx="6382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3416400" y="4813200"/>
              <a:ext cx="428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>
              <a:off x="5176440" y="5361120"/>
              <a:ext cx="676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081920" y="4599000"/>
              <a:ext cx="60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201080" y="5361120"/>
              <a:ext cx="480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H="1">
              <a:off x="5189040" y="5361120"/>
              <a:ext cx="676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864400" y="4441680"/>
              <a:ext cx="1225440" cy="1073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>
              <a:off x="5191200" y="4597560"/>
              <a:ext cx="676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867280" y="4444920"/>
              <a:ext cx="212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867280" y="5130720"/>
              <a:ext cx="212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781680" y="4444920"/>
              <a:ext cx="212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6781680" y="5130720"/>
              <a:ext cx="381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091280" y="5299200"/>
              <a:ext cx="100080" cy="106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H="1">
              <a:off x="5165640" y="4965840"/>
              <a:ext cx="6890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854680" y="4813200"/>
              <a:ext cx="428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4" name=""/>
            <p:cNvGrpSpPr/>
            <p:nvPr/>
          </p:nvGrpSpPr>
          <p:grpSpPr>
            <a:xfrm>
              <a:off x="2019240" y="4368960"/>
              <a:ext cx="544320" cy="1204560"/>
              <a:chOff x="2019240" y="4368960"/>
              <a:chExt cx="544320" cy="1204560"/>
            </a:xfrm>
          </p:grpSpPr>
          <p:grpSp>
            <p:nvGrpSpPr>
              <p:cNvPr id="1625" name=""/>
              <p:cNvGrpSpPr/>
              <p:nvPr/>
            </p:nvGrpSpPr>
            <p:grpSpPr>
              <a:xfrm>
                <a:off x="2019240" y="4368960"/>
                <a:ext cx="544320" cy="467640"/>
                <a:chOff x="2019240" y="4368960"/>
                <a:chExt cx="544320" cy="467640"/>
              </a:xfrm>
            </p:grpSpPr>
            <p:sp>
              <p:nvSpPr>
                <p:cNvPr id="1626" name=""/>
                <p:cNvSpPr/>
                <p:nvPr/>
              </p:nvSpPr>
              <p:spPr>
                <a:xfrm>
                  <a:off x="2019240" y="4378320"/>
                  <a:ext cx="0" cy="447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7" name=""/>
                <p:cNvSpPr/>
                <p:nvPr/>
              </p:nvSpPr>
              <p:spPr>
                <a:xfrm flipH="1">
                  <a:off x="2028960" y="4368960"/>
                  <a:ext cx="295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 flipH="1">
                  <a:off x="2028960" y="4826160"/>
                  <a:ext cx="295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2106360" y="4379760"/>
                  <a:ext cx="45720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25" y="0"/>
                      </a:moveTo>
                      <a:arcTo wR="10800" hR="10800" stAng="-5423873" swAng="542387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25" y="0"/>
                      </a:moveTo>
                      <a:arcTo wR="10800" hR="10800" stAng="-5423873" swAng="5423873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 rot="10800000">
                  <a:off x="2106360" y="4379760"/>
                  <a:ext cx="45720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" y="10350"/>
                      </a:moveTo>
                      <a:arcTo wR="10800" hR="10800" stAng="-10656844" swAng="52329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" y="10350"/>
                      </a:moveTo>
                      <a:arcTo wR="10800" hR="10800" stAng="-10656844" swAng="5232970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1" name=""/>
              <p:cNvGrpSpPr/>
              <p:nvPr/>
            </p:nvGrpSpPr>
            <p:grpSpPr>
              <a:xfrm>
                <a:off x="2019240" y="5105520"/>
                <a:ext cx="544320" cy="468000"/>
                <a:chOff x="2019240" y="5105520"/>
                <a:chExt cx="544320" cy="468000"/>
              </a:xfrm>
            </p:grpSpPr>
            <p:sp>
              <p:nvSpPr>
                <p:cNvPr id="1632" name=""/>
                <p:cNvSpPr/>
                <p:nvPr/>
              </p:nvSpPr>
              <p:spPr>
                <a:xfrm>
                  <a:off x="2019240" y="5114880"/>
                  <a:ext cx="0" cy="447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 flipH="1">
                  <a:off x="2028960" y="5105520"/>
                  <a:ext cx="295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 flipH="1">
                  <a:off x="2028960" y="5562720"/>
                  <a:ext cx="295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2106360" y="5116680"/>
                  <a:ext cx="45720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25" y="0"/>
                      </a:moveTo>
                      <a:arcTo wR="10800" hR="10800" stAng="-5423873" swAng="542387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25" y="0"/>
                      </a:moveTo>
                      <a:arcTo wR="10800" hR="10800" stAng="-5423873" swAng="5423873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 rot="10800000">
                  <a:off x="2106360" y="5116680"/>
                  <a:ext cx="45720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" y="10350"/>
                      </a:moveTo>
                      <a:arcTo wR="10800" hR="10800" stAng="-10656844" swAng="52329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" y="10350"/>
                      </a:moveTo>
                      <a:arcTo wR="10800" hR="10800" stAng="-10656844" swAng="5232970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37" name=""/>
            <p:cNvSpPr/>
            <p:nvPr/>
          </p:nvSpPr>
          <p:spPr>
            <a:xfrm flipH="1">
              <a:off x="1328760" y="4724280"/>
              <a:ext cx="690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1328400" y="5219640"/>
              <a:ext cx="677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V="1">
              <a:off x="7543800" y="4169880"/>
              <a:ext cx="0" cy="117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H="1">
              <a:off x="1582200" y="4165560"/>
              <a:ext cx="596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574640" y="4173480"/>
              <a:ext cx="0" cy="27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>
              <a:off x="1582560" y="4457880"/>
              <a:ext cx="424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378560" y="4605480"/>
              <a:ext cx="0" cy="1769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612800" y="5486400"/>
              <a:ext cx="5767560" cy="890640"/>
            </a:xfrm>
            <a:custGeom>
              <a:avLst/>
              <a:gdLst/>
              <a:ahLst/>
              <a:rect l="l" t="t" r="r" b="b"/>
              <a:pathLst>
                <a:path w="3633" h="561">
                  <a:moveTo>
                    <a:pt x="3632" y="560"/>
                  </a:moveTo>
                  <a:lnTo>
                    <a:pt x="0" y="560"/>
                  </a:lnTo>
                  <a:lnTo>
                    <a:pt x="0" y="0"/>
                  </a:lnTo>
                  <a:lnTo>
                    <a:pt x="24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1003320" y="4521240"/>
              <a:ext cx="342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977760" y="5003640"/>
              <a:ext cx="520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7" name=""/>
          <p:cNvSpPr/>
          <p:nvPr/>
        </p:nvSpPr>
        <p:spPr>
          <a:xfrm>
            <a:off x="355320" y="3154320"/>
            <a:ext cx="38091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xes S=R=1 problem, now tog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0s catching - gate propag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ays complicate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F09D2-65CC-458E-9D85-F3629D9853B5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c devices divide into two major type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ational Lo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 output depends on current input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s: gates, decoders, multiplexors (MUXs), A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miliarity with combinational logic is a course prerequisit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Lo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 output depends on past inputs as well as curren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us has a </a:t>
            </a: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memor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usually called the </a:t>
            </a: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sta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s: latches, flip-flops, state machines, counters, shift 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5ABAB-D0F4-4445-BA00-0B50491E6562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-Edge-Triggered D Flip-Fl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9" name=""/>
          <p:cNvGrpSpPr/>
          <p:nvPr/>
        </p:nvGrpSpPr>
        <p:grpSpPr>
          <a:xfrm>
            <a:off x="990720" y="1371600"/>
            <a:ext cx="2504880" cy="1084680"/>
            <a:chOff x="990720" y="1371600"/>
            <a:chExt cx="2504880" cy="1084680"/>
          </a:xfrm>
        </p:grpSpPr>
        <p:sp>
          <p:nvSpPr>
            <p:cNvPr id="1650" name=""/>
            <p:cNvSpPr/>
            <p:nvPr/>
          </p:nvSpPr>
          <p:spPr>
            <a:xfrm>
              <a:off x="1665360" y="1371600"/>
              <a:ext cx="1222200" cy="1069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>
              <a:off x="990720" y="2287440"/>
              <a:ext cx="6760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895840" y="1525680"/>
              <a:ext cx="599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014640" y="2287440"/>
              <a:ext cx="480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4" name=""/>
            <p:cNvGrpSpPr/>
            <p:nvPr/>
          </p:nvGrpSpPr>
          <p:grpSpPr>
            <a:xfrm>
              <a:off x="990720" y="1373040"/>
              <a:ext cx="888840" cy="397440"/>
              <a:chOff x="990720" y="1373040"/>
              <a:chExt cx="888840" cy="397440"/>
            </a:xfrm>
          </p:grpSpPr>
          <p:sp>
            <p:nvSpPr>
              <p:cNvPr id="1655" name=""/>
              <p:cNvSpPr/>
              <p:nvPr/>
            </p:nvSpPr>
            <p:spPr>
              <a:xfrm flipH="1">
                <a:off x="990720" y="1525680"/>
                <a:ext cx="6760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1666800" y="1373040"/>
                <a:ext cx="212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7" name=""/>
            <p:cNvSpPr/>
            <p:nvPr/>
          </p:nvSpPr>
          <p:spPr>
            <a:xfrm>
              <a:off x="1590840" y="2058840"/>
              <a:ext cx="923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gt;CL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581200" y="1373040"/>
              <a:ext cx="212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2581200" y="2058840"/>
              <a:ext cx="381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892600" y="2228760"/>
              <a:ext cx="96840" cy="103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1" name=""/>
          <p:cNvGrpSpPr/>
          <p:nvPr/>
        </p:nvGrpSpPr>
        <p:grpSpPr>
          <a:xfrm>
            <a:off x="635040" y="4178160"/>
            <a:ext cx="7823160" cy="1946880"/>
            <a:chOff x="635040" y="4178160"/>
            <a:chExt cx="7823160" cy="1946880"/>
          </a:xfrm>
        </p:grpSpPr>
        <p:grpSp>
          <p:nvGrpSpPr>
            <p:cNvPr id="1662" name=""/>
            <p:cNvGrpSpPr/>
            <p:nvPr/>
          </p:nvGrpSpPr>
          <p:grpSpPr>
            <a:xfrm>
              <a:off x="2750760" y="4267080"/>
              <a:ext cx="4931280" cy="1085040"/>
              <a:chOff x="2750760" y="4267080"/>
              <a:chExt cx="4931280" cy="1085040"/>
            </a:xfrm>
          </p:grpSpPr>
          <p:sp>
            <p:nvSpPr>
              <p:cNvPr id="1663" name=""/>
              <p:cNvSpPr/>
              <p:nvPr/>
            </p:nvSpPr>
            <p:spPr>
              <a:xfrm>
                <a:off x="3425760" y="4267080"/>
                <a:ext cx="1222560" cy="1069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flipH="1">
                <a:off x="2750760" y="5183280"/>
                <a:ext cx="6764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4656240" y="4421160"/>
                <a:ext cx="600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6" name=""/>
              <p:cNvGrpSpPr/>
              <p:nvPr/>
            </p:nvGrpSpPr>
            <p:grpSpPr>
              <a:xfrm>
                <a:off x="2750760" y="4268880"/>
                <a:ext cx="889200" cy="397440"/>
                <a:chOff x="2750760" y="4268880"/>
                <a:chExt cx="889200" cy="397440"/>
              </a:xfrm>
            </p:grpSpPr>
            <p:sp>
              <p:nvSpPr>
                <p:cNvPr id="1667" name=""/>
                <p:cNvSpPr/>
                <p:nvPr/>
              </p:nvSpPr>
              <p:spPr>
                <a:xfrm flipH="1">
                  <a:off x="2750760" y="4421160"/>
                  <a:ext cx="67644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>
                  <a:off x="3427560" y="4268880"/>
                  <a:ext cx="2124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9" name=""/>
              <p:cNvSpPr/>
              <p:nvPr/>
            </p:nvSpPr>
            <p:spPr>
              <a:xfrm>
                <a:off x="3427560" y="4954680"/>
                <a:ext cx="2124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4341960" y="4268880"/>
                <a:ext cx="21240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1" name=""/>
              <p:cNvGrpSpPr/>
              <p:nvPr/>
            </p:nvGrpSpPr>
            <p:grpSpPr>
              <a:xfrm>
                <a:off x="5176440" y="4267080"/>
                <a:ext cx="2505600" cy="1085040"/>
                <a:chOff x="5176440" y="4267080"/>
                <a:chExt cx="2505600" cy="1085040"/>
              </a:xfrm>
            </p:grpSpPr>
            <p:sp>
              <p:nvSpPr>
                <p:cNvPr id="1672" name=""/>
                <p:cNvSpPr/>
                <p:nvPr/>
              </p:nvSpPr>
              <p:spPr>
                <a:xfrm>
                  <a:off x="5851440" y="4267080"/>
                  <a:ext cx="1222560" cy="106992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 flipH="1">
                  <a:off x="5176440" y="5183280"/>
                  <a:ext cx="67644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7081920" y="4421160"/>
                  <a:ext cx="600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>
                  <a:off x="7201080" y="5183280"/>
                  <a:ext cx="480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76" name=""/>
                <p:cNvGrpSpPr/>
                <p:nvPr/>
              </p:nvGrpSpPr>
              <p:grpSpPr>
                <a:xfrm>
                  <a:off x="5176440" y="4268880"/>
                  <a:ext cx="889560" cy="397440"/>
                  <a:chOff x="5176440" y="4268880"/>
                  <a:chExt cx="889560" cy="397440"/>
                </a:xfrm>
              </p:grpSpPr>
              <p:sp>
                <p:nvSpPr>
                  <p:cNvPr id="1677" name=""/>
                  <p:cNvSpPr/>
                  <p:nvPr/>
                </p:nvSpPr>
                <p:spPr>
                  <a:xfrm flipH="1">
                    <a:off x="5176440" y="4421160"/>
                    <a:ext cx="676440" cy="14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8" name=""/>
                  <p:cNvSpPr/>
                  <p:nvPr/>
                </p:nvSpPr>
                <p:spPr>
                  <a:xfrm>
                    <a:off x="5853240" y="4268880"/>
                    <a:ext cx="21276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79" name=""/>
                <p:cNvSpPr/>
                <p:nvPr/>
              </p:nvSpPr>
              <p:spPr>
                <a:xfrm>
                  <a:off x="5853240" y="4954680"/>
                  <a:ext cx="2127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6767640" y="4268880"/>
                  <a:ext cx="2127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6767640" y="4954680"/>
                  <a:ext cx="3808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7078680" y="5124600"/>
                  <a:ext cx="96840" cy="10296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83" name=""/>
            <p:cNvSpPr/>
            <p:nvPr/>
          </p:nvSpPr>
          <p:spPr>
            <a:xfrm flipH="1">
              <a:off x="1303200" y="4419720"/>
              <a:ext cx="1440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4" name=""/>
            <p:cNvGrpSpPr/>
            <p:nvPr/>
          </p:nvGrpSpPr>
          <p:grpSpPr>
            <a:xfrm>
              <a:off x="1986120" y="5796000"/>
              <a:ext cx="379080" cy="303120"/>
              <a:chOff x="1986120" y="5796000"/>
              <a:chExt cx="379080" cy="303120"/>
            </a:xfrm>
          </p:grpSpPr>
          <p:sp>
            <p:nvSpPr>
              <p:cNvPr id="1685" name=""/>
              <p:cNvSpPr/>
              <p:nvPr/>
            </p:nvSpPr>
            <p:spPr>
              <a:xfrm>
                <a:off x="2268360" y="5892840"/>
                <a:ext cx="96840" cy="103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 flipH="1" flipV="1">
                <a:off x="1989000" y="5796000"/>
                <a:ext cx="270000" cy="147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 flipH="1">
                <a:off x="1989000" y="5951520"/>
                <a:ext cx="270000" cy="147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1986120" y="5802480"/>
                <a:ext cx="0" cy="293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9" name=""/>
            <p:cNvSpPr/>
            <p:nvPr/>
          </p:nvSpPr>
          <p:spPr>
            <a:xfrm>
              <a:off x="3782880" y="5897520"/>
              <a:ext cx="96840" cy="103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 flipV="1">
              <a:off x="3894120" y="5796000"/>
              <a:ext cx="270000" cy="14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H="1">
              <a:off x="3894120" y="5951520"/>
              <a:ext cx="270000" cy="14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3890880" y="5802480"/>
              <a:ext cx="0" cy="29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378160" y="5951520"/>
              <a:ext cx="1404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754360" y="5192640"/>
              <a:ext cx="0" cy="75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4168800" y="5943600"/>
              <a:ext cx="1004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181480" y="5192640"/>
              <a:ext cx="0" cy="74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1338120" y="5946840"/>
              <a:ext cx="642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927000" y="4178160"/>
              <a:ext cx="507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35040" y="5727600"/>
              <a:ext cx="1003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L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7734240" y="4216320"/>
              <a:ext cx="419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7721640" y="4952880"/>
              <a:ext cx="736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/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2" name=""/>
          <p:cNvGrpSpPr/>
          <p:nvPr/>
        </p:nvGrpSpPr>
        <p:grpSpPr>
          <a:xfrm>
            <a:off x="4952880" y="1371600"/>
            <a:ext cx="3659400" cy="2427120"/>
            <a:chOff x="4952880" y="1371600"/>
            <a:chExt cx="3659400" cy="2427120"/>
          </a:xfrm>
        </p:grpSpPr>
        <p:sp>
          <p:nvSpPr>
            <p:cNvPr id="1703" name=""/>
            <p:cNvSpPr/>
            <p:nvPr/>
          </p:nvSpPr>
          <p:spPr>
            <a:xfrm>
              <a:off x="4952880" y="1371600"/>
              <a:ext cx="3432240" cy="2413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4964040" y="1955880"/>
              <a:ext cx="326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6554880" y="1384200"/>
              <a:ext cx="0" cy="241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5106960" y="1469880"/>
              <a:ext cx="558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818320" y="1469880"/>
              <a:ext cx="723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L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6707160" y="146988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621560" y="146988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/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5106960" y="1955880"/>
              <a:ext cx="533520" cy="178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6021360" y="2857680"/>
              <a:ext cx="317520" cy="86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630840" y="1955880"/>
              <a:ext cx="1219320" cy="17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ast 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ast 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7392960" y="1955880"/>
              <a:ext cx="1219320" cy="17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ast /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ast /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4" name=""/>
            <p:cNvGrpSpPr/>
            <p:nvPr/>
          </p:nvGrpSpPr>
          <p:grpSpPr>
            <a:xfrm>
              <a:off x="5940360" y="2058840"/>
              <a:ext cx="449280" cy="762120"/>
              <a:chOff x="5940360" y="2058840"/>
              <a:chExt cx="449280" cy="762120"/>
            </a:xfrm>
          </p:grpSpPr>
          <p:grpSp>
            <p:nvGrpSpPr>
              <p:cNvPr id="1715" name=""/>
              <p:cNvGrpSpPr/>
              <p:nvPr/>
            </p:nvGrpSpPr>
            <p:grpSpPr>
              <a:xfrm>
                <a:off x="5940360" y="2058840"/>
                <a:ext cx="449280" cy="304920"/>
                <a:chOff x="5940360" y="2058840"/>
                <a:chExt cx="449280" cy="304920"/>
              </a:xfrm>
            </p:grpSpPr>
            <p:sp>
              <p:nvSpPr>
                <p:cNvPr id="1716" name=""/>
                <p:cNvSpPr/>
                <p:nvPr/>
              </p:nvSpPr>
              <p:spPr>
                <a:xfrm>
                  <a:off x="5940360" y="2363760"/>
                  <a:ext cx="220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 flipV="1">
                  <a:off x="6161040" y="2063880"/>
                  <a:ext cx="0" cy="296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8" name=""/>
                <p:cNvSpPr/>
                <p:nvPr/>
              </p:nvSpPr>
              <p:spPr>
                <a:xfrm>
                  <a:off x="6168960" y="2058840"/>
                  <a:ext cx="220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9" name=""/>
              <p:cNvGrpSpPr/>
              <p:nvPr/>
            </p:nvGrpSpPr>
            <p:grpSpPr>
              <a:xfrm>
                <a:off x="5940360" y="2516040"/>
                <a:ext cx="449280" cy="304920"/>
                <a:chOff x="5940360" y="2516040"/>
                <a:chExt cx="449280" cy="304920"/>
              </a:xfrm>
            </p:grpSpPr>
            <p:sp>
              <p:nvSpPr>
                <p:cNvPr id="1720" name=""/>
                <p:cNvSpPr/>
                <p:nvPr/>
              </p:nvSpPr>
              <p:spPr>
                <a:xfrm>
                  <a:off x="5940360" y="2820960"/>
                  <a:ext cx="220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 flipV="1">
                  <a:off x="6161040" y="2521080"/>
                  <a:ext cx="0" cy="296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6168960" y="2516040"/>
                  <a:ext cx="220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23" name=""/>
          <p:cNvSpPr/>
          <p:nvPr/>
        </p:nvSpPr>
        <p:spPr>
          <a:xfrm>
            <a:off x="3488040" y="3763800"/>
            <a:ext cx="890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6078600" y="3916440"/>
            <a:ext cx="750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a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4936320" y="4068720"/>
            <a:ext cx="595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302040" y="2438280"/>
            <a:ext cx="4489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ice samples inputs and changes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ly on a clock ed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ifies the meeting of setup/hold tim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ster FF - transparent on CLK’ (entire pul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ave FF - transparent on CLK (master fix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FE24E-DE43-44FA-899D-5E3082447942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ive-Edge-Triggered D Flip-Fl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8" name=""/>
          <p:cNvGrpSpPr/>
          <p:nvPr/>
        </p:nvGrpSpPr>
        <p:grpSpPr>
          <a:xfrm>
            <a:off x="647640" y="4216320"/>
            <a:ext cx="7823160" cy="1946880"/>
            <a:chOff x="647640" y="4216320"/>
            <a:chExt cx="7823160" cy="1946880"/>
          </a:xfrm>
        </p:grpSpPr>
        <p:grpSp>
          <p:nvGrpSpPr>
            <p:cNvPr id="1729" name=""/>
            <p:cNvGrpSpPr/>
            <p:nvPr/>
          </p:nvGrpSpPr>
          <p:grpSpPr>
            <a:xfrm>
              <a:off x="2763360" y="4305240"/>
              <a:ext cx="4931280" cy="1085040"/>
              <a:chOff x="2763360" y="4305240"/>
              <a:chExt cx="4931280" cy="1085040"/>
            </a:xfrm>
          </p:grpSpPr>
          <p:sp>
            <p:nvSpPr>
              <p:cNvPr id="1730" name=""/>
              <p:cNvSpPr/>
              <p:nvPr/>
            </p:nvSpPr>
            <p:spPr>
              <a:xfrm>
                <a:off x="3438360" y="4305240"/>
                <a:ext cx="1222560" cy="1069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 flipH="1">
                <a:off x="2763360" y="5221440"/>
                <a:ext cx="6764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668840" y="4459320"/>
                <a:ext cx="600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3" name=""/>
              <p:cNvGrpSpPr/>
              <p:nvPr/>
            </p:nvGrpSpPr>
            <p:grpSpPr>
              <a:xfrm>
                <a:off x="2763360" y="4307040"/>
                <a:ext cx="889560" cy="397440"/>
                <a:chOff x="2763360" y="4307040"/>
                <a:chExt cx="889560" cy="397440"/>
              </a:xfrm>
            </p:grpSpPr>
            <p:sp>
              <p:nvSpPr>
                <p:cNvPr id="1734" name=""/>
                <p:cNvSpPr/>
                <p:nvPr/>
              </p:nvSpPr>
              <p:spPr>
                <a:xfrm flipH="1">
                  <a:off x="2763360" y="4459320"/>
                  <a:ext cx="67644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3440160" y="4307040"/>
                  <a:ext cx="2127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6" name=""/>
              <p:cNvSpPr/>
              <p:nvPr/>
            </p:nvSpPr>
            <p:spPr>
              <a:xfrm>
                <a:off x="3440160" y="4992840"/>
                <a:ext cx="212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4354560" y="4307040"/>
                <a:ext cx="212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8" name=""/>
              <p:cNvGrpSpPr/>
              <p:nvPr/>
            </p:nvGrpSpPr>
            <p:grpSpPr>
              <a:xfrm>
                <a:off x="5189040" y="4305240"/>
                <a:ext cx="2505600" cy="1085040"/>
                <a:chOff x="5189040" y="4305240"/>
                <a:chExt cx="2505600" cy="1085040"/>
              </a:xfrm>
            </p:grpSpPr>
            <p:sp>
              <p:nvSpPr>
                <p:cNvPr id="1739" name=""/>
                <p:cNvSpPr/>
                <p:nvPr/>
              </p:nvSpPr>
              <p:spPr>
                <a:xfrm>
                  <a:off x="5864400" y="4305240"/>
                  <a:ext cx="1222200" cy="1069920"/>
                </a:xfrm>
                <a:prstGeom prst="rect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 flipH="1">
                  <a:off x="5189040" y="5221440"/>
                  <a:ext cx="676440" cy="1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7094520" y="4459320"/>
                  <a:ext cx="600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7213680" y="5221440"/>
                  <a:ext cx="480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43" name=""/>
                <p:cNvGrpSpPr/>
                <p:nvPr/>
              </p:nvGrpSpPr>
              <p:grpSpPr>
                <a:xfrm>
                  <a:off x="5189040" y="4307040"/>
                  <a:ext cx="889560" cy="397440"/>
                  <a:chOff x="5189040" y="4307040"/>
                  <a:chExt cx="889560" cy="397440"/>
                </a:xfrm>
              </p:grpSpPr>
              <p:sp>
                <p:nvSpPr>
                  <p:cNvPr id="1744" name=""/>
                  <p:cNvSpPr/>
                  <p:nvPr/>
                </p:nvSpPr>
                <p:spPr>
                  <a:xfrm flipH="1">
                    <a:off x="5189040" y="4459320"/>
                    <a:ext cx="676440" cy="14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5" name=""/>
                  <p:cNvSpPr/>
                  <p:nvPr/>
                </p:nvSpPr>
                <p:spPr>
                  <a:xfrm>
                    <a:off x="5865840" y="4307040"/>
                    <a:ext cx="212760" cy="397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2160" rIns="92160" tIns="46080" bIns="4608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46" name=""/>
                <p:cNvSpPr/>
                <p:nvPr/>
              </p:nvSpPr>
              <p:spPr>
                <a:xfrm>
                  <a:off x="5865840" y="4992840"/>
                  <a:ext cx="2127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>
                  <a:off x="6780240" y="4307040"/>
                  <a:ext cx="2127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>
                  <a:off x="6780240" y="4992840"/>
                  <a:ext cx="3808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9" name=""/>
                <p:cNvSpPr/>
                <p:nvPr/>
              </p:nvSpPr>
              <p:spPr>
                <a:xfrm>
                  <a:off x="7091280" y="5162400"/>
                  <a:ext cx="96840" cy="1033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50" name=""/>
            <p:cNvSpPr/>
            <p:nvPr/>
          </p:nvSpPr>
          <p:spPr>
            <a:xfrm flipH="1">
              <a:off x="1315800" y="4457880"/>
              <a:ext cx="1439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1" name=""/>
            <p:cNvGrpSpPr/>
            <p:nvPr/>
          </p:nvGrpSpPr>
          <p:grpSpPr>
            <a:xfrm>
              <a:off x="3801960" y="5834160"/>
              <a:ext cx="379440" cy="303120"/>
              <a:chOff x="3801960" y="5834160"/>
              <a:chExt cx="379440" cy="303120"/>
            </a:xfrm>
          </p:grpSpPr>
          <p:sp>
            <p:nvSpPr>
              <p:cNvPr id="1752" name=""/>
              <p:cNvSpPr/>
              <p:nvPr/>
            </p:nvSpPr>
            <p:spPr>
              <a:xfrm>
                <a:off x="4084560" y="5931000"/>
                <a:ext cx="96840" cy="1029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 flipH="1" flipV="1">
                <a:off x="3805200" y="5834160"/>
                <a:ext cx="270000" cy="147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 flipH="1">
                <a:off x="3805200" y="5989680"/>
                <a:ext cx="270000" cy="147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801960" y="5840280"/>
                <a:ext cx="0" cy="293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6" name=""/>
            <p:cNvSpPr/>
            <p:nvPr/>
          </p:nvSpPr>
          <p:spPr>
            <a:xfrm>
              <a:off x="2390760" y="5989680"/>
              <a:ext cx="1405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2766960" y="5230800"/>
              <a:ext cx="0" cy="75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181400" y="5981760"/>
              <a:ext cx="100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5194440" y="5230800"/>
              <a:ext cx="0" cy="74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 flipH="1">
              <a:off x="1351080" y="5997600"/>
              <a:ext cx="1062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939960" y="4216320"/>
              <a:ext cx="507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647640" y="5765760"/>
              <a:ext cx="1003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L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7746840" y="4254480"/>
              <a:ext cx="419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7734240" y="4991040"/>
              <a:ext cx="736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/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5" name=""/>
          <p:cNvGrpSpPr/>
          <p:nvPr/>
        </p:nvGrpSpPr>
        <p:grpSpPr>
          <a:xfrm>
            <a:off x="4940280" y="1434960"/>
            <a:ext cx="3659040" cy="2427480"/>
            <a:chOff x="4940280" y="1434960"/>
            <a:chExt cx="3659040" cy="2427480"/>
          </a:xfrm>
        </p:grpSpPr>
        <p:sp>
          <p:nvSpPr>
            <p:cNvPr id="1766" name=""/>
            <p:cNvSpPr/>
            <p:nvPr/>
          </p:nvSpPr>
          <p:spPr>
            <a:xfrm>
              <a:off x="4940280" y="1434960"/>
              <a:ext cx="3432240" cy="2413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951440" y="2019240"/>
              <a:ext cx="326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6541920" y="1447920"/>
              <a:ext cx="0" cy="241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094360" y="1533600"/>
              <a:ext cx="558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805360" y="1533600"/>
              <a:ext cx="723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L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6694560" y="153360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7608960" y="15336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/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094360" y="2019240"/>
              <a:ext cx="533160" cy="178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008760" y="2921040"/>
              <a:ext cx="317520" cy="86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6618240" y="2019240"/>
              <a:ext cx="1219320" cy="17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ast 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ast 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380360" y="2019240"/>
              <a:ext cx="1218960" cy="175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ast /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ast /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7" name=""/>
            <p:cNvGrpSpPr/>
            <p:nvPr/>
          </p:nvGrpSpPr>
          <p:grpSpPr>
            <a:xfrm>
              <a:off x="5927760" y="2122560"/>
              <a:ext cx="449280" cy="304560"/>
              <a:chOff x="5927760" y="2122560"/>
              <a:chExt cx="449280" cy="304560"/>
            </a:xfrm>
          </p:grpSpPr>
          <p:sp>
            <p:nvSpPr>
              <p:cNvPr id="1778" name=""/>
              <p:cNvSpPr/>
              <p:nvPr/>
            </p:nvSpPr>
            <p:spPr>
              <a:xfrm>
                <a:off x="5927760" y="2122560"/>
                <a:ext cx="220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6148440" y="2130480"/>
                <a:ext cx="0" cy="29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6156360" y="2427120"/>
                <a:ext cx="220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1" name=""/>
            <p:cNvGrpSpPr/>
            <p:nvPr/>
          </p:nvGrpSpPr>
          <p:grpSpPr>
            <a:xfrm>
              <a:off x="5927760" y="2579760"/>
              <a:ext cx="449280" cy="304560"/>
              <a:chOff x="5927760" y="2579760"/>
              <a:chExt cx="449280" cy="304560"/>
            </a:xfrm>
          </p:grpSpPr>
          <p:sp>
            <p:nvSpPr>
              <p:cNvPr id="1782" name=""/>
              <p:cNvSpPr/>
              <p:nvPr/>
            </p:nvSpPr>
            <p:spPr>
              <a:xfrm>
                <a:off x="5927760" y="2579760"/>
                <a:ext cx="220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6148440" y="2587680"/>
                <a:ext cx="0" cy="296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6156360" y="2884320"/>
                <a:ext cx="220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5" name=""/>
          <p:cNvGrpSpPr/>
          <p:nvPr/>
        </p:nvGrpSpPr>
        <p:grpSpPr>
          <a:xfrm>
            <a:off x="1127160" y="1928880"/>
            <a:ext cx="2504880" cy="1084680"/>
            <a:chOff x="1127160" y="1928880"/>
            <a:chExt cx="2504880" cy="1084680"/>
          </a:xfrm>
        </p:grpSpPr>
        <p:sp>
          <p:nvSpPr>
            <p:cNvPr id="1786" name=""/>
            <p:cNvSpPr/>
            <p:nvPr/>
          </p:nvSpPr>
          <p:spPr>
            <a:xfrm>
              <a:off x="1801800" y="1928880"/>
              <a:ext cx="1222560" cy="1069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3032280" y="2082960"/>
              <a:ext cx="599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8" name=""/>
            <p:cNvGrpSpPr/>
            <p:nvPr/>
          </p:nvGrpSpPr>
          <p:grpSpPr>
            <a:xfrm>
              <a:off x="1127160" y="1930320"/>
              <a:ext cx="888840" cy="397440"/>
              <a:chOff x="1127160" y="1930320"/>
              <a:chExt cx="888840" cy="397440"/>
            </a:xfrm>
          </p:grpSpPr>
          <p:sp>
            <p:nvSpPr>
              <p:cNvPr id="1789" name=""/>
              <p:cNvSpPr/>
              <p:nvPr/>
            </p:nvSpPr>
            <p:spPr>
              <a:xfrm flipH="1">
                <a:off x="1127160" y="2082960"/>
                <a:ext cx="6760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1803240" y="1930320"/>
                <a:ext cx="212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91" name=""/>
            <p:cNvSpPr/>
            <p:nvPr/>
          </p:nvSpPr>
          <p:spPr>
            <a:xfrm>
              <a:off x="1727280" y="2616120"/>
              <a:ext cx="923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gt;CL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717640" y="1930320"/>
              <a:ext cx="212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717640" y="2616120"/>
              <a:ext cx="381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4" name=""/>
            <p:cNvGrpSpPr/>
            <p:nvPr/>
          </p:nvGrpSpPr>
          <p:grpSpPr>
            <a:xfrm>
              <a:off x="3029040" y="2786040"/>
              <a:ext cx="603000" cy="103320"/>
              <a:chOff x="3029040" y="2786040"/>
              <a:chExt cx="603000" cy="103320"/>
            </a:xfrm>
          </p:grpSpPr>
          <p:sp>
            <p:nvSpPr>
              <p:cNvPr id="1795" name=""/>
              <p:cNvSpPr/>
              <p:nvPr/>
            </p:nvSpPr>
            <p:spPr>
              <a:xfrm>
                <a:off x="3151080" y="2844720"/>
                <a:ext cx="480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3029040" y="2786040"/>
                <a:ext cx="96840" cy="103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7" name=""/>
            <p:cNvGrpSpPr/>
            <p:nvPr/>
          </p:nvGrpSpPr>
          <p:grpSpPr>
            <a:xfrm>
              <a:off x="1201680" y="2768760"/>
              <a:ext cx="595080" cy="102960"/>
              <a:chOff x="1201680" y="2768760"/>
              <a:chExt cx="595080" cy="102960"/>
            </a:xfrm>
          </p:grpSpPr>
          <p:sp>
            <p:nvSpPr>
              <p:cNvPr id="1798" name=""/>
              <p:cNvSpPr/>
              <p:nvPr/>
            </p:nvSpPr>
            <p:spPr>
              <a:xfrm flipH="1">
                <a:off x="1201680" y="2827440"/>
                <a:ext cx="480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flipH="1">
                <a:off x="1699560" y="2768760"/>
                <a:ext cx="96840" cy="10296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1B8F6-6A45-47FF-A39D-631623046C95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ge-Triggered J-K Flip-Fl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1" name=""/>
          <p:cNvGrpSpPr/>
          <p:nvPr/>
        </p:nvGrpSpPr>
        <p:grpSpPr>
          <a:xfrm>
            <a:off x="1203120" y="1878120"/>
            <a:ext cx="2516400" cy="1084680"/>
            <a:chOff x="1203120" y="1878120"/>
            <a:chExt cx="2516400" cy="1084680"/>
          </a:xfrm>
        </p:grpSpPr>
        <p:sp>
          <p:nvSpPr>
            <p:cNvPr id="1802" name=""/>
            <p:cNvSpPr/>
            <p:nvPr/>
          </p:nvSpPr>
          <p:spPr>
            <a:xfrm flipH="1">
              <a:off x="1213920" y="2795760"/>
              <a:ext cx="676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3119400" y="2033640"/>
              <a:ext cx="60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3238560" y="2795760"/>
              <a:ext cx="480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flipH="1">
              <a:off x="1227240" y="2795760"/>
              <a:ext cx="676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903320" y="1878120"/>
              <a:ext cx="1222560" cy="1069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7" name=""/>
            <p:cNvGrpSpPr/>
            <p:nvPr/>
          </p:nvGrpSpPr>
          <p:grpSpPr>
            <a:xfrm>
              <a:off x="1228320" y="1879560"/>
              <a:ext cx="889560" cy="397440"/>
              <a:chOff x="1228320" y="1879560"/>
              <a:chExt cx="889560" cy="397440"/>
            </a:xfrm>
          </p:grpSpPr>
          <p:sp>
            <p:nvSpPr>
              <p:cNvPr id="1808" name=""/>
              <p:cNvSpPr/>
              <p:nvPr/>
            </p:nvSpPr>
            <p:spPr>
              <a:xfrm flipH="1">
                <a:off x="1228320" y="2031840"/>
                <a:ext cx="67644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1905120" y="1879560"/>
                <a:ext cx="212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0" name=""/>
            <p:cNvSpPr/>
            <p:nvPr/>
          </p:nvSpPr>
          <p:spPr>
            <a:xfrm>
              <a:off x="1905120" y="2565360"/>
              <a:ext cx="212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819520" y="1879560"/>
              <a:ext cx="212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2819520" y="256536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3130560" y="2735280"/>
              <a:ext cx="96840" cy="103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 flipH="1">
              <a:off x="1203120" y="2400480"/>
              <a:ext cx="688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816200" y="2247840"/>
              <a:ext cx="1025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gt;CL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6" name=""/>
          <p:cNvGrpSpPr/>
          <p:nvPr/>
        </p:nvGrpSpPr>
        <p:grpSpPr>
          <a:xfrm>
            <a:off x="190440" y="4178160"/>
            <a:ext cx="5613480" cy="2160720"/>
            <a:chOff x="190440" y="4178160"/>
            <a:chExt cx="5613480" cy="2160720"/>
          </a:xfrm>
        </p:grpSpPr>
        <p:sp>
          <p:nvSpPr>
            <p:cNvPr id="1817" name=""/>
            <p:cNvSpPr/>
            <p:nvPr/>
          </p:nvSpPr>
          <p:spPr>
            <a:xfrm>
              <a:off x="5295960" y="4838760"/>
              <a:ext cx="5079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516480" y="4900680"/>
              <a:ext cx="1222200" cy="1069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H="1">
              <a:off x="2841120" y="5816520"/>
              <a:ext cx="676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4746600" y="5054760"/>
              <a:ext cx="60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865760" y="5816520"/>
              <a:ext cx="480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2" name=""/>
            <p:cNvGrpSpPr/>
            <p:nvPr/>
          </p:nvGrpSpPr>
          <p:grpSpPr>
            <a:xfrm>
              <a:off x="2841120" y="4902120"/>
              <a:ext cx="889560" cy="397440"/>
              <a:chOff x="2841120" y="4902120"/>
              <a:chExt cx="889560" cy="397440"/>
            </a:xfrm>
          </p:grpSpPr>
          <p:sp>
            <p:nvSpPr>
              <p:cNvPr id="1823" name=""/>
              <p:cNvSpPr/>
              <p:nvPr/>
            </p:nvSpPr>
            <p:spPr>
              <a:xfrm flipH="1">
                <a:off x="2841120" y="5054760"/>
                <a:ext cx="6764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3517920" y="4902120"/>
                <a:ext cx="212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25" name=""/>
            <p:cNvSpPr/>
            <p:nvPr/>
          </p:nvSpPr>
          <p:spPr>
            <a:xfrm>
              <a:off x="3441600" y="5587920"/>
              <a:ext cx="924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gt;CL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432320" y="4902120"/>
              <a:ext cx="212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4432320" y="558792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4743360" y="5757840"/>
              <a:ext cx="96840" cy="103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9" name=""/>
            <p:cNvGrpSpPr/>
            <p:nvPr/>
          </p:nvGrpSpPr>
          <p:grpSpPr>
            <a:xfrm>
              <a:off x="1308240" y="4495680"/>
              <a:ext cx="543960" cy="1204560"/>
              <a:chOff x="1308240" y="4495680"/>
              <a:chExt cx="543960" cy="1204560"/>
            </a:xfrm>
          </p:grpSpPr>
          <p:grpSp>
            <p:nvGrpSpPr>
              <p:cNvPr id="1830" name=""/>
              <p:cNvGrpSpPr/>
              <p:nvPr/>
            </p:nvGrpSpPr>
            <p:grpSpPr>
              <a:xfrm>
                <a:off x="1308240" y="4495680"/>
                <a:ext cx="543960" cy="468000"/>
                <a:chOff x="1308240" y="4495680"/>
                <a:chExt cx="543960" cy="468000"/>
              </a:xfrm>
            </p:grpSpPr>
            <p:sp>
              <p:nvSpPr>
                <p:cNvPr id="1831" name=""/>
                <p:cNvSpPr/>
                <p:nvPr/>
              </p:nvSpPr>
              <p:spPr>
                <a:xfrm>
                  <a:off x="1308240" y="4505400"/>
                  <a:ext cx="0" cy="447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2" name=""/>
                <p:cNvSpPr/>
                <p:nvPr/>
              </p:nvSpPr>
              <p:spPr>
                <a:xfrm flipH="1">
                  <a:off x="1317600" y="4495680"/>
                  <a:ext cx="295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3" name=""/>
                <p:cNvSpPr/>
                <p:nvPr/>
              </p:nvSpPr>
              <p:spPr>
                <a:xfrm flipH="1">
                  <a:off x="1317600" y="4952880"/>
                  <a:ext cx="295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1395720" y="4506840"/>
                  <a:ext cx="4564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25" y="0"/>
                      </a:moveTo>
                      <a:arcTo wR="10800" hR="10800" stAng="-5423873" swAng="542387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25" y="0"/>
                      </a:moveTo>
                      <a:arcTo wR="10800" hR="10800" stAng="-5423873" swAng="5423873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 rot="10800000">
                  <a:off x="1395000" y="4506840"/>
                  <a:ext cx="45720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" y="10350"/>
                      </a:moveTo>
                      <a:arcTo wR="10800" hR="10800" stAng="-10656844" swAng="52329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" y="10350"/>
                      </a:moveTo>
                      <a:arcTo wR="10800" hR="10800" stAng="-10656844" swAng="5232970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6" name=""/>
              <p:cNvGrpSpPr/>
              <p:nvPr/>
            </p:nvGrpSpPr>
            <p:grpSpPr>
              <a:xfrm>
                <a:off x="1308240" y="5232240"/>
                <a:ext cx="543960" cy="468000"/>
                <a:chOff x="1308240" y="5232240"/>
                <a:chExt cx="543960" cy="468000"/>
              </a:xfrm>
            </p:grpSpPr>
            <p:sp>
              <p:nvSpPr>
                <p:cNvPr id="1837" name=""/>
                <p:cNvSpPr/>
                <p:nvPr/>
              </p:nvSpPr>
              <p:spPr>
                <a:xfrm>
                  <a:off x="1308240" y="5241960"/>
                  <a:ext cx="0" cy="4474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8" name=""/>
                <p:cNvSpPr/>
                <p:nvPr/>
              </p:nvSpPr>
              <p:spPr>
                <a:xfrm flipH="1">
                  <a:off x="1317600" y="5232240"/>
                  <a:ext cx="295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 flipH="1">
                  <a:off x="1317600" y="5689440"/>
                  <a:ext cx="295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0" name=""/>
                <p:cNvSpPr/>
                <p:nvPr/>
              </p:nvSpPr>
              <p:spPr>
                <a:xfrm>
                  <a:off x="1395720" y="5243400"/>
                  <a:ext cx="4564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25" y="0"/>
                      </a:moveTo>
                      <a:arcTo wR="10800" hR="10800" stAng="-5423873" swAng="542387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25" y="0"/>
                      </a:moveTo>
                      <a:arcTo wR="10800" hR="10800" stAng="-5423873" swAng="5423873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1" name=""/>
                <p:cNvSpPr/>
                <p:nvPr/>
              </p:nvSpPr>
              <p:spPr>
                <a:xfrm rot="10800000">
                  <a:off x="1395000" y="5243400"/>
                  <a:ext cx="45720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" y="10350"/>
                      </a:moveTo>
                      <a:arcTo wR="10800" hR="10800" stAng="-10656844" swAng="523297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" y="10350"/>
                      </a:moveTo>
                      <a:arcTo wR="10800" hR="10800" stAng="-10656844" swAng="5232970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42" name=""/>
            <p:cNvGrpSpPr/>
            <p:nvPr/>
          </p:nvGrpSpPr>
          <p:grpSpPr>
            <a:xfrm>
              <a:off x="1758600" y="4824360"/>
              <a:ext cx="1070280" cy="458280"/>
              <a:chOff x="1758600" y="4824360"/>
              <a:chExt cx="1070280" cy="458280"/>
            </a:xfrm>
          </p:grpSpPr>
          <p:grpSp>
            <p:nvGrpSpPr>
              <p:cNvPr id="1843" name=""/>
              <p:cNvGrpSpPr/>
              <p:nvPr/>
            </p:nvGrpSpPr>
            <p:grpSpPr>
              <a:xfrm>
                <a:off x="2220480" y="4824360"/>
                <a:ext cx="153000" cy="456840"/>
                <a:chOff x="2220480" y="4824360"/>
                <a:chExt cx="153000" cy="456840"/>
              </a:xfrm>
            </p:grpSpPr>
            <p:sp>
              <p:nvSpPr>
                <p:cNvPr id="1844" name=""/>
                <p:cNvSpPr/>
                <p:nvPr/>
              </p:nvSpPr>
              <p:spPr>
                <a:xfrm>
                  <a:off x="2220480" y="4824360"/>
                  <a:ext cx="152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75" y="2"/>
                      </a:moveTo>
                      <a:arcTo wR="10800" hR="10800" stAng="-5471610" swAng="547161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75" y="2"/>
                      </a:moveTo>
                      <a:arcTo wR="10800" hR="10800" stAng="-5471610" swAng="5471610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 rot="10800000">
                  <a:off x="2221200" y="4824360"/>
                  <a:ext cx="152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" y="10350"/>
                      </a:moveTo>
                      <a:arcTo wR="10800" hR="10800" stAng="-10656844" swAng="51852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" y="10350"/>
                      </a:moveTo>
                      <a:arcTo wR="10800" hR="10800" stAng="-10656844" swAng="5185234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6" name=""/>
              <p:cNvSpPr/>
              <p:nvPr/>
            </p:nvSpPr>
            <p:spPr>
              <a:xfrm>
                <a:off x="2257560" y="4889520"/>
                <a:ext cx="75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2270160" y="5194440"/>
                <a:ext cx="60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1758600" y="4826160"/>
                <a:ext cx="1060560" cy="456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68" y="0"/>
                    </a:moveTo>
                    <a:arcTo wR="10800" hR="10800" stAng="-5410292" swAng="55299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68" y="0"/>
                    </a:moveTo>
                    <a:arcTo wR="10800" hR="10800" stAng="-5410292" swAng="5529968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rot="10800000">
                <a:off x="1765080" y="4824360"/>
                <a:ext cx="10638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" y="10350"/>
                    </a:moveTo>
                    <a:arcTo wR="10800" hR="10800" stAng="-10656844" swAng="52465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" y="10350"/>
                    </a:moveTo>
                    <a:arcTo wR="10800" hR="10800" stAng="-10656844" swAng="5246581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0" name=""/>
            <p:cNvSpPr/>
            <p:nvPr/>
          </p:nvSpPr>
          <p:spPr>
            <a:xfrm>
              <a:off x="1841400" y="4724280"/>
              <a:ext cx="420840" cy="166680"/>
            </a:xfrm>
            <a:custGeom>
              <a:avLst/>
              <a:gdLst/>
              <a:ahLst/>
              <a:rect l="l" t="t" r="r" b="b"/>
              <a:pathLst>
                <a:path w="265" h="105">
                  <a:moveTo>
                    <a:pt x="0" y="0"/>
                  </a:moveTo>
                  <a:lnTo>
                    <a:pt x="128" y="0"/>
                  </a:lnTo>
                  <a:lnTo>
                    <a:pt x="128" y="104"/>
                  </a:lnTo>
                  <a:lnTo>
                    <a:pt x="264" y="10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828800" y="5194440"/>
              <a:ext cx="496800" cy="280800"/>
            </a:xfrm>
            <a:custGeom>
              <a:avLst/>
              <a:gdLst/>
              <a:ahLst/>
              <a:rect l="l" t="t" r="r" b="b"/>
              <a:pathLst>
                <a:path w="313" h="177">
                  <a:moveTo>
                    <a:pt x="0" y="176"/>
                  </a:moveTo>
                  <a:lnTo>
                    <a:pt x="136" y="176"/>
                  </a:lnTo>
                  <a:lnTo>
                    <a:pt x="136" y="0"/>
                  </a:lnTo>
                  <a:lnTo>
                    <a:pt x="31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211400" y="5311800"/>
              <a:ext cx="99720" cy="106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H="1">
              <a:off x="757080" y="5359320"/>
              <a:ext cx="449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 flipH="1">
              <a:off x="744480" y="4838760"/>
              <a:ext cx="550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787320" y="5816520"/>
              <a:ext cx="2084400" cy="281160"/>
            </a:xfrm>
            <a:custGeom>
              <a:avLst/>
              <a:gdLst/>
              <a:ahLst/>
              <a:rect l="l" t="t" r="r" b="b"/>
              <a:pathLst>
                <a:path w="1313" h="177">
                  <a:moveTo>
                    <a:pt x="1312" y="0"/>
                  </a:moveTo>
                  <a:lnTo>
                    <a:pt x="1040" y="0"/>
                  </a:lnTo>
                  <a:lnTo>
                    <a:pt x="1040" y="176"/>
                  </a:lnTo>
                  <a:lnTo>
                    <a:pt x="0" y="17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092240" y="4178160"/>
              <a:ext cx="4116240" cy="1627200"/>
            </a:xfrm>
            <a:custGeom>
              <a:avLst/>
              <a:gdLst/>
              <a:ahLst/>
              <a:rect l="l" t="t" r="r" b="b"/>
              <a:pathLst>
                <a:path w="2593" h="1025">
                  <a:moveTo>
                    <a:pt x="2592" y="1024"/>
                  </a:moveTo>
                  <a:lnTo>
                    <a:pt x="2592" y="232"/>
                  </a:lnTo>
                  <a:lnTo>
                    <a:pt x="816" y="232"/>
                  </a:lnTo>
                  <a:lnTo>
                    <a:pt x="816" y="0"/>
                  </a:lnTo>
                  <a:lnTo>
                    <a:pt x="0" y="0"/>
                  </a:lnTo>
                  <a:lnTo>
                    <a:pt x="0" y="248"/>
                  </a:lnTo>
                  <a:lnTo>
                    <a:pt x="136" y="248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104840" y="5054760"/>
              <a:ext cx="3938760" cy="1284120"/>
            </a:xfrm>
            <a:custGeom>
              <a:avLst/>
              <a:gdLst/>
              <a:ahLst/>
              <a:rect l="l" t="t" r="r" b="b"/>
              <a:pathLst>
                <a:path w="2481" h="809">
                  <a:moveTo>
                    <a:pt x="2480" y="0"/>
                  </a:moveTo>
                  <a:lnTo>
                    <a:pt x="2480" y="808"/>
                  </a:lnTo>
                  <a:lnTo>
                    <a:pt x="0" y="808"/>
                  </a:lnTo>
                  <a:lnTo>
                    <a:pt x="0" y="360"/>
                  </a:lnTo>
                  <a:lnTo>
                    <a:pt x="128" y="36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5334120" y="5600880"/>
              <a:ext cx="444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/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90440" y="5880240"/>
              <a:ext cx="812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L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495360" y="4610160"/>
              <a:ext cx="27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444600" y="5143680"/>
              <a:ext cx="355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2" name=""/>
          <p:cNvGrpSpPr/>
          <p:nvPr/>
        </p:nvGrpSpPr>
        <p:grpSpPr>
          <a:xfrm>
            <a:off x="5016600" y="1003320"/>
            <a:ext cx="4092480" cy="3416400"/>
            <a:chOff x="5016600" y="1003320"/>
            <a:chExt cx="4092480" cy="3416400"/>
          </a:xfrm>
        </p:grpSpPr>
        <p:sp>
          <p:nvSpPr>
            <p:cNvPr id="1863" name=""/>
            <p:cNvSpPr/>
            <p:nvPr/>
          </p:nvSpPr>
          <p:spPr>
            <a:xfrm>
              <a:off x="5018040" y="1003320"/>
              <a:ext cx="3787920" cy="3416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5016600" y="1587600"/>
              <a:ext cx="3800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 flipH="1">
              <a:off x="6973920" y="1015920"/>
              <a:ext cx="1440" cy="339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365880" y="1101600"/>
              <a:ext cx="406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7128000" y="110160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8042400" y="1101600"/>
              <a:ext cx="457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/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9" name=""/>
            <p:cNvGrpSpPr/>
            <p:nvPr/>
          </p:nvGrpSpPr>
          <p:grpSpPr>
            <a:xfrm>
              <a:off x="5083200" y="1114560"/>
              <a:ext cx="558720" cy="3201480"/>
              <a:chOff x="5083200" y="1114560"/>
              <a:chExt cx="558720" cy="3201480"/>
            </a:xfrm>
          </p:grpSpPr>
          <p:sp>
            <p:nvSpPr>
              <p:cNvPr id="1870" name=""/>
              <p:cNvSpPr/>
              <p:nvPr/>
            </p:nvSpPr>
            <p:spPr>
              <a:xfrm>
                <a:off x="5083200" y="1114560"/>
                <a:ext cx="558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5083200" y="1600200"/>
                <a:ext cx="533520" cy="271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2" name=""/>
            <p:cNvSpPr/>
            <p:nvPr/>
          </p:nvSpPr>
          <p:spPr>
            <a:xfrm>
              <a:off x="7026120" y="1600200"/>
              <a:ext cx="1219320" cy="263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ast 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ast 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ast 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ast /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7889760" y="1587600"/>
              <a:ext cx="1219320" cy="268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ast /Q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ast /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ast /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ast 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4" name=""/>
            <p:cNvGrpSpPr/>
            <p:nvPr/>
          </p:nvGrpSpPr>
          <p:grpSpPr>
            <a:xfrm>
              <a:off x="5692680" y="1114560"/>
              <a:ext cx="558720" cy="3201480"/>
              <a:chOff x="5692680" y="1114560"/>
              <a:chExt cx="558720" cy="3201480"/>
            </a:xfrm>
          </p:grpSpPr>
          <p:sp>
            <p:nvSpPr>
              <p:cNvPr id="1875" name=""/>
              <p:cNvSpPr/>
              <p:nvPr/>
            </p:nvSpPr>
            <p:spPr>
              <a:xfrm>
                <a:off x="5692680" y="1114560"/>
                <a:ext cx="558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5692680" y="1600200"/>
                <a:ext cx="533520" cy="271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7" name=""/>
            <p:cNvSpPr/>
            <p:nvPr/>
          </p:nvSpPr>
          <p:spPr>
            <a:xfrm>
              <a:off x="6364440" y="1612800"/>
              <a:ext cx="368280" cy="86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8" name=""/>
            <p:cNvGrpSpPr/>
            <p:nvPr/>
          </p:nvGrpSpPr>
          <p:grpSpPr>
            <a:xfrm>
              <a:off x="6297480" y="2529000"/>
              <a:ext cx="449280" cy="761760"/>
              <a:chOff x="6297480" y="2529000"/>
              <a:chExt cx="449280" cy="761760"/>
            </a:xfrm>
          </p:grpSpPr>
          <p:grpSp>
            <p:nvGrpSpPr>
              <p:cNvPr id="1879" name=""/>
              <p:cNvGrpSpPr/>
              <p:nvPr/>
            </p:nvGrpSpPr>
            <p:grpSpPr>
              <a:xfrm>
                <a:off x="6297480" y="2529000"/>
                <a:ext cx="449280" cy="304560"/>
                <a:chOff x="6297480" y="2529000"/>
                <a:chExt cx="449280" cy="304560"/>
              </a:xfrm>
            </p:grpSpPr>
            <p:sp>
              <p:nvSpPr>
                <p:cNvPr id="1880" name=""/>
                <p:cNvSpPr/>
                <p:nvPr/>
              </p:nvSpPr>
              <p:spPr>
                <a:xfrm>
                  <a:off x="6297480" y="2833560"/>
                  <a:ext cx="220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1" name=""/>
                <p:cNvSpPr/>
                <p:nvPr/>
              </p:nvSpPr>
              <p:spPr>
                <a:xfrm flipV="1">
                  <a:off x="6518160" y="2533320"/>
                  <a:ext cx="0" cy="297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2" name=""/>
                <p:cNvSpPr/>
                <p:nvPr/>
              </p:nvSpPr>
              <p:spPr>
                <a:xfrm>
                  <a:off x="6526080" y="2529000"/>
                  <a:ext cx="220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3" name=""/>
              <p:cNvGrpSpPr/>
              <p:nvPr/>
            </p:nvGrpSpPr>
            <p:grpSpPr>
              <a:xfrm>
                <a:off x="6297480" y="2986200"/>
                <a:ext cx="449280" cy="304560"/>
                <a:chOff x="6297480" y="2986200"/>
                <a:chExt cx="449280" cy="304560"/>
              </a:xfrm>
            </p:grpSpPr>
            <p:sp>
              <p:nvSpPr>
                <p:cNvPr id="1884" name=""/>
                <p:cNvSpPr/>
                <p:nvPr/>
              </p:nvSpPr>
              <p:spPr>
                <a:xfrm>
                  <a:off x="6297480" y="3290760"/>
                  <a:ext cx="220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5" name=""/>
                <p:cNvSpPr/>
                <p:nvPr/>
              </p:nvSpPr>
              <p:spPr>
                <a:xfrm flipV="1">
                  <a:off x="6518160" y="2990520"/>
                  <a:ext cx="0" cy="297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6" name=""/>
                <p:cNvSpPr/>
                <p:nvPr/>
              </p:nvSpPr>
              <p:spPr>
                <a:xfrm>
                  <a:off x="6526080" y="2986200"/>
                  <a:ext cx="220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87" name=""/>
            <p:cNvGrpSpPr/>
            <p:nvPr/>
          </p:nvGrpSpPr>
          <p:grpSpPr>
            <a:xfrm>
              <a:off x="6284880" y="3443400"/>
              <a:ext cx="449280" cy="761760"/>
              <a:chOff x="6284880" y="3443400"/>
              <a:chExt cx="449280" cy="761760"/>
            </a:xfrm>
          </p:grpSpPr>
          <p:grpSp>
            <p:nvGrpSpPr>
              <p:cNvPr id="1888" name=""/>
              <p:cNvGrpSpPr/>
              <p:nvPr/>
            </p:nvGrpSpPr>
            <p:grpSpPr>
              <a:xfrm>
                <a:off x="6284880" y="3443400"/>
                <a:ext cx="449280" cy="304560"/>
                <a:chOff x="6284880" y="3443400"/>
                <a:chExt cx="449280" cy="304560"/>
              </a:xfrm>
            </p:grpSpPr>
            <p:sp>
              <p:nvSpPr>
                <p:cNvPr id="1889" name=""/>
                <p:cNvSpPr/>
                <p:nvPr/>
              </p:nvSpPr>
              <p:spPr>
                <a:xfrm>
                  <a:off x="6284880" y="3747960"/>
                  <a:ext cx="220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0" name=""/>
                <p:cNvSpPr/>
                <p:nvPr/>
              </p:nvSpPr>
              <p:spPr>
                <a:xfrm flipV="1">
                  <a:off x="6505560" y="3447720"/>
                  <a:ext cx="0" cy="297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1" name=""/>
                <p:cNvSpPr/>
                <p:nvPr/>
              </p:nvSpPr>
              <p:spPr>
                <a:xfrm>
                  <a:off x="6513480" y="3443400"/>
                  <a:ext cx="220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2" name=""/>
              <p:cNvGrpSpPr/>
              <p:nvPr/>
            </p:nvGrpSpPr>
            <p:grpSpPr>
              <a:xfrm>
                <a:off x="6284880" y="3900600"/>
                <a:ext cx="449280" cy="304560"/>
                <a:chOff x="6284880" y="3900600"/>
                <a:chExt cx="449280" cy="304560"/>
              </a:xfrm>
            </p:grpSpPr>
            <p:sp>
              <p:nvSpPr>
                <p:cNvPr id="1893" name=""/>
                <p:cNvSpPr/>
                <p:nvPr/>
              </p:nvSpPr>
              <p:spPr>
                <a:xfrm>
                  <a:off x="6284880" y="4205160"/>
                  <a:ext cx="220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 flipV="1">
                  <a:off x="6505560" y="3904920"/>
                  <a:ext cx="0" cy="297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6513480" y="3900600"/>
                  <a:ext cx="220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96" name=""/>
          <p:cNvSpPr/>
          <p:nvPr/>
        </p:nvSpPr>
        <p:spPr>
          <a:xfrm>
            <a:off x="5784480" y="4572000"/>
            <a:ext cx="285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(t+1) = J Q(t)’ + K’ Q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5CE90-7605-4F94-B763-BF1B15AFEF44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 (toggle) Flip-Fl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T flip-flop changes state on every clock tick (if enabl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sible circuit desig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without enable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with en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9" name=""/>
          <p:cNvGrpSpPr/>
          <p:nvPr/>
        </p:nvGrpSpPr>
        <p:grpSpPr>
          <a:xfrm>
            <a:off x="901800" y="2819520"/>
            <a:ext cx="3301920" cy="1298880"/>
            <a:chOff x="901800" y="2819520"/>
            <a:chExt cx="3301920" cy="1298880"/>
          </a:xfrm>
        </p:grpSpPr>
        <p:sp>
          <p:nvSpPr>
            <p:cNvPr id="1900" name=""/>
            <p:cNvSpPr/>
            <p:nvPr/>
          </p:nvSpPr>
          <p:spPr>
            <a:xfrm>
              <a:off x="1851120" y="3019320"/>
              <a:ext cx="1225440" cy="1073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H="1">
              <a:off x="1177560" y="3936960"/>
              <a:ext cx="6764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083040" y="3174840"/>
              <a:ext cx="60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201840" y="3936960"/>
              <a:ext cx="481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H="1">
              <a:off x="1546200" y="3182760"/>
              <a:ext cx="308160" cy="6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854360" y="3022560"/>
              <a:ext cx="212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1778040" y="3708360"/>
              <a:ext cx="923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gt;CL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768760" y="3022560"/>
              <a:ext cx="212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768760" y="370836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078000" y="3876840"/>
              <a:ext cx="100080" cy="106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536840" y="2819520"/>
              <a:ext cx="1919160" cy="1119240"/>
            </a:xfrm>
            <a:custGeom>
              <a:avLst/>
              <a:gdLst/>
              <a:ahLst/>
              <a:rect l="l" t="t" r="r" b="b"/>
              <a:pathLst>
                <a:path w="1209" h="705">
                  <a:moveTo>
                    <a:pt x="1208" y="704"/>
                  </a:moveTo>
                  <a:lnTo>
                    <a:pt x="1208" y="0"/>
                  </a:lnTo>
                  <a:lnTo>
                    <a:pt x="0" y="0"/>
                  </a:lnTo>
                  <a:lnTo>
                    <a:pt x="0" y="21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901800" y="3720960"/>
              <a:ext cx="3556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2" name=""/>
            <p:cNvGrpSpPr/>
            <p:nvPr/>
          </p:nvGrpSpPr>
          <p:grpSpPr>
            <a:xfrm>
              <a:off x="3632040" y="2959200"/>
              <a:ext cx="571680" cy="1159200"/>
              <a:chOff x="3632040" y="2959200"/>
              <a:chExt cx="571680" cy="1159200"/>
            </a:xfrm>
          </p:grpSpPr>
          <p:sp>
            <p:nvSpPr>
              <p:cNvPr id="1913" name=""/>
              <p:cNvSpPr/>
              <p:nvPr/>
            </p:nvSpPr>
            <p:spPr>
              <a:xfrm>
                <a:off x="3645000" y="2959200"/>
                <a:ext cx="558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632040" y="3720960"/>
                <a:ext cx="571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/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5" name=""/>
          <p:cNvGrpSpPr/>
          <p:nvPr/>
        </p:nvGrpSpPr>
        <p:grpSpPr>
          <a:xfrm>
            <a:off x="5016600" y="2895480"/>
            <a:ext cx="3340080" cy="1172160"/>
            <a:chOff x="5016600" y="2895480"/>
            <a:chExt cx="3340080" cy="1172160"/>
          </a:xfrm>
        </p:grpSpPr>
        <p:sp>
          <p:nvSpPr>
            <p:cNvPr id="1916" name=""/>
            <p:cNvSpPr/>
            <p:nvPr/>
          </p:nvSpPr>
          <p:spPr>
            <a:xfrm flipH="1">
              <a:off x="5697000" y="3875040"/>
              <a:ext cx="2955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7221600" y="3112920"/>
              <a:ext cx="60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7340760" y="3875040"/>
              <a:ext cx="480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 flipH="1">
              <a:off x="5697360" y="3875040"/>
              <a:ext cx="3081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005520" y="2957400"/>
              <a:ext cx="1222200" cy="1069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1" name=""/>
            <p:cNvGrpSpPr/>
            <p:nvPr/>
          </p:nvGrpSpPr>
          <p:grpSpPr>
            <a:xfrm>
              <a:off x="5330880" y="2959200"/>
              <a:ext cx="888840" cy="397440"/>
              <a:chOff x="5330880" y="2959200"/>
              <a:chExt cx="888840" cy="397440"/>
            </a:xfrm>
          </p:grpSpPr>
          <p:sp>
            <p:nvSpPr>
              <p:cNvPr id="1922" name=""/>
              <p:cNvSpPr/>
              <p:nvPr/>
            </p:nvSpPr>
            <p:spPr>
              <a:xfrm flipH="1">
                <a:off x="5330880" y="3111480"/>
                <a:ext cx="67608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6006960" y="2959200"/>
                <a:ext cx="212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4" name=""/>
            <p:cNvSpPr/>
            <p:nvPr/>
          </p:nvSpPr>
          <p:spPr>
            <a:xfrm>
              <a:off x="6006960" y="3645000"/>
              <a:ext cx="212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921360" y="2959200"/>
              <a:ext cx="212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6921360" y="3645000"/>
              <a:ext cx="381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7232760" y="3814920"/>
              <a:ext cx="96840" cy="1029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 flipH="1">
              <a:off x="5305320" y="3479760"/>
              <a:ext cx="68904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918040" y="3327480"/>
              <a:ext cx="1025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gt;CL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 flipV="1">
              <a:off x="5715000" y="3115800"/>
              <a:ext cx="0" cy="75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067360" y="2895480"/>
              <a:ext cx="279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016600" y="3289320"/>
              <a:ext cx="3427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3" name=""/>
            <p:cNvGrpSpPr/>
            <p:nvPr/>
          </p:nvGrpSpPr>
          <p:grpSpPr>
            <a:xfrm>
              <a:off x="7785000" y="2908440"/>
              <a:ext cx="571680" cy="1159200"/>
              <a:chOff x="7785000" y="2908440"/>
              <a:chExt cx="571680" cy="1159200"/>
            </a:xfrm>
          </p:grpSpPr>
          <p:sp>
            <p:nvSpPr>
              <p:cNvPr id="1934" name=""/>
              <p:cNvSpPr/>
              <p:nvPr/>
            </p:nvSpPr>
            <p:spPr>
              <a:xfrm>
                <a:off x="7797960" y="2908440"/>
                <a:ext cx="558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7785000" y="3670200"/>
                <a:ext cx="5716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/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36" name=""/>
          <p:cNvGrpSpPr/>
          <p:nvPr/>
        </p:nvGrpSpPr>
        <p:grpSpPr>
          <a:xfrm>
            <a:off x="4889520" y="5003640"/>
            <a:ext cx="3479760" cy="1172160"/>
            <a:chOff x="4889520" y="5003640"/>
            <a:chExt cx="3479760" cy="1172160"/>
          </a:xfrm>
        </p:grpSpPr>
        <p:sp>
          <p:nvSpPr>
            <p:cNvPr id="1937" name=""/>
            <p:cNvSpPr/>
            <p:nvPr/>
          </p:nvSpPr>
          <p:spPr>
            <a:xfrm flipH="1">
              <a:off x="5710320" y="5983200"/>
              <a:ext cx="2952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7234200" y="5221440"/>
              <a:ext cx="60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7353360" y="5983200"/>
              <a:ext cx="480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 flipH="1">
              <a:off x="5709960" y="5983200"/>
              <a:ext cx="3078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6018120" y="5065560"/>
              <a:ext cx="1222560" cy="1070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2" name=""/>
            <p:cNvGrpSpPr/>
            <p:nvPr/>
          </p:nvGrpSpPr>
          <p:grpSpPr>
            <a:xfrm>
              <a:off x="5343120" y="5067360"/>
              <a:ext cx="889560" cy="397440"/>
              <a:chOff x="5343120" y="5067360"/>
              <a:chExt cx="889560" cy="397440"/>
            </a:xfrm>
          </p:grpSpPr>
          <p:sp>
            <p:nvSpPr>
              <p:cNvPr id="1943" name=""/>
              <p:cNvSpPr/>
              <p:nvPr/>
            </p:nvSpPr>
            <p:spPr>
              <a:xfrm flipH="1">
                <a:off x="5343120" y="5219640"/>
                <a:ext cx="67644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6019920" y="5067360"/>
                <a:ext cx="212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5" name=""/>
            <p:cNvSpPr/>
            <p:nvPr/>
          </p:nvSpPr>
          <p:spPr>
            <a:xfrm>
              <a:off x="6019920" y="5753160"/>
              <a:ext cx="212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934320" y="5067360"/>
              <a:ext cx="212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934320" y="575316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7245360" y="5923080"/>
              <a:ext cx="96840" cy="1029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H="1">
              <a:off x="5317920" y="5587920"/>
              <a:ext cx="68868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5931000" y="5435640"/>
              <a:ext cx="1025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gt;CL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V="1">
              <a:off x="5727600" y="5223960"/>
              <a:ext cx="0" cy="75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889520" y="5003640"/>
              <a:ext cx="571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029200" y="5397480"/>
              <a:ext cx="3430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4" name=""/>
            <p:cNvGrpSpPr/>
            <p:nvPr/>
          </p:nvGrpSpPr>
          <p:grpSpPr>
            <a:xfrm>
              <a:off x="7797960" y="5016600"/>
              <a:ext cx="571320" cy="1159200"/>
              <a:chOff x="7797960" y="5016600"/>
              <a:chExt cx="571320" cy="1159200"/>
            </a:xfrm>
          </p:grpSpPr>
          <p:sp>
            <p:nvSpPr>
              <p:cNvPr id="1955" name=""/>
              <p:cNvSpPr/>
              <p:nvPr/>
            </p:nvSpPr>
            <p:spPr>
              <a:xfrm>
                <a:off x="7810560" y="5016600"/>
                <a:ext cx="558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7797960" y="5778360"/>
                <a:ext cx="5713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/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57" name=""/>
          <p:cNvSpPr/>
          <p:nvPr/>
        </p:nvSpPr>
        <p:spPr>
          <a:xfrm flipH="1">
            <a:off x="2155680" y="5443560"/>
            <a:ext cx="308160" cy="6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>
            <a:off x="1086120" y="5219640"/>
            <a:ext cx="1059840" cy="456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68" y="0"/>
                </a:moveTo>
                <a:arcTo wR="10800" hR="10800" stAng="-5410292" swAng="5529968"/>
                <a:lnTo>
                  <a:pt x="10800" y="10800"/>
                </a:lnTo>
                <a:close/>
              </a:path>
              <a:path fill="none" w="21600" h="21600">
                <a:moveTo>
                  <a:pt x="10768" y="0"/>
                </a:moveTo>
                <a:arcTo wR="10800" hR="10800" stAng="-5410292" swAng="5529968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9" name=""/>
          <p:cNvGrpSpPr/>
          <p:nvPr/>
        </p:nvGrpSpPr>
        <p:grpSpPr>
          <a:xfrm>
            <a:off x="673200" y="4952880"/>
            <a:ext cx="4140000" cy="1426320"/>
            <a:chOff x="673200" y="4952880"/>
            <a:chExt cx="4140000" cy="1426320"/>
          </a:xfrm>
        </p:grpSpPr>
        <p:sp>
          <p:nvSpPr>
            <p:cNvPr id="1960" name=""/>
            <p:cNvSpPr/>
            <p:nvPr/>
          </p:nvSpPr>
          <p:spPr>
            <a:xfrm>
              <a:off x="2460600" y="5280120"/>
              <a:ext cx="1225440" cy="1073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 flipH="1">
              <a:off x="1353600" y="6205680"/>
              <a:ext cx="1109880" cy="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692520" y="5435640"/>
              <a:ext cx="60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811680" y="6197760"/>
              <a:ext cx="480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2463840" y="5283360"/>
              <a:ext cx="212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2387520" y="5969160"/>
              <a:ext cx="924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gt;CL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378240" y="5283360"/>
              <a:ext cx="212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3378240" y="596916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3687840" y="6137280"/>
              <a:ext cx="100080" cy="1062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028880" y="5981760"/>
              <a:ext cx="8380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0" name=""/>
            <p:cNvGrpSpPr/>
            <p:nvPr/>
          </p:nvGrpSpPr>
          <p:grpSpPr>
            <a:xfrm>
              <a:off x="4241880" y="5219640"/>
              <a:ext cx="571320" cy="1159560"/>
              <a:chOff x="4241880" y="5219640"/>
              <a:chExt cx="571320" cy="1159560"/>
            </a:xfrm>
          </p:grpSpPr>
          <p:sp>
            <p:nvSpPr>
              <p:cNvPr id="1971" name=""/>
              <p:cNvSpPr/>
              <p:nvPr/>
            </p:nvSpPr>
            <p:spPr>
              <a:xfrm>
                <a:off x="4254480" y="5219640"/>
                <a:ext cx="5587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4241880" y="5981760"/>
                <a:ext cx="57132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/Q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3" name=""/>
            <p:cNvGrpSpPr/>
            <p:nvPr/>
          </p:nvGrpSpPr>
          <p:grpSpPr>
            <a:xfrm>
              <a:off x="1548000" y="5218200"/>
              <a:ext cx="152280" cy="456840"/>
              <a:chOff x="1548000" y="5218200"/>
              <a:chExt cx="152280" cy="456840"/>
            </a:xfrm>
          </p:grpSpPr>
          <p:grpSp>
            <p:nvGrpSpPr>
              <p:cNvPr id="1974" name=""/>
              <p:cNvGrpSpPr/>
              <p:nvPr/>
            </p:nvGrpSpPr>
            <p:grpSpPr>
              <a:xfrm>
                <a:off x="1548000" y="5218200"/>
                <a:ext cx="152280" cy="456840"/>
                <a:chOff x="1548000" y="5218200"/>
                <a:chExt cx="152280" cy="456840"/>
              </a:xfrm>
            </p:grpSpPr>
            <p:sp>
              <p:nvSpPr>
                <p:cNvPr id="1975" name=""/>
                <p:cNvSpPr/>
                <p:nvPr/>
              </p:nvSpPr>
              <p:spPr>
                <a:xfrm>
                  <a:off x="1548000" y="5218200"/>
                  <a:ext cx="15192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75" y="2"/>
                      </a:moveTo>
                      <a:arcTo wR="10800" hR="10800" stAng="-5471610" swAng="547161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75" y="2"/>
                      </a:moveTo>
                      <a:arcTo wR="10800" hR="10800" stAng="-5471610" swAng="5471610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 rot="10800000">
                  <a:off x="1548000" y="5218200"/>
                  <a:ext cx="152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" y="10350"/>
                      </a:moveTo>
                      <a:arcTo wR="10800" hR="10800" stAng="-10656844" swAng="51852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" y="10350"/>
                      </a:moveTo>
                      <a:arcTo wR="10800" hR="10800" stAng="-10656844" swAng="5185234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7" name=""/>
              <p:cNvSpPr/>
              <p:nvPr/>
            </p:nvSpPr>
            <p:spPr>
              <a:xfrm>
                <a:off x="1584360" y="5283360"/>
                <a:ext cx="763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1596960" y="5587920"/>
                <a:ext cx="60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9" name=""/>
            <p:cNvSpPr/>
            <p:nvPr/>
          </p:nvSpPr>
          <p:spPr>
            <a:xfrm rot="10800000">
              <a:off x="1091880" y="5218200"/>
              <a:ext cx="106380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" y="10350"/>
                  </a:moveTo>
                  <a:arcTo wR="10800" hR="10800" stAng="-10656844" swAng="5246581"/>
                  <a:lnTo>
                    <a:pt x="10800" y="10800"/>
                  </a:lnTo>
                  <a:close/>
                </a:path>
                <a:path fill="none" w="21600" h="21600">
                  <a:moveTo>
                    <a:pt x="9" y="10350"/>
                  </a:moveTo>
                  <a:arcTo wR="10800" hR="10800" stAng="-10656844" swAng="5246581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0" name=""/>
            <p:cNvGrpSpPr/>
            <p:nvPr/>
          </p:nvGrpSpPr>
          <p:grpSpPr>
            <a:xfrm>
              <a:off x="1459080" y="5218200"/>
              <a:ext cx="152280" cy="456840"/>
              <a:chOff x="1459080" y="5218200"/>
              <a:chExt cx="152280" cy="456840"/>
            </a:xfrm>
          </p:grpSpPr>
          <p:grpSp>
            <p:nvGrpSpPr>
              <p:cNvPr id="1981" name=""/>
              <p:cNvGrpSpPr/>
              <p:nvPr/>
            </p:nvGrpSpPr>
            <p:grpSpPr>
              <a:xfrm>
                <a:off x="1459080" y="5218200"/>
                <a:ext cx="152280" cy="456840"/>
                <a:chOff x="1459080" y="5218200"/>
                <a:chExt cx="152280" cy="456840"/>
              </a:xfrm>
            </p:grpSpPr>
            <p:sp>
              <p:nvSpPr>
                <p:cNvPr id="1982" name=""/>
                <p:cNvSpPr/>
                <p:nvPr/>
              </p:nvSpPr>
              <p:spPr>
                <a:xfrm>
                  <a:off x="1459080" y="5218200"/>
                  <a:ext cx="15192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575" y="2"/>
                      </a:moveTo>
                      <a:arcTo wR="10800" hR="10800" stAng="-5471610" swAng="547161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575" y="2"/>
                      </a:moveTo>
                      <a:arcTo wR="10800" hR="10800" stAng="-5471610" swAng="5471610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 rot="10800000">
                  <a:off x="1459080" y="5218200"/>
                  <a:ext cx="152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" y="10350"/>
                      </a:moveTo>
                      <a:arcTo wR="10800" hR="10800" stAng="-10656844" swAng="5185234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" y="10350"/>
                      </a:moveTo>
                      <a:arcTo wR="10800" hR="10800" stAng="-10656844" swAng="5185234"/>
                    </a:path>
                  </a:pathLst>
                </a:custGeom>
                <a:noFill/>
                <a:ln cap="rnd"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84" name=""/>
              <p:cNvSpPr/>
              <p:nvPr/>
            </p:nvSpPr>
            <p:spPr>
              <a:xfrm>
                <a:off x="1495440" y="5283360"/>
                <a:ext cx="763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1508040" y="5587920"/>
                <a:ext cx="60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6" name=""/>
            <p:cNvSpPr/>
            <p:nvPr/>
          </p:nvSpPr>
          <p:spPr>
            <a:xfrm flipH="1">
              <a:off x="1138320" y="5587920"/>
              <a:ext cx="411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673200" y="5359320"/>
              <a:ext cx="6728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H="1">
              <a:off x="1062000" y="5283360"/>
              <a:ext cx="411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H="1">
              <a:off x="1073160" y="4952880"/>
              <a:ext cx="288936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V="1">
              <a:off x="1066680" y="4955760"/>
              <a:ext cx="0" cy="298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V="1">
              <a:off x="3962520" y="4955760"/>
              <a:ext cx="0" cy="45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2" name=""/>
          <p:cNvSpPr/>
          <p:nvPr/>
        </p:nvSpPr>
        <p:spPr>
          <a:xfrm>
            <a:off x="5867280" y="41148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(t+1) = Q’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5099400" y="609588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(t+1) = T Q(t)’ + T’ Q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4CB65-26EB-46B2-BC89-B6E784E4BB0D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Latches and Flip-fl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4572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Lat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-R L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S-/R L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-R Latch with En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 Latch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Flip-fl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ge-Triggered D Flip-Fl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ster/Slave S-R Flip-Fl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ster/Slave J-K Flip-Fl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dge-Triggered J-K Flip-Fl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Flip-Fl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8E4B6-D44D-4ED1-883E-B9F6B232303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609480" y="1600200"/>
            <a:ext cx="81536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be the next state of a flip-flop as function of current state and inputs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(t+1) = f (Q(t), input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+1 represents the next clock ti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represents the current clock ti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-1 represents the previous clock ti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o on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d from basic function table for a given flip-flop typ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useful in state machine analysis and desig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68603-4BEC-4539-B362-F176637AD27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"/>
          <p:cNvSpPr/>
          <p:nvPr/>
        </p:nvSpPr>
        <p:spPr>
          <a:xfrm>
            <a:off x="609480" y="1066680"/>
            <a:ext cx="3495960" cy="45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D latch or flip-fl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        n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ut      state        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       Q(t)    Q(t+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       0          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       1          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     0         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     1         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cteristic Equ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(t+1) =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5022000" y="1782720"/>
            <a:ext cx="350424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S-R latc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R         Q(t)    Q(t+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          0          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          0          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          1          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        0          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1           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cteristic Equ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(t+1) = S + R’ Q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7620120" y="243828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3124080" y="2895480"/>
            <a:ext cx="0" cy="179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1905120" y="241452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2590920" y="241452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3581280" y="2414520"/>
            <a:ext cx="0" cy="374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DE77B-D1D9-47B0-9CC0-6099C9EF950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"/>
          <p:cNvSpPr/>
          <p:nvPr/>
        </p:nvSpPr>
        <p:spPr>
          <a:xfrm>
            <a:off x="813600" y="1706400"/>
            <a:ext cx="4202280" cy="45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J-K  flip-fl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K        Q(t)     Q(t+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         0        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         0        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  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         1        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         1        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0  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0         0         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       0         1            1  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       1         0         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       1         1            0  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g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cteristic Equ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(t+1) = J Q(t)’ + K’ Q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3276720" y="2292480"/>
            <a:ext cx="0" cy="311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5105520" y="1692360"/>
            <a:ext cx="380988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969696"/>
                </a:solidFill>
                <a:latin typeface="Arial"/>
              </a:rPr>
              <a:t>T flip-flop with en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     Q(t)       Q(t+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       0          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       1         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     0         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       1          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acteristic Equ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(t+1) = T Q’(t) + T’ Q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920880" y="3429000"/>
            <a:ext cx="311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>
            <a:off x="920880" y="4038480"/>
            <a:ext cx="311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920880" y="4648320"/>
            <a:ext cx="311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7543800" y="2368440"/>
            <a:ext cx="0" cy="174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76320" y="76320"/>
            <a:ext cx="9066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 Equ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68F1C-E879-496E-B705-54B07EC5866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 Equations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1143000" y="129528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ce Type                   Characteristic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________________________________________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-R latch                                     Q(t+1) = S + R’ Q(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latch                                        Q(t+1) = D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ge-triggered D flip-flop          Q(t+1) =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ter/slave S-R flip-flop          Q(t+1) = S + R’ Q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ter/slave J-K flip-flop           Q(t+1) = J Q(t)’ + K’ Q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ge-triggered J-K flip-flop       Q(t+1) = J Q(t)’ + K’ Q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flip-flop                                    Q(t+1) = Q(t)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flip-flop with enable                Q(t+1) = T Q(t)’ + T’ Q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1225440" y="1905120"/>
            <a:ext cx="654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1225440" y="5715000"/>
            <a:ext cx="654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13418-25D3-405F-9B09-12805787458A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Flip-flop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asynchronous (feedback) sequential circu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gle-bit storage (memo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nges state at any time due to input ch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st guarantee a minimum pulse width to avoid metas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st and cheap (small # of transisto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ten used in high speed microprocessor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p-fl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so single-bit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nges state ONLY when a clock edge or pulse is appl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s setup and hold times before and after the clock pulse to avoid metas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ocking simplifies the design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BF643-6591-4B74-B766-95F48A9CE57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Logic G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g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 Z = 1 only when input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 are both 1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g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 Z = 1 only when inputs A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oth are 1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gate or inver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 Z = 1 only when input A is 0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lone, but combine a few million gates properl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you have a comput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402240" y="1600200"/>
            <a:ext cx="1751040" cy="763560"/>
            <a:chOff x="6402240" y="1600200"/>
            <a:chExt cx="1751040" cy="763560"/>
          </a:xfrm>
        </p:grpSpPr>
        <p:grpSp>
          <p:nvGrpSpPr>
            <p:cNvPr id="106" name=""/>
            <p:cNvGrpSpPr/>
            <p:nvPr/>
          </p:nvGrpSpPr>
          <p:grpSpPr>
            <a:xfrm>
              <a:off x="6402240" y="1600200"/>
              <a:ext cx="1371240" cy="763560"/>
              <a:chOff x="6402240" y="1600200"/>
              <a:chExt cx="1371240" cy="763560"/>
            </a:xfrm>
          </p:grpSpPr>
          <p:sp>
            <p:nvSpPr>
              <p:cNvPr id="107" name=""/>
              <p:cNvSpPr/>
              <p:nvPr/>
            </p:nvSpPr>
            <p:spPr>
              <a:xfrm>
                <a:off x="7086600" y="1600200"/>
                <a:ext cx="0" cy="762120"/>
              </a:xfrm>
              <a:prstGeom prst="line">
                <a:avLst/>
              </a:prstGeom>
              <a:ln w="25560">
                <a:solidFill>
                  <a:srgbClr val="cbc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402600" y="1601640"/>
                <a:ext cx="1370880" cy="762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75" y="0"/>
                    </a:moveTo>
                    <a:arcTo wR="10800" hR="10800" stAng="-5407958" swAng="540795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75" y="0"/>
                    </a:moveTo>
                    <a:arcTo wR="10800" hR="10800" stAng="-5407958" swAng="5407958"/>
                  </a:path>
                </a:pathLst>
              </a:custGeom>
              <a:noFill/>
              <a:ln cap="rnd" w="25560">
                <a:solidFill>
                  <a:srgbClr val="cbc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0800000">
                <a:off x="6402240" y="1602360"/>
                <a:ext cx="1371240" cy="761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20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2042"/>
                  </a:path>
                </a:pathLst>
              </a:custGeom>
              <a:noFill/>
              <a:ln cap="rnd" w="25560">
                <a:solidFill>
                  <a:srgbClr val="cbc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 flipH="1">
              <a:off x="6705720" y="1752480"/>
              <a:ext cx="380880" cy="0"/>
            </a:xfrm>
            <a:prstGeom prst="line">
              <a:avLst/>
            </a:prstGeom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6705720" y="2209680"/>
              <a:ext cx="380880" cy="0"/>
            </a:xfrm>
            <a:prstGeom prst="line">
              <a:avLst/>
            </a:prstGeom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7772400" y="1981080"/>
              <a:ext cx="380880" cy="0"/>
            </a:xfrm>
            <a:prstGeom prst="line">
              <a:avLst/>
            </a:prstGeom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6308280" y="155412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369120" y="2011320"/>
            <a:ext cx="354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197560" y="1782720"/>
            <a:ext cx="340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84600" y="284940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45080" y="3306600"/>
            <a:ext cx="354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014880" y="2544120"/>
            <a:ext cx="2214720" cy="1436400"/>
            <a:chOff x="6014880" y="2544120"/>
            <a:chExt cx="2214720" cy="1436400"/>
          </a:xfrm>
        </p:grpSpPr>
        <p:grpSp>
          <p:nvGrpSpPr>
            <p:cNvPr id="119" name=""/>
            <p:cNvGrpSpPr/>
            <p:nvPr/>
          </p:nvGrpSpPr>
          <p:grpSpPr>
            <a:xfrm>
              <a:off x="6014880" y="2544120"/>
              <a:ext cx="1835280" cy="1436400"/>
              <a:chOff x="6014880" y="2544120"/>
              <a:chExt cx="1835280" cy="1436400"/>
            </a:xfrm>
          </p:grpSpPr>
          <p:sp>
            <p:nvSpPr>
              <p:cNvPr id="120" name=""/>
              <p:cNvSpPr/>
              <p:nvPr/>
            </p:nvSpPr>
            <p:spPr>
              <a:xfrm rot="2460000">
                <a:off x="6220800" y="2756160"/>
                <a:ext cx="1025280" cy="1011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67" y="0"/>
                    </a:moveTo>
                    <a:arcTo wR="10800" hR="10800" stAng="-5410643" swAng="53998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67" y="0"/>
                    </a:moveTo>
                    <a:arcTo wR="10800" hR="10800" stAng="-5410643" swAng="5399832"/>
                  </a:path>
                </a:pathLst>
              </a:custGeom>
              <a:noFill/>
              <a:ln cap="rnd" w="25560">
                <a:solidFill>
                  <a:srgbClr val="cbcbc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6326280" y="2897280"/>
                <a:ext cx="1523880" cy="761400"/>
                <a:chOff x="6326280" y="2897280"/>
                <a:chExt cx="1523880" cy="76140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6326280" y="2897280"/>
                  <a:ext cx="1523520" cy="761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777" y="0"/>
                      </a:moveTo>
                      <a:arcTo wR="10800" hR="10800" stAng="-5407162" swAng="540716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777" y="0"/>
                      </a:moveTo>
                      <a:arcTo wR="10800" hR="10800" stAng="-5407162" swAng="5407162"/>
                    </a:path>
                  </a:pathLst>
                </a:custGeom>
                <a:noFill/>
                <a:ln cap="rnd" w="25560">
                  <a:solidFill>
                    <a:srgbClr val="cbcb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 rot="10800000">
                  <a:off x="6377400" y="2973240"/>
                  <a:ext cx="1472760" cy="6094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925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92591"/>
                    </a:path>
                  </a:pathLst>
                </a:custGeom>
                <a:noFill/>
                <a:ln cap="rnd" w="25560">
                  <a:solidFill>
                    <a:srgbClr val="cbcbc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4" name=""/>
            <p:cNvSpPr/>
            <p:nvPr/>
          </p:nvSpPr>
          <p:spPr>
            <a:xfrm flipH="1">
              <a:off x="6781320" y="3048120"/>
              <a:ext cx="381240" cy="0"/>
            </a:xfrm>
            <a:prstGeom prst="line">
              <a:avLst/>
            </a:prstGeom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6781320" y="3505320"/>
              <a:ext cx="381240" cy="0"/>
            </a:xfrm>
            <a:prstGeom prst="line">
              <a:avLst/>
            </a:prstGeom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7848720" y="3276720"/>
              <a:ext cx="380880" cy="0"/>
            </a:xfrm>
            <a:prstGeom prst="line">
              <a:avLst/>
            </a:prstGeom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8273520" y="3078000"/>
            <a:ext cx="340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426160" y="4373640"/>
            <a:ext cx="340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60920" y="4373640"/>
            <a:ext cx="369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6858000" y="4280040"/>
            <a:ext cx="1523880" cy="583920"/>
            <a:chOff x="6858000" y="4280040"/>
            <a:chExt cx="1523880" cy="583920"/>
          </a:xfrm>
        </p:grpSpPr>
        <p:sp>
          <p:nvSpPr>
            <p:cNvPr id="131" name=""/>
            <p:cNvSpPr/>
            <p:nvPr/>
          </p:nvSpPr>
          <p:spPr>
            <a:xfrm rot="5400000">
              <a:off x="7251840" y="4280040"/>
              <a:ext cx="583920" cy="583920"/>
            </a:xfrm>
            <a:prstGeom prst="triangle">
              <a:avLst>
                <a:gd name="adj" fmla="val 49995"/>
              </a:avLst>
            </a:prstGeom>
            <a:noFill/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8001000" y="4572000"/>
              <a:ext cx="380880" cy="0"/>
            </a:xfrm>
            <a:prstGeom prst="line">
              <a:avLst/>
            </a:prstGeom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6858000" y="4572000"/>
              <a:ext cx="380880" cy="0"/>
            </a:xfrm>
            <a:prstGeom prst="line">
              <a:avLst/>
            </a:prstGeom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861320" y="4508640"/>
              <a:ext cx="127080" cy="126720"/>
            </a:xfrm>
            <a:prstGeom prst="ellipse">
              <a:avLst/>
            </a:prstGeom>
            <a:noFill/>
            <a:ln w="25560">
              <a:solidFill>
                <a:srgbClr val="cbcb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24E17-98E3-4199-832E-27BA98BCF390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"/>
          <p:cNvSpPr/>
          <p:nvPr/>
        </p:nvSpPr>
        <p:spPr>
          <a:xfrm>
            <a:off x="380880" y="2514600"/>
            <a:ext cx="8534520" cy="41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pd,m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minimum propagation delay, input to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pd,max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maximum propagation delay, input to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t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pd,m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minimum propagation delay, input to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pd,max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maximum propagation delay, input to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minimum pulse width, input to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ip-fl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pd, m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minimum propagation delay, CLK to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pd, m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maximum propagation delay, CLK to outpu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et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required time of stable input before CLK, input before C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ho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required time of stable input after CLK, input after CLK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ip-flop Ti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2" name=""/>
          <p:cNvGrpSpPr/>
          <p:nvPr/>
        </p:nvGrpSpPr>
        <p:grpSpPr>
          <a:xfrm>
            <a:off x="6019560" y="1447920"/>
            <a:ext cx="2516400" cy="1084680"/>
            <a:chOff x="6019560" y="1447920"/>
            <a:chExt cx="2516400" cy="1084680"/>
          </a:xfrm>
        </p:grpSpPr>
        <p:sp>
          <p:nvSpPr>
            <p:cNvPr id="2023" name=""/>
            <p:cNvSpPr/>
            <p:nvPr/>
          </p:nvSpPr>
          <p:spPr>
            <a:xfrm flipH="1">
              <a:off x="6030360" y="2365560"/>
              <a:ext cx="6764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7935840" y="1603440"/>
              <a:ext cx="600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8055000" y="2365560"/>
              <a:ext cx="480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 flipH="1">
              <a:off x="6043680" y="2365560"/>
              <a:ext cx="6760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719760" y="1447920"/>
              <a:ext cx="1222560" cy="1069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8" name=""/>
            <p:cNvGrpSpPr/>
            <p:nvPr/>
          </p:nvGrpSpPr>
          <p:grpSpPr>
            <a:xfrm>
              <a:off x="6044760" y="1449360"/>
              <a:ext cx="889560" cy="397440"/>
              <a:chOff x="6044760" y="1449360"/>
              <a:chExt cx="889560" cy="397440"/>
            </a:xfrm>
          </p:grpSpPr>
          <p:sp>
            <p:nvSpPr>
              <p:cNvPr id="2029" name=""/>
              <p:cNvSpPr/>
              <p:nvPr/>
            </p:nvSpPr>
            <p:spPr>
              <a:xfrm flipH="1">
                <a:off x="6044760" y="1601640"/>
                <a:ext cx="676440" cy="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6721560" y="1449360"/>
                <a:ext cx="212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J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1" name=""/>
            <p:cNvSpPr/>
            <p:nvPr/>
          </p:nvSpPr>
          <p:spPr>
            <a:xfrm>
              <a:off x="6721560" y="2135160"/>
              <a:ext cx="212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635960" y="1449360"/>
              <a:ext cx="212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7635960" y="2135160"/>
              <a:ext cx="3808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7947000" y="2305080"/>
              <a:ext cx="96840" cy="103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flipH="1">
              <a:off x="6019560" y="1970280"/>
              <a:ext cx="68868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6632640" y="1817640"/>
              <a:ext cx="1025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&gt;CL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7" name=""/>
          <p:cNvSpPr/>
          <p:nvPr/>
        </p:nvSpPr>
        <p:spPr>
          <a:xfrm>
            <a:off x="6551640" y="1143000"/>
            <a:ext cx="1555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6551640" y="115416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8094600" y="115560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7173360" y="762120"/>
            <a:ext cx="37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p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5943600" y="16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594360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4838040" y="1752480"/>
            <a:ext cx="944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etup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h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4FDD5-0902-441D-A41C-602664877BE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nchronous In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flip-flops have two asynchronous/direct inpu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set and Reset (or Clea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ly set or reset the /S-/R lat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e independent of c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design practice dicta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VER use asynchronous inputs for logic functions, only for system initialization to a known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y?  Recal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nchronous circuits:  behavior of circuit depends on the value of the signals at discrete points in time, determined by a control signal (clo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ynchronous circuits: behavior of circuit depends on the order in which the inputs signals change (changes can occur at any ti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8957F-AA8B-4B2B-9011-FFF083EF64E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of Combinational Logic Conce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Sequential Logic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-stable Logic Elements and Metas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Sequential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ip-flops: Type, Function, and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acteristic Eq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Clocked Synchronous State Machine (CSS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sis of State Mach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5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 structure, Analysis proced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5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SSM Models: Mealy Vs. Mo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hods of Re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5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 tables and dia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5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ulating Setup Time, Hold Times, and Maximum clock r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8" name=""/>
          <p:cNvGrpSpPr/>
          <p:nvPr/>
        </p:nvGrpSpPr>
        <p:grpSpPr>
          <a:xfrm>
            <a:off x="6400800" y="1981080"/>
            <a:ext cx="1969200" cy="2820960"/>
            <a:chOff x="6400800" y="1981080"/>
            <a:chExt cx="1969200" cy="2820960"/>
          </a:xfrm>
        </p:grpSpPr>
        <p:grpSp>
          <p:nvGrpSpPr>
            <p:cNvPr id="2049" name=""/>
            <p:cNvGrpSpPr/>
            <p:nvPr/>
          </p:nvGrpSpPr>
          <p:grpSpPr>
            <a:xfrm>
              <a:off x="6400800" y="1981080"/>
              <a:ext cx="1069560" cy="1380960"/>
              <a:chOff x="6400800" y="1981080"/>
              <a:chExt cx="1069560" cy="1380960"/>
            </a:xfrm>
          </p:grpSpPr>
          <p:sp>
            <p:nvSpPr>
              <p:cNvPr id="2050" name=""/>
              <p:cNvSpPr/>
              <p:nvPr/>
            </p:nvSpPr>
            <p:spPr>
              <a:xfrm>
                <a:off x="6400800" y="1981080"/>
                <a:ext cx="1069560" cy="1380960"/>
              </a:xfrm>
              <a:custGeom>
                <a:avLst/>
                <a:gdLst/>
                <a:ahLst/>
                <a:rect l="l" t="t" r="r" b="b"/>
                <a:pathLst>
                  <a:path w="674" h="870">
                    <a:moveTo>
                      <a:pt x="664" y="182"/>
                    </a:moveTo>
                    <a:lnTo>
                      <a:pt x="668" y="114"/>
                    </a:lnTo>
                    <a:lnTo>
                      <a:pt x="635" y="51"/>
                    </a:lnTo>
                    <a:lnTo>
                      <a:pt x="571" y="0"/>
                    </a:lnTo>
                    <a:lnTo>
                      <a:pt x="474" y="22"/>
                    </a:lnTo>
                    <a:lnTo>
                      <a:pt x="389" y="80"/>
                    </a:lnTo>
                    <a:lnTo>
                      <a:pt x="283" y="127"/>
                    </a:lnTo>
                    <a:lnTo>
                      <a:pt x="169" y="174"/>
                    </a:lnTo>
                    <a:lnTo>
                      <a:pt x="63" y="238"/>
                    </a:lnTo>
                    <a:lnTo>
                      <a:pt x="0" y="297"/>
                    </a:lnTo>
                    <a:lnTo>
                      <a:pt x="13" y="314"/>
                    </a:lnTo>
                    <a:lnTo>
                      <a:pt x="131" y="424"/>
                    </a:lnTo>
                    <a:lnTo>
                      <a:pt x="173" y="483"/>
                    </a:lnTo>
                    <a:lnTo>
                      <a:pt x="182" y="539"/>
                    </a:lnTo>
                    <a:lnTo>
                      <a:pt x="186" y="611"/>
                    </a:lnTo>
                    <a:lnTo>
                      <a:pt x="194" y="704"/>
                    </a:lnTo>
                    <a:lnTo>
                      <a:pt x="216" y="802"/>
                    </a:lnTo>
                    <a:lnTo>
                      <a:pt x="249" y="856"/>
                    </a:lnTo>
                    <a:lnTo>
                      <a:pt x="283" y="869"/>
                    </a:lnTo>
                    <a:lnTo>
                      <a:pt x="321" y="840"/>
                    </a:lnTo>
                    <a:lnTo>
                      <a:pt x="385" y="802"/>
                    </a:lnTo>
                    <a:lnTo>
                      <a:pt x="452" y="759"/>
                    </a:lnTo>
                    <a:lnTo>
                      <a:pt x="528" y="729"/>
                    </a:lnTo>
                    <a:lnTo>
                      <a:pt x="597" y="720"/>
                    </a:lnTo>
                    <a:lnTo>
                      <a:pt x="630" y="666"/>
                    </a:lnTo>
                    <a:lnTo>
                      <a:pt x="655" y="585"/>
                    </a:lnTo>
                    <a:lnTo>
                      <a:pt x="673" y="454"/>
                    </a:lnTo>
                    <a:lnTo>
                      <a:pt x="668" y="339"/>
                    </a:lnTo>
                    <a:lnTo>
                      <a:pt x="660" y="272"/>
                    </a:lnTo>
                    <a:lnTo>
                      <a:pt x="630" y="272"/>
                    </a:lnTo>
                    <a:lnTo>
                      <a:pt x="635" y="386"/>
                    </a:lnTo>
                    <a:lnTo>
                      <a:pt x="635" y="509"/>
                    </a:lnTo>
                    <a:lnTo>
                      <a:pt x="617" y="581"/>
                    </a:lnTo>
                    <a:lnTo>
                      <a:pt x="588" y="666"/>
                    </a:lnTo>
                    <a:lnTo>
                      <a:pt x="521" y="700"/>
                    </a:lnTo>
                    <a:lnTo>
                      <a:pt x="427" y="725"/>
                    </a:lnTo>
                    <a:lnTo>
                      <a:pt x="351" y="767"/>
                    </a:lnTo>
                    <a:lnTo>
                      <a:pt x="279" y="818"/>
                    </a:lnTo>
                    <a:lnTo>
                      <a:pt x="249" y="784"/>
                    </a:lnTo>
                    <a:lnTo>
                      <a:pt x="232" y="713"/>
                    </a:lnTo>
                    <a:lnTo>
                      <a:pt x="224" y="619"/>
                    </a:lnTo>
                    <a:lnTo>
                      <a:pt x="216" y="521"/>
                    </a:lnTo>
                    <a:lnTo>
                      <a:pt x="186" y="437"/>
                    </a:lnTo>
                    <a:lnTo>
                      <a:pt x="102" y="348"/>
                    </a:lnTo>
                    <a:lnTo>
                      <a:pt x="63" y="301"/>
                    </a:lnTo>
                    <a:lnTo>
                      <a:pt x="67" y="284"/>
                    </a:lnTo>
                    <a:lnTo>
                      <a:pt x="173" y="212"/>
                    </a:lnTo>
                    <a:lnTo>
                      <a:pt x="279" y="165"/>
                    </a:lnTo>
                    <a:lnTo>
                      <a:pt x="368" y="123"/>
                    </a:lnTo>
                    <a:lnTo>
                      <a:pt x="423" y="98"/>
                    </a:lnTo>
                    <a:lnTo>
                      <a:pt x="478" y="64"/>
                    </a:lnTo>
                    <a:lnTo>
                      <a:pt x="512" y="47"/>
                    </a:lnTo>
                    <a:lnTo>
                      <a:pt x="567" y="42"/>
                    </a:lnTo>
                    <a:lnTo>
                      <a:pt x="601" y="72"/>
                    </a:lnTo>
                    <a:lnTo>
                      <a:pt x="626" y="119"/>
                    </a:lnTo>
                    <a:lnTo>
                      <a:pt x="626" y="161"/>
                    </a:lnTo>
                    <a:lnTo>
                      <a:pt x="630" y="203"/>
                    </a:lnTo>
                    <a:lnTo>
                      <a:pt x="664" y="18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6903720" y="2403360"/>
                <a:ext cx="337680" cy="495360"/>
              </a:xfrm>
              <a:custGeom>
                <a:avLst/>
                <a:gdLst/>
                <a:ahLst/>
                <a:rect l="l" t="t" r="r" b="b"/>
                <a:pathLst>
                  <a:path w="213" h="312">
                    <a:moveTo>
                      <a:pt x="187" y="86"/>
                    </a:moveTo>
                    <a:lnTo>
                      <a:pt x="140" y="35"/>
                    </a:lnTo>
                    <a:lnTo>
                      <a:pt x="64" y="0"/>
                    </a:lnTo>
                    <a:lnTo>
                      <a:pt x="26" y="69"/>
                    </a:lnTo>
                    <a:lnTo>
                      <a:pt x="0" y="158"/>
                    </a:lnTo>
                    <a:lnTo>
                      <a:pt x="60" y="311"/>
                    </a:lnTo>
                    <a:lnTo>
                      <a:pt x="136" y="306"/>
                    </a:lnTo>
                    <a:lnTo>
                      <a:pt x="212" y="255"/>
                    </a:lnTo>
                    <a:lnTo>
                      <a:pt x="212" y="124"/>
                    </a:lnTo>
                    <a:lnTo>
                      <a:pt x="191" y="120"/>
                    </a:lnTo>
                    <a:lnTo>
                      <a:pt x="174" y="141"/>
                    </a:lnTo>
                    <a:lnTo>
                      <a:pt x="178" y="243"/>
                    </a:lnTo>
                    <a:lnTo>
                      <a:pt x="127" y="281"/>
                    </a:lnTo>
                    <a:lnTo>
                      <a:pt x="69" y="272"/>
                    </a:lnTo>
                    <a:lnTo>
                      <a:pt x="35" y="162"/>
                    </a:lnTo>
                    <a:lnTo>
                      <a:pt x="82" y="162"/>
                    </a:lnTo>
                    <a:lnTo>
                      <a:pt x="140" y="133"/>
                    </a:lnTo>
                    <a:lnTo>
                      <a:pt x="136" y="124"/>
                    </a:lnTo>
                    <a:lnTo>
                      <a:pt x="64" y="141"/>
                    </a:lnTo>
                    <a:lnTo>
                      <a:pt x="26" y="136"/>
                    </a:lnTo>
                    <a:lnTo>
                      <a:pt x="73" y="31"/>
                    </a:lnTo>
                    <a:lnTo>
                      <a:pt x="124" y="64"/>
                    </a:lnTo>
                    <a:lnTo>
                      <a:pt x="170" y="115"/>
                    </a:lnTo>
                    <a:lnTo>
                      <a:pt x="187" y="8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2" name=""/>
            <p:cNvGrpSpPr/>
            <p:nvPr/>
          </p:nvGrpSpPr>
          <p:grpSpPr>
            <a:xfrm>
              <a:off x="6568920" y="2136600"/>
              <a:ext cx="1801080" cy="2665440"/>
              <a:chOff x="6568920" y="2136600"/>
              <a:chExt cx="1801080" cy="2665440"/>
            </a:xfrm>
          </p:grpSpPr>
          <p:sp>
            <p:nvSpPr>
              <p:cNvPr id="2053" name=""/>
              <p:cNvSpPr/>
              <p:nvPr/>
            </p:nvSpPr>
            <p:spPr>
              <a:xfrm>
                <a:off x="6568920" y="2593800"/>
                <a:ext cx="1452240" cy="492120"/>
              </a:xfrm>
              <a:custGeom>
                <a:avLst/>
                <a:gdLst/>
                <a:ahLst/>
                <a:rect l="l" t="t" r="r" b="b"/>
                <a:pathLst>
                  <a:path w="915" h="310">
                    <a:moveTo>
                      <a:pt x="914" y="241"/>
                    </a:moveTo>
                    <a:lnTo>
                      <a:pt x="893" y="216"/>
                    </a:lnTo>
                    <a:lnTo>
                      <a:pt x="846" y="207"/>
                    </a:lnTo>
                    <a:lnTo>
                      <a:pt x="698" y="237"/>
                    </a:lnTo>
                    <a:lnTo>
                      <a:pt x="554" y="263"/>
                    </a:lnTo>
                    <a:lnTo>
                      <a:pt x="376" y="258"/>
                    </a:lnTo>
                    <a:lnTo>
                      <a:pt x="211" y="224"/>
                    </a:lnTo>
                    <a:lnTo>
                      <a:pt x="110" y="165"/>
                    </a:lnTo>
                    <a:lnTo>
                      <a:pt x="123" y="118"/>
                    </a:lnTo>
                    <a:lnTo>
                      <a:pt x="105" y="54"/>
                    </a:lnTo>
                    <a:lnTo>
                      <a:pt x="67" y="21"/>
                    </a:lnTo>
                    <a:lnTo>
                      <a:pt x="25" y="0"/>
                    </a:lnTo>
                    <a:lnTo>
                      <a:pt x="8" y="46"/>
                    </a:lnTo>
                    <a:lnTo>
                      <a:pt x="0" y="92"/>
                    </a:lnTo>
                    <a:lnTo>
                      <a:pt x="17" y="181"/>
                    </a:lnTo>
                    <a:lnTo>
                      <a:pt x="59" y="207"/>
                    </a:lnTo>
                    <a:lnTo>
                      <a:pt x="161" y="241"/>
                    </a:lnTo>
                    <a:lnTo>
                      <a:pt x="270" y="270"/>
                    </a:lnTo>
                    <a:lnTo>
                      <a:pt x="453" y="305"/>
                    </a:lnTo>
                    <a:lnTo>
                      <a:pt x="622" y="309"/>
                    </a:lnTo>
                    <a:lnTo>
                      <a:pt x="851" y="288"/>
                    </a:lnTo>
                    <a:lnTo>
                      <a:pt x="914" y="241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7347960" y="2243160"/>
                <a:ext cx="786960" cy="701640"/>
              </a:xfrm>
              <a:custGeom>
                <a:avLst/>
                <a:gdLst/>
                <a:ahLst/>
                <a:rect l="l" t="t" r="r" b="b"/>
                <a:pathLst>
                  <a:path w="496" h="442">
                    <a:moveTo>
                      <a:pt x="482" y="441"/>
                    </a:moveTo>
                    <a:lnTo>
                      <a:pt x="495" y="399"/>
                    </a:lnTo>
                    <a:lnTo>
                      <a:pt x="469" y="361"/>
                    </a:lnTo>
                    <a:lnTo>
                      <a:pt x="385" y="327"/>
                    </a:lnTo>
                    <a:lnTo>
                      <a:pt x="287" y="318"/>
                    </a:lnTo>
                    <a:lnTo>
                      <a:pt x="220" y="297"/>
                    </a:lnTo>
                    <a:lnTo>
                      <a:pt x="177" y="259"/>
                    </a:lnTo>
                    <a:lnTo>
                      <a:pt x="131" y="174"/>
                    </a:lnTo>
                    <a:lnTo>
                      <a:pt x="93" y="81"/>
                    </a:lnTo>
                    <a:lnTo>
                      <a:pt x="93" y="34"/>
                    </a:lnTo>
                    <a:lnTo>
                      <a:pt x="71" y="9"/>
                    </a:lnTo>
                    <a:lnTo>
                      <a:pt x="42" y="0"/>
                    </a:lnTo>
                    <a:lnTo>
                      <a:pt x="12" y="22"/>
                    </a:lnTo>
                    <a:lnTo>
                      <a:pt x="0" y="68"/>
                    </a:lnTo>
                    <a:lnTo>
                      <a:pt x="4" y="127"/>
                    </a:lnTo>
                    <a:lnTo>
                      <a:pt x="20" y="170"/>
                    </a:lnTo>
                    <a:lnTo>
                      <a:pt x="38" y="170"/>
                    </a:lnTo>
                    <a:lnTo>
                      <a:pt x="46" y="153"/>
                    </a:lnTo>
                    <a:lnTo>
                      <a:pt x="71" y="149"/>
                    </a:lnTo>
                    <a:lnTo>
                      <a:pt x="118" y="212"/>
                    </a:lnTo>
                    <a:lnTo>
                      <a:pt x="173" y="310"/>
                    </a:lnTo>
                    <a:lnTo>
                      <a:pt x="211" y="352"/>
                    </a:lnTo>
                    <a:lnTo>
                      <a:pt x="287" y="377"/>
                    </a:lnTo>
                    <a:lnTo>
                      <a:pt x="376" y="403"/>
                    </a:lnTo>
                    <a:lnTo>
                      <a:pt x="435" y="424"/>
                    </a:lnTo>
                    <a:lnTo>
                      <a:pt x="482" y="441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7636680" y="2841480"/>
                <a:ext cx="598320" cy="1036800"/>
              </a:xfrm>
              <a:custGeom>
                <a:avLst/>
                <a:gdLst/>
                <a:ahLst/>
                <a:rect l="l" t="t" r="r" b="b"/>
                <a:pathLst>
                  <a:path w="377" h="653">
                    <a:moveTo>
                      <a:pt x="376" y="85"/>
                    </a:moveTo>
                    <a:lnTo>
                      <a:pt x="356" y="34"/>
                    </a:lnTo>
                    <a:lnTo>
                      <a:pt x="326" y="0"/>
                    </a:lnTo>
                    <a:lnTo>
                      <a:pt x="250" y="0"/>
                    </a:lnTo>
                    <a:lnTo>
                      <a:pt x="173" y="34"/>
                    </a:lnTo>
                    <a:lnTo>
                      <a:pt x="84" y="131"/>
                    </a:lnTo>
                    <a:lnTo>
                      <a:pt x="38" y="208"/>
                    </a:lnTo>
                    <a:lnTo>
                      <a:pt x="8" y="313"/>
                    </a:lnTo>
                    <a:lnTo>
                      <a:pt x="0" y="436"/>
                    </a:lnTo>
                    <a:lnTo>
                      <a:pt x="17" y="568"/>
                    </a:lnTo>
                    <a:lnTo>
                      <a:pt x="59" y="632"/>
                    </a:lnTo>
                    <a:lnTo>
                      <a:pt x="135" y="652"/>
                    </a:lnTo>
                    <a:lnTo>
                      <a:pt x="182" y="649"/>
                    </a:lnTo>
                    <a:lnTo>
                      <a:pt x="220" y="627"/>
                    </a:lnTo>
                    <a:lnTo>
                      <a:pt x="254" y="598"/>
                    </a:lnTo>
                    <a:lnTo>
                      <a:pt x="267" y="547"/>
                    </a:lnTo>
                    <a:lnTo>
                      <a:pt x="258" y="496"/>
                    </a:lnTo>
                    <a:lnTo>
                      <a:pt x="229" y="466"/>
                    </a:lnTo>
                    <a:lnTo>
                      <a:pt x="208" y="433"/>
                    </a:lnTo>
                    <a:lnTo>
                      <a:pt x="199" y="390"/>
                    </a:lnTo>
                    <a:lnTo>
                      <a:pt x="199" y="352"/>
                    </a:lnTo>
                    <a:lnTo>
                      <a:pt x="216" y="318"/>
                    </a:lnTo>
                    <a:lnTo>
                      <a:pt x="275" y="259"/>
                    </a:lnTo>
                    <a:lnTo>
                      <a:pt x="347" y="191"/>
                    </a:lnTo>
                    <a:lnTo>
                      <a:pt x="373" y="135"/>
                    </a:lnTo>
                    <a:lnTo>
                      <a:pt x="376" y="8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7757640" y="2136600"/>
                <a:ext cx="612360" cy="546120"/>
              </a:xfrm>
              <a:custGeom>
                <a:avLst/>
                <a:gdLst/>
                <a:ahLst/>
                <a:rect l="l" t="t" r="r" b="b"/>
                <a:pathLst>
                  <a:path w="386" h="344">
                    <a:moveTo>
                      <a:pt x="102" y="186"/>
                    </a:moveTo>
                    <a:lnTo>
                      <a:pt x="131" y="127"/>
                    </a:lnTo>
                    <a:lnTo>
                      <a:pt x="186" y="55"/>
                    </a:lnTo>
                    <a:lnTo>
                      <a:pt x="237" y="8"/>
                    </a:lnTo>
                    <a:lnTo>
                      <a:pt x="297" y="0"/>
                    </a:lnTo>
                    <a:lnTo>
                      <a:pt x="347" y="17"/>
                    </a:lnTo>
                    <a:lnTo>
                      <a:pt x="381" y="59"/>
                    </a:lnTo>
                    <a:lnTo>
                      <a:pt x="385" y="118"/>
                    </a:lnTo>
                    <a:lnTo>
                      <a:pt x="360" y="203"/>
                    </a:lnTo>
                    <a:lnTo>
                      <a:pt x="297" y="283"/>
                    </a:lnTo>
                    <a:lnTo>
                      <a:pt x="224" y="339"/>
                    </a:lnTo>
                    <a:lnTo>
                      <a:pt x="157" y="343"/>
                    </a:lnTo>
                    <a:lnTo>
                      <a:pt x="115" y="326"/>
                    </a:lnTo>
                    <a:lnTo>
                      <a:pt x="106" y="301"/>
                    </a:lnTo>
                    <a:lnTo>
                      <a:pt x="102" y="263"/>
                    </a:lnTo>
                    <a:lnTo>
                      <a:pt x="51" y="271"/>
                    </a:lnTo>
                    <a:lnTo>
                      <a:pt x="17" y="288"/>
                    </a:lnTo>
                    <a:lnTo>
                      <a:pt x="0" y="263"/>
                    </a:lnTo>
                    <a:lnTo>
                      <a:pt x="17" y="245"/>
                    </a:lnTo>
                    <a:lnTo>
                      <a:pt x="72" y="225"/>
                    </a:lnTo>
                    <a:lnTo>
                      <a:pt x="106" y="212"/>
                    </a:lnTo>
                    <a:lnTo>
                      <a:pt x="102" y="18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7717680" y="3703680"/>
                <a:ext cx="375840" cy="1023840"/>
              </a:xfrm>
              <a:custGeom>
                <a:avLst/>
                <a:gdLst/>
                <a:ahLst/>
                <a:rect l="l" t="t" r="r" b="b"/>
                <a:pathLst>
                  <a:path w="237" h="645">
                    <a:moveTo>
                      <a:pt x="178" y="0"/>
                    </a:moveTo>
                    <a:lnTo>
                      <a:pt x="135" y="4"/>
                    </a:lnTo>
                    <a:lnTo>
                      <a:pt x="105" y="59"/>
                    </a:lnTo>
                    <a:lnTo>
                      <a:pt x="114" y="115"/>
                    </a:lnTo>
                    <a:lnTo>
                      <a:pt x="127" y="229"/>
                    </a:lnTo>
                    <a:lnTo>
                      <a:pt x="122" y="301"/>
                    </a:lnTo>
                    <a:lnTo>
                      <a:pt x="127" y="373"/>
                    </a:lnTo>
                    <a:lnTo>
                      <a:pt x="160" y="521"/>
                    </a:lnTo>
                    <a:lnTo>
                      <a:pt x="169" y="559"/>
                    </a:lnTo>
                    <a:lnTo>
                      <a:pt x="160" y="568"/>
                    </a:lnTo>
                    <a:lnTo>
                      <a:pt x="114" y="543"/>
                    </a:lnTo>
                    <a:lnTo>
                      <a:pt x="38" y="530"/>
                    </a:lnTo>
                    <a:lnTo>
                      <a:pt x="0" y="547"/>
                    </a:lnTo>
                    <a:lnTo>
                      <a:pt x="4" y="576"/>
                    </a:lnTo>
                    <a:lnTo>
                      <a:pt x="55" y="589"/>
                    </a:lnTo>
                    <a:lnTo>
                      <a:pt x="114" y="594"/>
                    </a:lnTo>
                    <a:lnTo>
                      <a:pt x="173" y="619"/>
                    </a:lnTo>
                    <a:lnTo>
                      <a:pt x="219" y="644"/>
                    </a:lnTo>
                    <a:lnTo>
                      <a:pt x="236" y="632"/>
                    </a:lnTo>
                    <a:lnTo>
                      <a:pt x="236" y="589"/>
                    </a:lnTo>
                    <a:lnTo>
                      <a:pt x="203" y="509"/>
                    </a:lnTo>
                    <a:lnTo>
                      <a:pt x="185" y="415"/>
                    </a:lnTo>
                    <a:lnTo>
                      <a:pt x="178" y="284"/>
                    </a:lnTo>
                    <a:lnTo>
                      <a:pt x="194" y="166"/>
                    </a:lnTo>
                    <a:lnTo>
                      <a:pt x="211" y="72"/>
                    </a:lnTo>
                    <a:lnTo>
                      <a:pt x="194" y="0"/>
                    </a:lnTo>
                    <a:lnTo>
                      <a:pt x="178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7281360" y="3609720"/>
                <a:ext cx="605880" cy="1192320"/>
              </a:xfrm>
              <a:custGeom>
                <a:avLst/>
                <a:gdLst/>
                <a:ahLst/>
                <a:rect l="l" t="t" r="r" b="b"/>
                <a:pathLst>
                  <a:path w="382" h="751">
                    <a:moveTo>
                      <a:pt x="300" y="8"/>
                    </a:moveTo>
                    <a:lnTo>
                      <a:pt x="359" y="0"/>
                    </a:lnTo>
                    <a:lnTo>
                      <a:pt x="381" y="42"/>
                    </a:lnTo>
                    <a:lnTo>
                      <a:pt x="359" y="92"/>
                    </a:lnTo>
                    <a:lnTo>
                      <a:pt x="300" y="177"/>
                    </a:lnTo>
                    <a:lnTo>
                      <a:pt x="254" y="301"/>
                    </a:lnTo>
                    <a:lnTo>
                      <a:pt x="237" y="402"/>
                    </a:lnTo>
                    <a:lnTo>
                      <a:pt x="245" y="508"/>
                    </a:lnTo>
                    <a:lnTo>
                      <a:pt x="262" y="644"/>
                    </a:lnTo>
                    <a:lnTo>
                      <a:pt x="279" y="720"/>
                    </a:lnTo>
                    <a:lnTo>
                      <a:pt x="270" y="750"/>
                    </a:lnTo>
                    <a:lnTo>
                      <a:pt x="241" y="750"/>
                    </a:lnTo>
                    <a:lnTo>
                      <a:pt x="186" y="724"/>
                    </a:lnTo>
                    <a:lnTo>
                      <a:pt x="101" y="707"/>
                    </a:lnTo>
                    <a:lnTo>
                      <a:pt x="12" y="707"/>
                    </a:lnTo>
                    <a:lnTo>
                      <a:pt x="0" y="682"/>
                    </a:lnTo>
                    <a:lnTo>
                      <a:pt x="50" y="648"/>
                    </a:lnTo>
                    <a:lnTo>
                      <a:pt x="76" y="648"/>
                    </a:lnTo>
                    <a:lnTo>
                      <a:pt x="186" y="682"/>
                    </a:lnTo>
                    <a:lnTo>
                      <a:pt x="219" y="695"/>
                    </a:lnTo>
                    <a:lnTo>
                      <a:pt x="228" y="678"/>
                    </a:lnTo>
                    <a:lnTo>
                      <a:pt x="212" y="568"/>
                    </a:lnTo>
                    <a:lnTo>
                      <a:pt x="190" y="449"/>
                    </a:lnTo>
                    <a:lnTo>
                      <a:pt x="186" y="343"/>
                    </a:lnTo>
                    <a:lnTo>
                      <a:pt x="203" y="237"/>
                    </a:lnTo>
                    <a:lnTo>
                      <a:pt x="232" y="114"/>
                    </a:lnTo>
                    <a:lnTo>
                      <a:pt x="266" y="21"/>
                    </a:lnTo>
                    <a:lnTo>
                      <a:pt x="300" y="8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59" name=""/>
          <p:cNvSpPr/>
          <p:nvPr/>
        </p:nvSpPr>
        <p:spPr>
          <a:xfrm>
            <a:off x="152280" y="3429000"/>
            <a:ext cx="304920" cy="228600"/>
          </a:xfrm>
          <a:prstGeom prst="rightArrow">
            <a:avLst>
              <a:gd name="adj1" fmla="val 50000"/>
              <a:gd name="adj2" fmla="val 66748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36457-B262-4262-8D74-D8692E035DC8}" type="slidenum">
              <a:t>52</a:t>
            </a:fld>
          </a:p>
        </p:txBody>
      </p:sp>
    </p:spTree>
  </p:cSld>
  <p:transition spd="med"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ed Synchronous State-machine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does a given circuit work? What does it d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do input sequences map to output sequences?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cked  synchronous state-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Times New Roman"/>
              </a:rPr>
              <a:t>Clocke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storage elements (flip-flops) use a clock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Times New Roman"/>
              </a:rPr>
              <a:t>Synchronou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all flip-flops use the same clock sign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-machine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Times New Roman"/>
              </a:rPr>
              <a:t>Mealy Machi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(most general typ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400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xt state = F ( current state, inputs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400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put      = G ( current state, inputs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969696"/>
                </a:solidFill>
                <a:latin typeface="Times New Roman"/>
              </a:rPr>
              <a:t>Moore Machin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400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xt state = F ( current state, inputs 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400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put      = G ( current state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B03B0-D5A2-4074-9E19-6C01E4FE9666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ed Synchronous State-machin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1378080" y="2597040"/>
            <a:ext cx="135864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-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3968640" y="2597040"/>
            <a:ext cx="135900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6559560" y="2597040"/>
            <a:ext cx="135900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996840" y="2133720"/>
            <a:ext cx="4794480" cy="0"/>
          </a:xfrm>
          <a:prstGeom prst="line">
            <a:avLst/>
          </a:prstGeom>
          <a:ln w="12600">
            <a:solidFill>
              <a:srgbClr val="cbcbc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5791320" y="2139840"/>
            <a:ext cx="0" cy="755640"/>
          </a:xfrm>
          <a:prstGeom prst="line">
            <a:avLst/>
          </a:prstGeom>
          <a:ln w="12600">
            <a:solidFill>
              <a:srgbClr val="cbcbc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5797440" y="2895480"/>
            <a:ext cx="451080" cy="0"/>
          </a:xfrm>
          <a:prstGeom prst="line">
            <a:avLst/>
          </a:prstGeom>
          <a:ln w="12600">
            <a:solidFill>
              <a:srgbClr val="cbcbc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5943600" y="1987560"/>
            <a:ext cx="0" cy="755640"/>
          </a:xfrm>
          <a:prstGeom prst="line">
            <a:avLst/>
          </a:prstGeom>
          <a:ln w="12600">
            <a:solidFill>
              <a:srgbClr val="cbcbc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5950080" y="2743200"/>
            <a:ext cx="298440" cy="0"/>
          </a:xfrm>
          <a:prstGeom prst="line">
            <a:avLst/>
          </a:prstGeom>
          <a:ln w="12600">
            <a:solidFill>
              <a:srgbClr val="cbcbc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 flipH="1">
            <a:off x="844560" y="1981080"/>
            <a:ext cx="5099040" cy="0"/>
          </a:xfrm>
          <a:prstGeom prst="line">
            <a:avLst/>
          </a:prstGeom>
          <a:ln w="12600">
            <a:solidFill>
              <a:srgbClr val="cbcbc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838080" y="1987560"/>
            <a:ext cx="0" cy="984240"/>
          </a:xfrm>
          <a:prstGeom prst="line">
            <a:avLst/>
          </a:prstGeom>
          <a:ln w="12600">
            <a:solidFill>
              <a:srgbClr val="cbcbc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 flipH="1">
            <a:off x="615600" y="2971800"/>
            <a:ext cx="374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990720" y="2139840"/>
            <a:ext cx="0" cy="831960"/>
          </a:xfrm>
          <a:prstGeom prst="line">
            <a:avLst/>
          </a:prstGeom>
          <a:ln w="12600">
            <a:solidFill>
              <a:srgbClr val="cbcbc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615960" y="3124080"/>
            <a:ext cx="45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996840" y="2971800"/>
            <a:ext cx="6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 flipH="1">
            <a:off x="615960" y="3733920"/>
            <a:ext cx="45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609480" y="3740040"/>
            <a:ext cx="0" cy="151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 flipV="1">
            <a:off x="762120" y="3889080"/>
            <a:ext cx="0" cy="12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768240" y="3886200"/>
            <a:ext cx="29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2749680" y="3352680"/>
            <a:ext cx="90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5340240" y="3352680"/>
            <a:ext cx="90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7931160" y="3352680"/>
            <a:ext cx="75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2749680" y="3505320"/>
            <a:ext cx="90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5340240" y="3505320"/>
            <a:ext cx="45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5950080" y="3505320"/>
            <a:ext cx="29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7931160" y="3505320"/>
            <a:ext cx="75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768240" y="5105520"/>
            <a:ext cx="502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615960" y="5257800"/>
            <a:ext cx="532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 flipV="1">
            <a:off x="5791320" y="3508200"/>
            <a:ext cx="0" cy="159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 flipV="1">
            <a:off x="5943600" y="3507840"/>
            <a:ext cx="0" cy="174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4648320" y="4349880"/>
            <a:ext cx="0" cy="151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 flipH="1">
            <a:off x="463680" y="5867280"/>
            <a:ext cx="418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8686800" y="3276720"/>
            <a:ext cx="230040" cy="306360"/>
          </a:xfrm>
          <a:custGeom>
            <a:avLst/>
            <a:gdLst/>
            <a:ahLst/>
            <a:rect l="l" t="t" r="r" b="b"/>
            <a:pathLst>
              <a:path w="145" h="193">
                <a:moveTo>
                  <a:pt x="0" y="192"/>
                </a:moveTo>
                <a:lnTo>
                  <a:pt x="144" y="9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6248520" y="2666880"/>
            <a:ext cx="230040" cy="306360"/>
          </a:xfrm>
          <a:custGeom>
            <a:avLst/>
            <a:gdLst/>
            <a:ahLst/>
            <a:rect l="l" t="t" r="r" b="b"/>
            <a:pathLst>
              <a:path w="145" h="193">
                <a:moveTo>
                  <a:pt x="0" y="192"/>
                </a:moveTo>
                <a:lnTo>
                  <a:pt x="144" y="9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cbcbc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 flipV="1">
            <a:off x="8686800" y="3507840"/>
            <a:ext cx="0" cy="7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8686800" y="328284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1066680" y="3657600"/>
            <a:ext cx="230400" cy="306360"/>
          </a:xfrm>
          <a:custGeom>
            <a:avLst/>
            <a:gdLst/>
            <a:ahLst/>
            <a:rect l="l" t="t" r="r" b="b"/>
            <a:pathLst>
              <a:path w="145" h="193">
                <a:moveTo>
                  <a:pt x="0" y="192"/>
                </a:moveTo>
                <a:lnTo>
                  <a:pt x="144" y="9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1068480" y="2895480"/>
            <a:ext cx="230040" cy="306360"/>
          </a:xfrm>
          <a:custGeom>
            <a:avLst/>
            <a:gdLst/>
            <a:ahLst/>
            <a:rect l="l" t="t" r="r" b="b"/>
            <a:pathLst>
              <a:path w="145" h="193">
                <a:moveTo>
                  <a:pt x="0" y="192"/>
                </a:moveTo>
                <a:lnTo>
                  <a:pt x="144" y="9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3659040" y="3276720"/>
            <a:ext cx="230400" cy="306360"/>
          </a:xfrm>
          <a:custGeom>
            <a:avLst/>
            <a:gdLst/>
            <a:ahLst/>
            <a:rect l="l" t="t" r="r" b="b"/>
            <a:pathLst>
              <a:path w="145" h="193">
                <a:moveTo>
                  <a:pt x="0" y="192"/>
                </a:moveTo>
                <a:lnTo>
                  <a:pt x="144" y="9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6249960" y="3276720"/>
            <a:ext cx="230040" cy="306360"/>
          </a:xfrm>
          <a:custGeom>
            <a:avLst/>
            <a:gdLst/>
            <a:ahLst/>
            <a:rect l="l" t="t" r="r" b="b"/>
            <a:pathLst>
              <a:path w="145" h="193">
                <a:moveTo>
                  <a:pt x="0" y="192"/>
                </a:moveTo>
                <a:lnTo>
                  <a:pt x="144" y="9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1066680" y="290196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1066680" y="313056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1066680" y="366408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1066680" y="389268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657600" y="328284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3657600" y="351144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6248520" y="2673360"/>
            <a:ext cx="0" cy="69840"/>
          </a:xfrm>
          <a:prstGeom prst="line">
            <a:avLst/>
          </a:prstGeom>
          <a:ln w="12600">
            <a:solidFill>
              <a:srgbClr val="cbcbc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6248520" y="2901960"/>
            <a:ext cx="0" cy="69840"/>
          </a:xfrm>
          <a:prstGeom prst="line">
            <a:avLst/>
          </a:prstGeom>
          <a:ln w="12600">
            <a:solidFill>
              <a:srgbClr val="cbcbc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6248520" y="328284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6248520" y="351144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800800" y="3070080"/>
            <a:ext cx="941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Arial"/>
              </a:rPr>
              <a:t>exci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0" y="2917800"/>
            <a:ext cx="6588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Arial"/>
              </a:rPr>
              <a:t>in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-18000" y="5584680"/>
            <a:ext cx="593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Arial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5314680" y="3070080"/>
            <a:ext cx="118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Arial"/>
              </a:rPr>
              <a:t>current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7982640" y="307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Arial"/>
              </a:rPr>
              <a:t>out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486600" y="1554120"/>
            <a:ext cx="1931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Times New Roman"/>
              </a:rPr>
              <a:t>(Mealy machi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3562200" y="6202440"/>
            <a:ext cx="1919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ore Mach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6307200" y="5081760"/>
            <a:ext cx="22910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 memor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ually edge-trigg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 or JK flip-fl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272D3-CC9E-455F-806B-3B4D00E5E70A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Analysis of State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 </a:t>
            </a:r>
            <a:r>
              <a:rPr b="1" lang="en-US" sz="2000" spc="-1" strike="noStrike">
                <a:solidFill>
                  <a:srgbClr val="969696"/>
                </a:solidFill>
                <a:latin typeface="Times New Roman"/>
              </a:rPr>
              <a:t>next-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969696"/>
                </a:solidFill>
                <a:latin typeface="Times New Roman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unctions F and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F and G to construct a </a:t>
            </a:r>
            <a:r>
              <a:rPr b="1" lang="en-US" sz="2000" spc="-1" strike="noStrike">
                <a:solidFill>
                  <a:srgbClr val="969696"/>
                </a:solidFill>
                <a:latin typeface="Times New Roman"/>
              </a:rPr>
              <a:t>state/outpu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 a graphical representation of the state/outpu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 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on for small desig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milar to a finite autom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orithmic State Machine (ASM) Ch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on for larger desig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milar to a flowch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ing 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on for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l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desig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DDCFB-F501-4B6E-AE5E-6197DD22288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ed Analysis of State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10000"/>
              </a:lnSpc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ze the combinational logic to determine flip-flop </a:t>
            </a:r>
            <a:r>
              <a:rPr b="1" lang="en-US" sz="2000" spc="-1" strike="noStrike">
                <a:solidFill>
                  <a:srgbClr val="969696"/>
                </a:solidFill>
                <a:latin typeface="Times New Roman"/>
              </a:rPr>
              <a:t>input (excitation) equations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= F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(Q(t), X(t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input to each flip-flop is based upon current state and primary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titute excitation equations into flip-flop characteristic equations, giving </a:t>
            </a:r>
            <a:r>
              <a:rPr b="1" lang="en-US" sz="2000" spc="-1" strike="noStrike">
                <a:solidFill>
                  <a:srgbClr val="969696"/>
                </a:solidFill>
                <a:latin typeface="Times New Roman"/>
              </a:rPr>
              <a:t>transition equ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t+1) = 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 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20000"/>
              </a:lnSpc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ruct a </a:t>
            </a:r>
            <a:r>
              <a:rPr b="1" lang="en-US" sz="2000" spc="-1" strike="noStrike">
                <a:solidFill>
                  <a:srgbClr val="969696"/>
                </a:solidFill>
                <a:latin typeface="Times New Roman"/>
              </a:rPr>
              <a:t>state t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rom the transition equ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10000"/>
              </a:lnSpc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969696"/>
                </a:solidFill>
                <a:latin typeface="Times New Roman"/>
              </a:rPr>
              <a:t>output equati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(t) = G (Q(t), X(t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rimary outputs are based upon the current state and primary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 output values to the </a:t>
            </a:r>
            <a:r>
              <a:rPr b="1" lang="en-US" sz="1800" spc="-1" strike="noStrike">
                <a:solidFill>
                  <a:srgbClr val="969696"/>
                </a:solidFill>
                <a:latin typeface="Times New Roman"/>
              </a:rPr>
              <a:t>state tabl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de meaningful names for the states in state table, if 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graphical representation of state table is called a state 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10000"/>
              </a:lnSpc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ze timing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89521-C624-4BD4-B8F8-D7738BD5FA8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"/>
          <p:cNvSpPr/>
          <p:nvPr/>
        </p:nvSpPr>
        <p:spPr>
          <a:xfrm>
            <a:off x="1003320" y="2374920"/>
            <a:ext cx="660240" cy="660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038480" y="236232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1681200" y="2370240"/>
            <a:ext cx="224856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5"/>
                </a:moveTo>
                <a:arcTo wR="10800" hR="10800" stAng="-10728441" swAng="9501393"/>
                <a:lnTo>
                  <a:pt x="10800" y="10800"/>
                </a:lnTo>
                <a:close/>
              </a:path>
              <a:path fill="none" w="21600" h="21600">
                <a:moveTo>
                  <a:pt x="2" y="10575"/>
                </a:moveTo>
                <a:arcTo wR="10800" hR="10800" stAng="-10728441" swAng="9501393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2438280" y="2057400"/>
            <a:ext cx="838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 rot="10800000">
            <a:off x="1537920" y="2514240"/>
            <a:ext cx="224820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20"/>
                </a:moveTo>
                <a:arcTo wR="10800" hR="10800" stAng="-10742750" swAng="9588032"/>
                <a:lnTo>
                  <a:pt x="10800" y="10800"/>
                </a:lnTo>
                <a:close/>
              </a:path>
              <a:path fill="none" w="21600" h="21600">
                <a:moveTo>
                  <a:pt x="1" y="10620"/>
                </a:moveTo>
                <a:arcTo wR="10800" hR="10800" stAng="-10742750" swAng="9588032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2514600" y="2971800"/>
            <a:ext cx="457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,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1143000" y="236232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1143000" y="266688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3822840" y="2374920"/>
            <a:ext cx="660240" cy="660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4038480" y="266688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4432320" y="3975120"/>
            <a:ext cx="660240" cy="660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7467480" y="411480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5110200" y="3970440"/>
            <a:ext cx="224856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5"/>
                </a:moveTo>
                <a:arcTo wR="10800" hR="10800" stAng="-10728441" swAng="9501393"/>
                <a:lnTo>
                  <a:pt x="10800" y="10800"/>
                </a:lnTo>
                <a:close/>
              </a:path>
              <a:path fill="none" w="21600" h="21600">
                <a:moveTo>
                  <a:pt x="2" y="10575"/>
                </a:moveTo>
                <a:arcTo wR="10800" hR="10800" stAng="-10728441" swAng="9501393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5943600" y="3657600"/>
            <a:ext cx="83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 /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 rot="10800000">
            <a:off x="4968000" y="4047120"/>
            <a:ext cx="2475720" cy="761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620"/>
                </a:moveTo>
                <a:arcTo wR="10800" hR="10800" stAng="-10742710" swAng="9558884"/>
                <a:lnTo>
                  <a:pt x="10800" y="10800"/>
                </a:lnTo>
                <a:close/>
              </a:path>
              <a:path fill="none" w="21600" h="21600">
                <a:moveTo>
                  <a:pt x="1" y="10620"/>
                </a:moveTo>
                <a:arcTo wR="10800" hR="10800" stAng="-10742710" swAng="9558884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5867280" y="4800600"/>
            <a:ext cx="914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 / 1, 1 / 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4572000" y="411480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7327800" y="3975120"/>
            <a:ext cx="660600" cy="660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 flipV="1">
            <a:off x="1908000" y="1907640"/>
            <a:ext cx="5099400" cy="3117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541440" y="2141640"/>
            <a:ext cx="609120" cy="60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876" y="20333"/>
                </a:moveTo>
                <a:arcTo wR="10800" hR="10800" stAng="3717763" swAng="17882237"/>
                <a:lnTo>
                  <a:pt x="10800" y="10800"/>
                </a:lnTo>
                <a:close/>
              </a:path>
              <a:path fill="none" w="21600" h="21600">
                <a:moveTo>
                  <a:pt x="15876" y="20333"/>
                </a:moveTo>
                <a:arcTo wR="10800" hR="10800" stAng="3717763" swAng="17882237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380880" y="1905120"/>
            <a:ext cx="3049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2116440" y="1401840"/>
            <a:ext cx="864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6689520" y="2849400"/>
            <a:ext cx="834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"/>
          <p:cNvSpPr/>
          <p:nvPr/>
        </p:nvSpPr>
        <p:spPr>
          <a:xfrm>
            <a:off x="3962520" y="4046400"/>
            <a:ext cx="60984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768" y="18090"/>
                </a:moveTo>
                <a:arcTo wR="10800" hR="10800" stAng="2547312" swAng="16314633"/>
                <a:lnTo>
                  <a:pt x="10800" y="10800"/>
                </a:lnTo>
                <a:close/>
              </a:path>
              <a:path fill="none" w="21600" h="21600">
                <a:moveTo>
                  <a:pt x="18768" y="18090"/>
                </a:moveTo>
                <a:arcTo wR="10800" hR="10800" stAng="2547312" swAng="16314633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4038480" y="3809880"/>
            <a:ext cx="7621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/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3333600" y="1195560"/>
            <a:ext cx="22179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m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c = input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de = state/output 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3103200" y="5005440"/>
            <a:ext cx="30729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m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c = input X / mealy output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de = 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7321680" y="768240"/>
            <a:ext cx="1130040" cy="1130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7620120" y="914400"/>
            <a:ext cx="60948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7086960" y="1683360"/>
            <a:ext cx="1065960" cy="1270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8313" y="3042"/>
                </a:moveTo>
                <a:arcTo wR="10800" hR="10800" stAng="-2755058" swAng="6772161"/>
                <a:lnTo>
                  <a:pt x="10800" y="10800"/>
                </a:lnTo>
                <a:close/>
              </a:path>
              <a:path fill="none" w="21600" h="21600">
                <a:moveTo>
                  <a:pt x="18313" y="3042"/>
                </a:moveTo>
                <a:arcTo wR="10800" hR="10800" stAng="-2755058" swAng="6772161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8213760" y="2109960"/>
            <a:ext cx="692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7159680" y="304920"/>
            <a:ext cx="1619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Form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B5F64-D0BB-4A2E-9E76-6A67634BE2EB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 - Circuit w/o Primary In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/>
          <p:nvPr/>
        </p:nvSpPr>
        <p:spPr>
          <a:xfrm>
            <a:off x="5944320" y="1913040"/>
            <a:ext cx="10656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 flipV="1">
            <a:off x="6477120" y="1907640"/>
            <a:ext cx="0" cy="45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5944320" y="2751120"/>
            <a:ext cx="10656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6332400" y="2749680"/>
            <a:ext cx="304560" cy="455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88" y="1"/>
                </a:moveTo>
                <a:arcTo wR="10800" hR="10800" stAng="-5435809" swAng="9509936"/>
                <a:lnTo>
                  <a:pt x="10800" y="10800"/>
                </a:lnTo>
                <a:close/>
              </a:path>
              <a:path fill="none" w="21600" h="21600">
                <a:moveTo>
                  <a:pt x="10688" y="1"/>
                </a:moveTo>
                <a:arcTo wR="10800" hR="10800" stAng="-5435809" swAng="9509936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7467480" y="335268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3429000" y="320040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Q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2673360" y="3359160"/>
            <a:ext cx="749160" cy="977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2651040" y="3352680"/>
            <a:ext cx="24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3124080" y="3429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 flipH="1" flipV="1">
            <a:off x="2670120" y="4041720"/>
            <a:ext cx="6984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 flipH="1">
            <a:off x="2673360" y="4121280"/>
            <a:ext cx="6984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3435480" y="40449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3048120" y="38862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4807080" y="3359160"/>
            <a:ext cx="749160" cy="938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4784760" y="3352680"/>
            <a:ext cx="244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5257800" y="3429000"/>
            <a:ext cx="228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 flipH="1" flipV="1">
            <a:off x="4803840" y="4041360"/>
            <a:ext cx="69840" cy="6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 flipH="1">
            <a:off x="4807080" y="4121280"/>
            <a:ext cx="69840" cy="66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5568840" y="4044960"/>
            <a:ext cx="139680" cy="133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5181480" y="38862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1219320" y="4495680"/>
            <a:ext cx="914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C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7467480" y="190512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 flipH="1">
            <a:off x="2063520" y="3581280"/>
            <a:ext cx="60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 flipV="1">
            <a:off x="2057400" y="1298160"/>
            <a:ext cx="0" cy="227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 flipH="1">
            <a:off x="2368080" y="4114800"/>
            <a:ext cx="29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 flipV="1">
            <a:off x="2362320" y="4118040"/>
            <a:ext cx="0" cy="60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 flipH="1">
            <a:off x="1910880" y="4724280"/>
            <a:ext cx="258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 flipH="1">
            <a:off x="4501800" y="4114800"/>
            <a:ext cx="29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 flipV="1">
            <a:off x="4495680" y="4118040"/>
            <a:ext cx="0" cy="603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 flipH="1">
            <a:off x="3435480" y="3581280"/>
            <a:ext cx="136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2209680" y="320040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D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5715000" y="320040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 flipH="1">
            <a:off x="6254280" y="3124080"/>
            <a:ext cx="29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 flipV="1">
            <a:off x="6248520" y="3127320"/>
            <a:ext cx="0" cy="98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 flipH="1">
            <a:off x="5721480" y="4114800"/>
            <a:ext cx="52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 flipH="1">
            <a:off x="5568840" y="3581280"/>
            <a:ext cx="18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7016760" y="29019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 flipV="1">
            <a:off x="7315200" y="1298160"/>
            <a:ext cx="0" cy="167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 flipH="1">
            <a:off x="7169040" y="297180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 flipH="1">
            <a:off x="2063520" y="1295280"/>
            <a:ext cx="5251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 flipH="1">
            <a:off x="5111280" y="1981080"/>
            <a:ext cx="136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 flipH="1">
            <a:off x="5721120" y="2286000"/>
            <a:ext cx="75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 flipH="1">
            <a:off x="4197240" y="2819520"/>
            <a:ext cx="2355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V="1">
            <a:off x="4191120" y="2822400"/>
            <a:ext cx="0" cy="75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4191120" y="3200400"/>
            <a:ext cx="533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 flipH="1">
            <a:off x="7016760" y="2133720"/>
            <a:ext cx="52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 flipV="1">
            <a:off x="5715000" y="2288880"/>
            <a:ext cx="0" cy="1289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 flipV="1">
            <a:off x="5105520" y="1983960"/>
            <a:ext cx="0" cy="83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2133720" y="5181480"/>
            <a:ext cx="510516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citation: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0 = (Q0 + Q1’)’  = Q0’ · Q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1 = Q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utput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 = Q0  · Q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Z = Q1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us, Moore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D9E59-9597-4EBD-948A-73C7DC33AEE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 -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xci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0 = Q0’ · Q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1 = 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2362320" y="3733920"/>
            <a:ext cx="3429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0(t+1) = D0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0’ · Q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1(t+1) = D1 = Q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4876920" y="1600200"/>
            <a:ext cx="2895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haracteris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0(t+1) = D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1(t+1) = 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533520" y="1536840"/>
            <a:ext cx="1752480" cy="113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4883040" y="1606680"/>
            <a:ext cx="1670040" cy="106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2362320" y="3657600"/>
            <a:ext cx="2666880" cy="1219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2286000" y="2438280"/>
            <a:ext cx="1212840" cy="1212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 flipH="1">
            <a:off x="4120920" y="2139840"/>
            <a:ext cx="755640" cy="1517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2362320" y="5410080"/>
            <a:ext cx="274320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2424240" y="5448240"/>
            <a:ext cx="139824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 = Q0  · Q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= Q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5BD8C-EBC2-49F5-BD0B-642D2DBEDF36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e Symb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RT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rcise: show that the equivalent gates do the same 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76720" y="2897280"/>
            <a:ext cx="0" cy="455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98720" y="2898720"/>
            <a:ext cx="761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5" y="0"/>
                </a:moveTo>
                <a:arcTo wR="10800" hR="10800" stAng="-5414323" swAng="5414323"/>
                <a:lnTo>
                  <a:pt x="10800" y="10800"/>
                </a:lnTo>
                <a:close/>
              </a:path>
              <a:path fill="none" w="21600" h="21600">
                <a:moveTo>
                  <a:pt x="10755" y="0"/>
                </a:moveTo>
                <a:arcTo wR="10800" hR="10800" stAng="-5414323" swAng="5414323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95840" y="2895480"/>
            <a:ext cx="7614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897280" y="2971800"/>
            <a:ext cx="37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897280" y="3276720"/>
            <a:ext cx="37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659040" y="3124080"/>
            <a:ext cx="37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898720" y="1527120"/>
            <a:ext cx="761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5" y="0"/>
                </a:moveTo>
                <a:arcTo wR="10800" hR="10800" stAng="-5414323" swAng="5414323"/>
                <a:lnTo>
                  <a:pt x="10800" y="10800"/>
                </a:lnTo>
                <a:close/>
              </a:path>
              <a:path fill="none" w="21600" h="21600">
                <a:moveTo>
                  <a:pt x="10755" y="0"/>
                </a:moveTo>
                <a:arcTo wR="10800" hR="10800" stAng="-5414323" swAng="5414323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840" y="1523880"/>
            <a:ext cx="7614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124080" y="1527120"/>
            <a:ext cx="30456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88" y="1"/>
                </a:moveTo>
                <a:arcTo wR="10800" hR="10800" stAng="-5435809" swAng="5327284"/>
                <a:lnTo>
                  <a:pt x="10800" y="10800"/>
                </a:lnTo>
                <a:close/>
              </a:path>
              <a:path fill="none" w="21600" h="21600">
                <a:moveTo>
                  <a:pt x="10688" y="1"/>
                </a:moveTo>
                <a:arcTo wR="10800" hR="10800" stAng="-5435809" swAng="5327284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124440" y="1523880"/>
            <a:ext cx="3042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896920" y="1600200"/>
            <a:ext cx="45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896920" y="1905120"/>
            <a:ext cx="45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659040" y="1752480"/>
            <a:ext cx="37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1525680"/>
            <a:ext cx="0" cy="455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5600" y="1527120"/>
            <a:ext cx="761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5" y="0"/>
                </a:moveTo>
                <a:arcTo wR="10800" hR="10800" stAng="-5414323" swAng="5414323"/>
                <a:lnTo>
                  <a:pt x="10800" y="10800"/>
                </a:lnTo>
                <a:close/>
              </a:path>
              <a:path fill="none" w="21600" h="21600">
                <a:moveTo>
                  <a:pt x="10755" y="0"/>
                </a:moveTo>
                <a:arcTo wR="10800" hR="10800" stAng="-5414323" swAng="5414323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1640" y="1523880"/>
            <a:ext cx="76212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421160" y="1600200"/>
            <a:ext cx="37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4421160" y="1905120"/>
            <a:ext cx="37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487480" y="1752480"/>
            <a:ext cx="227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13200" y="1536840"/>
            <a:ext cx="127080" cy="126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13200" y="1841400"/>
            <a:ext cx="127080" cy="127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46720" y="1689120"/>
            <a:ext cx="127080" cy="127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898720" y="2212920"/>
            <a:ext cx="761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5" y="0"/>
                </a:moveTo>
                <a:arcTo wR="10800" hR="10800" stAng="-5414323" swAng="5414323"/>
                <a:lnTo>
                  <a:pt x="10800" y="10800"/>
                </a:lnTo>
                <a:close/>
              </a:path>
              <a:path fill="none" w="21600" h="21600">
                <a:moveTo>
                  <a:pt x="10755" y="0"/>
                </a:moveTo>
                <a:arcTo wR="10800" hR="10800" stAng="-5414323" swAng="5414323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895840" y="2209680"/>
            <a:ext cx="7614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24080" y="2212920"/>
            <a:ext cx="30456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88" y="1"/>
                </a:moveTo>
                <a:arcTo wR="10800" hR="10800" stAng="-5435809" swAng="5327284"/>
                <a:lnTo>
                  <a:pt x="10800" y="10800"/>
                </a:lnTo>
                <a:close/>
              </a:path>
              <a:path fill="none" w="21600" h="21600">
                <a:moveTo>
                  <a:pt x="10688" y="1"/>
                </a:moveTo>
                <a:arcTo wR="10800" hR="10800" stAng="-5435809" swAng="5327284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440" y="2209680"/>
            <a:ext cx="3042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896920" y="2286000"/>
            <a:ext cx="45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2896920" y="2590920"/>
            <a:ext cx="45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3811680" y="2438280"/>
            <a:ext cx="226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70200" y="2374920"/>
            <a:ext cx="127080" cy="127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52880" y="2211480"/>
            <a:ext cx="0" cy="455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5600" y="2212920"/>
            <a:ext cx="761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5" y="0"/>
                </a:moveTo>
                <a:arcTo wR="10800" hR="10800" stAng="-5414323" swAng="5414323"/>
                <a:lnTo>
                  <a:pt x="10800" y="10800"/>
                </a:lnTo>
                <a:close/>
              </a:path>
              <a:path fill="none" w="21600" h="21600">
                <a:moveTo>
                  <a:pt x="10755" y="0"/>
                </a:moveTo>
                <a:arcTo wR="10800" hR="10800" stAng="-5414323" swAng="5414323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1640" y="2209680"/>
            <a:ext cx="76212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421160" y="2286000"/>
            <a:ext cx="37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421160" y="2590920"/>
            <a:ext cx="37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335560" y="2438280"/>
            <a:ext cx="37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13200" y="2222640"/>
            <a:ext cx="127080" cy="126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13200" y="2527200"/>
            <a:ext cx="127080" cy="127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98920" y="2898720"/>
            <a:ext cx="761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5" y="0"/>
                </a:moveTo>
                <a:arcTo wR="10800" hR="10800" stAng="-5414323" swAng="5414323"/>
                <a:lnTo>
                  <a:pt x="10800" y="10800"/>
                </a:lnTo>
                <a:close/>
              </a:path>
              <a:path fill="none" w="21600" h="21600">
                <a:moveTo>
                  <a:pt x="10755" y="0"/>
                </a:moveTo>
                <a:arcTo wR="10800" hR="10800" stAng="-5414323" swAng="5414323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496040" y="2895480"/>
            <a:ext cx="7614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2898720"/>
            <a:ext cx="30456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88" y="1"/>
                </a:moveTo>
                <a:arcTo wR="10800" hR="10800" stAng="-5435809" swAng="5327284"/>
                <a:lnTo>
                  <a:pt x="10800" y="10800"/>
                </a:lnTo>
                <a:close/>
              </a:path>
              <a:path fill="none" w="21600" h="21600">
                <a:moveTo>
                  <a:pt x="10688" y="1"/>
                </a:moveTo>
                <a:arcTo wR="10800" hR="10800" stAng="-5435809" swAng="5327284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724640" y="2895480"/>
            <a:ext cx="3042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421160" y="2971800"/>
            <a:ext cx="37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421160" y="3276720"/>
            <a:ext cx="37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411880" y="3124080"/>
            <a:ext cx="226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70400" y="3060720"/>
            <a:ext cx="127080" cy="127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13200" y="2908440"/>
            <a:ext cx="127080" cy="126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813200" y="3213000"/>
            <a:ext cx="127080" cy="127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76720" y="3506760"/>
            <a:ext cx="0" cy="455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98720" y="3508200"/>
            <a:ext cx="761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5" y="0"/>
                </a:moveTo>
                <a:arcTo wR="10800" hR="10800" stAng="-5414323" swAng="5414323"/>
                <a:lnTo>
                  <a:pt x="10800" y="10800"/>
                </a:lnTo>
                <a:close/>
              </a:path>
              <a:path fill="none" w="21600" h="21600">
                <a:moveTo>
                  <a:pt x="10755" y="0"/>
                </a:moveTo>
                <a:arcTo wR="10800" hR="10800" stAng="-5414323" swAng="5414323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895840" y="3505320"/>
            <a:ext cx="7614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2897280" y="3581280"/>
            <a:ext cx="37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2897280" y="3886200"/>
            <a:ext cx="37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811680" y="3733920"/>
            <a:ext cx="226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670200" y="3670200"/>
            <a:ext cx="127080" cy="127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498920" y="3508200"/>
            <a:ext cx="761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5" y="0"/>
                </a:moveTo>
                <a:arcTo wR="10800" hR="10800" stAng="-5414323" swAng="5414323"/>
                <a:lnTo>
                  <a:pt x="10800" y="10800"/>
                </a:lnTo>
                <a:close/>
              </a:path>
              <a:path fill="none" w="21600" h="21600">
                <a:moveTo>
                  <a:pt x="10755" y="0"/>
                </a:moveTo>
                <a:arcTo wR="10800" hR="10800" stAng="-5414323" swAng="5414323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496040" y="3505320"/>
            <a:ext cx="7614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4280" y="3508200"/>
            <a:ext cx="30456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88" y="1"/>
                </a:moveTo>
                <a:arcTo wR="10800" hR="10800" stAng="-5435809" swAng="5327284"/>
                <a:lnTo>
                  <a:pt x="10800" y="10800"/>
                </a:lnTo>
                <a:close/>
              </a:path>
              <a:path fill="none" w="21600" h="21600">
                <a:moveTo>
                  <a:pt x="10688" y="1"/>
                </a:moveTo>
                <a:arcTo wR="10800" hR="10800" stAng="-5435809" swAng="5327284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640" y="3505320"/>
            <a:ext cx="3042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421160" y="3581280"/>
            <a:ext cx="37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421160" y="3886200"/>
            <a:ext cx="37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5259240" y="3733920"/>
            <a:ext cx="37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13200" y="3517920"/>
            <a:ext cx="127080" cy="127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13200" y="3822840"/>
            <a:ext cx="127080" cy="126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276720" y="4268880"/>
            <a:ext cx="0" cy="30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78160" y="4268880"/>
            <a:ext cx="227160" cy="150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3277800" y="4421160"/>
            <a:ext cx="227160" cy="150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17920" y="4356000"/>
            <a:ext cx="127080" cy="127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897280" y="4419720"/>
            <a:ext cx="37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659040" y="4419720"/>
            <a:ext cx="37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52880" y="4268880"/>
            <a:ext cx="0" cy="30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54680" y="4268880"/>
            <a:ext cx="226800" cy="150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4954680" y="4421160"/>
            <a:ext cx="226800" cy="150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421160" y="4419720"/>
            <a:ext cx="37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5182920" y="4419720"/>
            <a:ext cx="45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13200" y="4356000"/>
            <a:ext cx="127080" cy="127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52880" y="4954680"/>
            <a:ext cx="0" cy="30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54680" y="4954680"/>
            <a:ext cx="226800" cy="150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954680" y="5106960"/>
            <a:ext cx="226800" cy="150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4421160" y="5105520"/>
            <a:ext cx="37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5335560" y="5105520"/>
            <a:ext cx="303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13200" y="5041800"/>
            <a:ext cx="127080" cy="127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94440" y="5041800"/>
            <a:ext cx="126720" cy="127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76720" y="4954680"/>
            <a:ext cx="0" cy="303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78160" y="4954680"/>
            <a:ext cx="227160" cy="150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3277800" y="5106960"/>
            <a:ext cx="227160" cy="150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897280" y="5105520"/>
            <a:ext cx="37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3506400" y="5105520"/>
            <a:ext cx="531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71C0F-8BB6-4794-B24B-5619C7FCE8D4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 -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"/>
          <p:cNvSpPr/>
          <p:nvPr/>
        </p:nvSpPr>
        <p:spPr>
          <a:xfrm>
            <a:off x="533520" y="1219320"/>
            <a:ext cx="5867280" cy="21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 Tab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1  Q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Y 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    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   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1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 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    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0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   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0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1301760" y="1905120"/>
            <a:ext cx="464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2819520" y="1606680"/>
            <a:ext cx="0" cy="167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4648320" y="1606680"/>
            <a:ext cx="0" cy="167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685800" y="3962520"/>
            <a:ext cx="5867280" cy="21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 Table w/named sta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 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 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 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2514600" y="46483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200400" y="4343400"/>
            <a:ext cx="0" cy="167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4114800" y="4349880"/>
            <a:ext cx="0" cy="167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3054240" y="3352680"/>
            <a:ext cx="136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2743920" y="3429000"/>
            <a:ext cx="1833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1(t+1)Q2(t+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4708800" y="966960"/>
            <a:ext cx="120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69696"/>
                </a:solidFill>
                <a:latin typeface="Times New Roman"/>
              </a:rPr>
              <a:t>No inpu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 flipH="1">
            <a:off x="3892320" y="1149480"/>
            <a:ext cx="755640" cy="527040"/>
          </a:xfrm>
          <a:prstGeom prst="line">
            <a:avLst/>
          </a:prstGeom>
          <a:ln w="12600">
            <a:solidFill>
              <a:srgbClr val="96969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3206880" y="6095880"/>
            <a:ext cx="83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3276720" y="6049800"/>
            <a:ext cx="1046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(t+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6095880" y="106668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0(t+1) = D0 =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0’ · Q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1(t+1) = D1 = Q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6095880" y="990720"/>
            <a:ext cx="2819520" cy="1218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392F5-068E-4610-A3CC-F3F5C600F85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"/>
          <p:cNvSpPr/>
          <p:nvPr/>
        </p:nvSpPr>
        <p:spPr>
          <a:xfrm>
            <a:off x="2603520" y="2222640"/>
            <a:ext cx="660240" cy="660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5638680" y="220968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2743200" y="220968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2666880" y="25146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5423040" y="2222640"/>
            <a:ext cx="660240" cy="660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5562720" y="251460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2141640" y="1989000"/>
            <a:ext cx="60912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876" y="20333"/>
                </a:moveTo>
                <a:arcTo wR="10800" hR="10800" stAng="3717763" swAng="17882237"/>
                <a:lnTo>
                  <a:pt x="10800" y="10800"/>
                </a:lnTo>
                <a:close/>
              </a:path>
              <a:path fill="none" w="21600" h="21600">
                <a:moveTo>
                  <a:pt x="15876" y="20333"/>
                </a:moveTo>
                <a:arcTo wR="10800" hR="10800" stAng="3717763" swAng="17882237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2743200" y="434340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2527200" y="4356000"/>
            <a:ext cx="660600" cy="660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2666880" y="46483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5715000" y="4343400"/>
            <a:ext cx="304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5499000" y="4356000"/>
            <a:ext cx="660600" cy="660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5638680" y="46483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3048120" y="2751120"/>
            <a:ext cx="4406400" cy="3352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39"/>
                </a:moveTo>
                <a:arcTo wR="10800" hR="10800" stAng="-10780467" swAng="5712578"/>
                <a:lnTo>
                  <a:pt x="10800" y="10800"/>
                </a:lnTo>
                <a:close/>
              </a:path>
              <a:path fill="none" w="21600" h="21600">
                <a:moveTo>
                  <a:pt x="0" y="10739"/>
                </a:moveTo>
                <a:arcTo wR="10800" hR="10800" stAng="-10780467" swAng="5712578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5265720" y="2764440"/>
            <a:ext cx="914040" cy="1657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98" y="21449"/>
                </a:moveTo>
                <a:arcTo wR="10800" hR="10800" stAng="5976412" swAng="8603596"/>
                <a:lnTo>
                  <a:pt x="10800" y="10800"/>
                </a:lnTo>
                <a:close/>
              </a:path>
              <a:path fill="none" w="21600" h="21600">
                <a:moveTo>
                  <a:pt x="8998" y="21449"/>
                </a:moveTo>
                <a:arcTo wR="10800" hR="10800" stAng="5976412" swAng="8603596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 rot="10800000">
            <a:off x="5418360" y="2766600"/>
            <a:ext cx="914040" cy="1657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998" y="21449"/>
                </a:moveTo>
                <a:arcTo wR="10800" hR="10800" stAng="5976412" swAng="8603596"/>
                <a:lnTo>
                  <a:pt x="10800" y="10800"/>
                </a:lnTo>
                <a:close/>
              </a:path>
              <a:path fill="none" w="21600" h="21600">
                <a:moveTo>
                  <a:pt x="8998" y="21449"/>
                </a:moveTo>
                <a:arcTo wR="10800" hR="10800" stAng="5976412" swAng="8603596"/>
              </a:path>
            </a:pathLst>
          </a:custGeom>
          <a:noFill/>
          <a:ln cap="rnd"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6705720" y="2286000"/>
            <a:ext cx="2436840" cy="14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,D Unreachabl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B,C are usefu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fore, only 1 flip-flop is need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 - State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"/>
          <p:cNvSpPr/>
          <p:nvPr/>
        </p:nvSpPr>
        <p:spPr>
          <a:xfrm>
            <a:off x="285840" y="3176640"/>
            <a:ext cx="2446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m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c = no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de = state/outputs Y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FB253-14DE-4C4D-ADDA-D121AC55D43B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 - State Machine with D Flip-fl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"/>
          <p:cNvSpPr/>
          <p:nvPr/>
        </p:nvSpPr>
        <p:spPr>
          <a:xfrm>
            <a:off x="6324840" y="1722600"/>
            <a:ext cx="1828080" cy="60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4799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47994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6942240" y="1716120"/>
            <a:ext cx="609120" cy="60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905" swAng="10799907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905" swAng="10799907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3968640" y="1911240"/>
            <a:ext cx="901800" cy="105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Arial"/>
              </a:rPr>
              <a:t>D       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969696"/>
                </a:solidFill>
                <a:latin typeface="Arial"/>
              </a:rPr>
              <a:t>CLK   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3962520" y="2590920"/>
            <a:ext cx="153720" cy="153720"/>
          </a:xfrm>
          <a:custGeom>
            <a:avLst/>
            <a:gdLst/>
            <a:ahLst/>
            <a:rect l="l" t="t" r="r" b="b"/>
            <a:pathLst>
              <a:path w="97" h="97">
                <a:moveTo>
                  <a:pt x="0" y="96"/>
                </a:moveTo>
                <a:lnTo>
                  <a:pt x="96" y="4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3968640" y="3359160"/>
            <a:ext cx="901800" cy="105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Arial"/>
              </a:rPr>
              <a:t>D       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969696"/>
                </a:solidFill>
                <a:latin typeface="Arial"/>
              </a:rPr>
              <a:t>CLK   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3962520" y="4038480"/>
            <a:ext cx="153720" cy="154080"/>
          </a:xfrm>
          <a:custGeom>
            <a:avLst/>
            <a:gdLst/>
            <a:ahLst/>
            <a:rect l="l" t="t" r="r" b="b"/>
            <a:pathLst>
              <a:path w="97" h="97">
                <a:moveTo>
                  <a:pt x="0" y="96"/>
                </a:moveTo>
                <a:lnTo>
                  <a:pt x="96" y="4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3968640" y="4807080"/>
            <a:ext cx="901800" cy="105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Arial"/>
              </a:rPr>
              <a:t>D       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969696"/>
                </a:solidFill>
                <a:latin typeface="Arial"/>
              </a:rPr>
              <a:t>CLK   Q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962520" y="5486400"/>
            <a:ext cx="153720" cy="154080"/>
          </a:xfrm>
          <a:custGeom>
            <a:avLst/>
            <a:gdLst/>
            <a:ahLst/>
            <a:rect l="l" t="t" r="r" b="b"/>
            <a:pathLst>
              <a:path w="97" h="97">
                <a:moveTo>
                  <a:pt x="0" y="96"/>
                </a:moveTo>
                <a:lnTo>
                  <a:pt x="96" y="4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1837080" y="1809720"/>
            <a:ext cx="913680" cy="799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62" y="0"/>
                </a:moveTo>
                <a:arcTo wR="10800" hR="10800" stAng="-5411937" swAng="10728064"/>
                <a:lnTo>
                  <a:pt x="10800" y="10800"/>
                </a:lnTo>
                <a:close/>
              </a:path>
              <a:path fill="none" w="21600" h="21600">
                <a:moveTo>
                  <a:pt x="10762" y="0"/>
                </a:moveTo>
                <a:arcTo wR="10800" hR="10800" stAng="-5411937" swAng="10728064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2286000" y="1816200"/>
            <a:ext cx="0" cy="793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5571000" y="1581120"/>
            <a:ext cx="761040" cy="64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5" y="0"/>
                </a:moveTo>
                <a:arcTo wR="10800" hR="10800" stAng="-5414323" swAng="10742361"/>
                <a:lnTo>
                  <a:pt x="10800" y="10800"/>
                </a:lnTo>
                <a:close/>
              </a:path>
              <a:path fill="none" w="21600" h="21600">
                <a:moveTo>
                  <a:pt x="10755" y="0"/>
                </a:moveTo>
                <a:arcTo wR="10800" hR="10800" stAng="-5414323" swAng="10742361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5943600" y="1587600"/>
            <a:ext cx="0" cy="64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7321680" y="179712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7321680" y="2101680"/>
            <a:ext cx="139680" cy="140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4883040" y="54928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883040" y="25970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4883040" y="404496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1295640" y="4808520"/>
            <a:ext cx="1828080" cy="60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4799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47994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1913040" y="4802040"/>
            <a:ext cx="60912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4" y="0"/>
                </a:moveTo>
                <a:arcTo wR="10800" hR="10800" stAng="-5417905" swAng="10799907"/>
                <a:lnTo>
                  <a:pt x="10800" y="10800"/>
                </a:lnTo>
                <a:close/>
              </a:path>
              <a:path fill="none" w="21600" h="21600">
                <a:moveTo>
                  <a:pt x="10744" y="0"/>
                </a:moveTo>
                <a:arcTo wR="10800" hR="10800" stAng="-5417905" swAng="10799907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1913400" y="3390840"/>
            <a:ext cx="761040" cy="533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5" y="0"/>
                </a:moveTo>
                <a:arcTo wR="10800" hR="10800" stAng="-5414323" swAng="10742285"/>
                <a:lnTo>
                  <a:pt x="10800" y="10800"/>
                </a:lnTo>
                <a:close/>
              </a:path>
              <a:path fill="none" w="21600" h="21600">
                <a:moveTo>
                  <a:pt x="10755" y="0"/>
                </a:moveTo>
                <a:arcTo wR="10800" hR="10800" stAng="-5414323" swAng="10742285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2286000" y="3397320"/>
            <a:ext cx="0" cy="52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1447920" y="2057400"/>
            <a:ext cx="382320" cy="306360"/>
          </a:xfrm>
          <a:custGeom>
            <a:avLst/>
            <a:gdLst/>
            <a:ahLst/>
            <a:rect l="l" t="t" r="r" b="b"/>
            <a:pathLst>
              <a:path w="241" h="193">
                <a:moveTo>
                  <a:pt x="0" y="192"/>
                </a:moveTo>
                <a:lnTo>
                  <a:pt x="240" y="9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1447920" y="206388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1835280" y="21398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996840" y="1905120"/>
            <a:ext cx="128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 flipV="1">
            <a:off x="2057400" y="1679400"/>
            <a:ext cx="0" cy="22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5571000" y="4610160"/>
            <a:ext cx="761040" cy="647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5" y="0"/>
                </a:moveTo>
                <a:arcTo wR="10800" hR="10800" stAng="-5414323" swAng="10742361"/>
                <a:lnTo>
                  <a:pt x="10800" y="10800"/>
                </a:lnTo>
                <a:close/>
              </a:path>
              <a:path fill="none" w="21600" h="21600">
                <a:moveTo>
                  <a:pt x="10755" y="0"/>
                </a:moveTo>
                <a:arcTo wR="10800" hR="10800" stAng="-5414323" swAng="10742361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5943600" y="4616280"/>
            <a:ext cx="0" cy="641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6330960" y="18352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6330960" y="48830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6483240" y="1905120"/>
            <a:ext cx="83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4876920" y="2209680"/>
            <a:ext cx="2439720" cy="1449360"/>
          </a:xfrm>
          <a:custGeom>
            <a:avLst/>
            <a:gdLst/>
            <a:ahLst/>
            <a:rect l="l" t="t" r="r" b="b"/>
            <a:pathLst>
              <a:path w="1537" h="913">
                <a:moveTo>
                  <a:pt x="1536" y="0"/>
                </a:moveTo>
                <a:lnTo>
                  <a:pt x="1344" y="0"/>
                </a:lnTo>
                <a:lnTo>
                  <a:pt x="1344" y="912"/>
                </a:lnTo>
                <a:lnTo>
                  <a:pt x="0" y="9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 flipH="1">
            <a:off x="4883040" y="5105520"/>
            <a:ext cx="106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 flipH="1">
            <a:off x="996480" y="2514600"/>
            <a:ext cx="128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2749680" y="2209680"/>
            <a:ext cx="12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 flipH="1">
            <a:off x="1301760" y="3505320"/>
            <a:ext cx="98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 flipV="1">
            <a:off x="1295280" y="1908000"/>
            <a:ext cx="0" cy="159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1987560" y="2209680"/>
            <a:ext cx="29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996840" y="2209680"/>
            <a:ext cx="45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2057400" y="2209680"/>
            <a:ext cx="458640" cy="2745000"/>
          </a:xfrm>
          <a:custGeom>
            <a:avLst/>
            <a:gdLst/>
            <a:ahLst/>
            <a:rect l="l" t="t" r="r" b="b"/>
            <a:pathLst>
              <a:path w="289" h="1729">
                <a:moveTo>
                  <a:pt x="0" y="0"/>
                </a:moveTo>
                <a:lnTo>
                  <a:pt x="0" y="1728"/>
                </a:lnTo>
                <a:lnTo>
                  <a:pt x="288" y="172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 flipH="1">
            <a:off x="996840" y="5257800"/>
            <a:ext cx="151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 flipH="1">
            <a:off x="996480" y="3809880"/>
            <a:ext cx="128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3130560" y="5105520"/>
            <a:ext cx="831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2673360" y="3657600"/>
            <a:ext cx="1289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8159760" y="1981080"/>
            <a:ext cx="29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6483240" y="4952880"/>
            <a:ext cx="98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990720" y="2666880"/>
            <a:ext cx="2973240" cy="3202200"/>
          </a:xfrm>
          <a:custGeom>
            <a:avLst/>
            <a:gdLst/>
            <a:ahLst/>
            <a:rect l="l" t="t" r="r" b="b"/>
            <a:pathLst>
              <a:path w="1873" h="2017">
                <a:moveTo>
                  <a:pt x="0" y="2016"/>
                </a:moveTo>
                <a:lnTo>
                  <a:pt x="1776" y="2016"/>
                </a:lnTo>
                <a:lnTo>
                  <a:pt x="1776" y="0"/>
                </a:lnTo>
                <a:lnTo>
                  <a:pt x="187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3816360" y="556272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3816360" y="411480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364320" y="167472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364320" y="2055960"/>
            <a:ext cx="32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289080" y="2360520"/>
            <a:ext cx="51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Arial"/>
              </a:rPr>
              <a:t>/Q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365400" y="3656160"/>
            <a:ext cx="45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Arial"/>
              </a:rPr>
              <a:t>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365400" y="5103720"/>
            <a:ext cx="45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Arial"/>
              </a:rPr>
              <a:t>Q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365400" y="5713560"/>
            <a:ext cx="60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Arial"/>
              </a:rPr>
              <a:t>CL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2063880" y="1676520"/>
            <a:ext cx="387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3184200" y="1903320"/>
            <a:ext cx="50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69696"/>
                </a:solidFill>
                <a:latin typeface="Arial"/>
              </a:rPr>
              <a:t>D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3108240" y="3351240"/>
            <a:ext cx="556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969696"/>
                </a:solidFill>
                <a:latin typeface="Arial"/>
              </a:rPr>
              <a:t>D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3260880" y="4799160"/>
            <a:ext cx="444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Arial"/>
              </a:rPr>
              <a:t>D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4937400" y="1903320"/>
            <a:ext cx="45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Arial"/>
              </a:rPr>
              <a:t>Q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4937400" y="3351240"/>
            <a:ext cx="45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Arial"/>
              </a:rPr>
              <a:t>Q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4937400" y="4799160"/>
            <a:ext cx="454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Arial"/>
              </a:rPr>
              <a:t>Q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8442000" y="1827360"/>
            <a:ext cx="42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Arial"/>
              </a:rPr>
              <a:t>Z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7527960" y="4799160"/>
            <a:ext cx="477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Arial"/>
              </a:rPr>
              <a:t>/Z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3717720" y="6019920"/>
            <a:ext cx="1607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4876920" y="2133720"/>
            <a:ext cx="1068120" cy="77760"/>
          </a:xfrm>
          <a:custGeom>
            <a:avLst/>
            <a:gdLst/>
            <a:ahLst/>
            <a:rect l="l" t="t" r="r" b="b"/>
            <a:pathLst>
              <a:path w="673" h="49">
                <a:moveTo>
                  <a:pt x="0" y="48"/>
                </a:moveTo>
                <a:lnTo>
                  <a:pt x="480" y="48"/>
                </a:lnTo>
                <a:lnTo>
                  <a:pt x="480" y="0"/>
                </a:lnTo>
                <a:lnTo>
                  <a:pt x="67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638680" y="3657600"/>
            <a:ext cx="306360" cy="1144440"/>
          </a:xfrm>
          <a:custGeom>
            <a:avLst/>
            <a:gdLst/>
            <a:ahLst/>
            <a:rect l="l" t="t" r="r" b="b"/>
            <a:pathLst>
              <a:path w="193" h="721">
                <a:moveTo>
                  <a:pt x="192" y="720"/>
                </a:moveTo>
                <a:lnTo>
                  <a:pt x="0" y="72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1203840" y="5919840"/>
            <a:ext cx="1300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Input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6233760" y="5919840"/>
            <a:ext cx="1478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cbcb"/>
                </a:solidFill>
                <a:latin typeface="Arial"/>
              </a:rPr>
              <a:t>Output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cbcb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cbcbcb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 flipV="1">
            <a:off x="3276720" y="1526760"/>
            <a:ext cx="0" cy="4870440"/>
          </a:xfrm>
          <a:prstGeom prst="line">
            <a:avLst/>
          </a:prstGeom>
          <a:ln w="12600">
            <a:solidFill>
              <a:srgbClr val="cbcbc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 flipV="1">
            <a:off x="5486400" y="1526760"/>
            <a:ext cx="0" cy="4870440"/>
          </a:xfrm>
          <a:prstGeom prst="line">
            <a:avLst/>
          </a:prstGeom>
          <a:ln w="12600">
            <a:solidFill>
              <a:srgbClr val="cbcbc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4937040" y="5256360"/>
            <a:ext cx="5112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Arial"/>
              </a:rPr>
              <a:t>/Q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5035680" y="5562720"/>
            <a:ext cx="60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B275F-BFBF-4B7E-94F6-1B45BFA20CBA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 -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18288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xci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0 = X Y’Q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1 = X Q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2 = Y’ + Q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2362320" y="3733920"/>
            <a:ext cx="59436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0(t+1) = D0 = X Y’ Q2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1(t+1) = D1 = X Q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2(t+1) = D2 = Y’ + Q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>
            <a:off x="4876920" y="1600200"/>
            <a:ext cx="2895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haracteris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0(t+1) = D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1(t+1) = D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2(t+1) = D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>
            <a:off x="533520" y="1536840"/>
            <a:ext cx="1752480" cy="1511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4883040" y="1606680"/>
            <a:ext cx="1670040" cy="136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2362320" y="3657600"/>
            <a:ext cx="4267080" cy="1441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2286000" y="2438280"/>
            <a:ext cx="1212840" cy="1212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 flipH="1">
            <a:off x="4120920" y="2139840"/>
            <a:ext cx="755640" cy="1517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2362320" y="5257800"/>
            <a:ext cx="426708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2422080" y="5295960"/>
            <a:ext cx="17823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1 = X Q0 + Q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Z2= (Q1 Q2)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ECA2F-B44F-4F42-AC41-654CF4AEACAC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"/>
          <p:cNvSpPr/>
          <p:nvPr/>
        </p:nvSpPr>
        <p:spPr>
          <a:xfrm>
            <a:off x="1371600" y="990720"/>
            <a:ext cx="6400800" cy="36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cbcb"/>
                </a:solidFill>
                <a:latin typeface="Times New Roman"/>
              </a:rPr>
              <a:t>state</a:t>
            </a: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bcbcb"/>
                </a:solidFill>
                <a:uFillTx/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Q2  Q1 Q0         00            01           11           10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cbcb"/>
                </a:solidFill>
                <a:latin typeface="Times New Roman"/>
              </a:rPr>
              <a:t>A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0    0    0     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 11   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 11   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 11   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cbcb"/>
                </a:solidFill>
                <a:latin typeface="Times New Roman"/>
              </a:rPr>
              <a:t>B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0    0    1     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 11   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 11   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 11   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cbcb"/>
                </a:solidFill>
                <a:latin typeface="Times New Roman"/>
              </a:rPr>
              <a:t>C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0    1    0     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 01   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 01   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 01   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 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cbcb"/>
                </a:solidFill>
                <a:latin typeface="Times New Roman"/>
              </a:rPr>
              <a:t>D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0    1    1     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 01   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 01   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 11   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,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cbcb"/>
                </a:solidFill>
                <a:latin typeface="Times New Roman"/>
              </a:rPr>
              <a:t>E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1    0    0     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 11   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 11   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 11   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cbcb"/>
                </a:solidFill>
                <a:latin typeface="Times New Roman"/>
              </a:rPr>
              <a:t>F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1    0    1     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 11   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 11    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 11  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cbcb"/>
                </a:solidFill>
                <a:latin typeface="Times New Roman"/>
              </a:rPr>
              <a:t>G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1     1    0     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 00  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 00    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 00   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 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cbcb"/>
                </a:solidFill>
                <a:latin typeface="Times New Roman"/>
              </a:rPr>
              <a:t>H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1    1    1     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 00  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 00    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 10   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,10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cbcbcb"/>
                </a:solidFill>
                <a:latin typeface="Arial"/>
              </a:rPr>
              <a:t>                    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cbcb"/>
                </a:solidFill>
                <a:latin typeface="Arial"/>
              </a:rPr>
              <a:t>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2(t+1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1(t+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0(t+1), Z1 /Z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ext State, Outpu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>
            <a:off x="2216160" y="1782720"/>
            <a:ext cx="5556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>
            <a:off x="3740040" y="3992400"/>
            <a:ext cx="3880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>
            <a:off x="7772400" y="1255680"/>
            <a:ext cx="0" cy="27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>
            <a:off x="3657600" y="1332000"/>
            <a:ext cx="0" cy="266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2216160" y="1103400"/>
            <a:ext cx="5549760" cy="376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 - Two-Dimensional Stat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454320" y="5105520"/>
            <a:ext cx="3027240" cy="13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Transition Equ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cbcb"/>
                </a:solidFill>
                <a:latin typeface="Times New Roman"/>
              </a:rPr>
              <a:t>Q0(t+1) = D0 = X Y’ Q2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cbcb"/>
                </a:solidFill>
                <a:latin typeface="Times New Roman"/>
              </a:rPr>
              <a:t>Q1(t+1) = D1 = X Q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cbcb"/>
                </a:solidFill>
                <a:latin typeface="Times New Roman"/>
              </a:rPr>
              <a:t>Q2(t+1) = D2 = Y’ + Q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3582360" y="5064120"/>
            <a:ext cx="230040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69696"/>
                </a:solidFill>
                <a:uFillTx/>
                <a:latin typeface="Times New Roman"/>
              </a:rPr>
              <a:t>X  Y  Q2  Q1  Q0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   0    0     -   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    -     -     -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    0    -     -      -  or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    -     -     1     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6712560" y="5308560"/>
            <a:ext cx="243432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Output Equ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1 = X Q0 + Q1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Z2= (Q1 Q2)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1F06F-3E3E-411D-8D35-C92C68D9DF70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"/>
          <p:cNvSpPr/>
          <p:nvPr/>
        </p:nvSpPr>
        <p:spPr>
          <a:xfrm>
            <a:off x="2337480" y="1265400"/>
            <a:ext cx="46976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cbcb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            00            01           11           10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, 11       A, 11       A, 11       F,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, 11       A, 11       C, 11       H,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           E, 01       E, 01       E, 01       F, 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           E, 01       E, 01       G, 11       H,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           E, 11       A, 11       A, 11       E,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            E, 11       A, 11       C, 11       G,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           E, 00       E, 00        E, 00       E, 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          E, 00       E, 00        G, 10       G,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cbcbcb"/>
                </a:solidFill>
                <a:latin typeface="Arial"/>
              </a:rPr>
              <a:t>                             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cbcb"/>
                </a:solidFill>
                <a:latin typeface="Arial"/>
              </a:rPr>
              <a:t>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(t+1), Z1 /Z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3200400" y="1911240"/>
            <a:ext cx="0" cy="3194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>
            <a:off x="3435480" y="4800600"/>
            <a:ext cx="349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2292480" y="1911240"/>
            <a:ext cx="4787640" cy="318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2292480" y="2514600"/>
            <a:ext cx="479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 - Named State / Output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577AB-67CC-4C06-8261-4E7A258831B5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"/>
          <p:cNvSpPr/>
          <p:nvPr/>
        </p:nvSpPr>
        <p:spPr>
          <a:xfrm>
            <a:off x="1911240" y="1835280"/>
            <a:ext cx="59688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bcbcb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1455840" y="1527120"/>
            <a:ext cx="914040" cy="60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49" y="21599"/>
                </a:moveTo>
                <a:arcTo wR="10800" hR="10800" stAng="5447994" swAng="16295661"/>
                <a:lnTo>
                  <a:pt x="10800" y="10800"/>
                </a:lnTo>
                <a:close/>
              </a:path>
              <a:path fill="none" w="21600" h="21600">
                <a:moveTo>
                  <a:pt x="10649" y="21599"/>
                </a:moveTo>
                <a:arcTo wR="10800" hR="10800" stAng="5447994" swAng="16295661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 flipH="1" flipV="1">
            <a:off x="1832040" y="1984320"/>
            <a:ext cx="6984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 flipH="1">
            <a:off x="1758960" y="2139840"/>
            <a:ext cx="14616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5264280" y="4273560"/>
            <a:ext cx="59688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5494320" y="4656240"/>
            <a:ext cx="761760" cy="532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395" y="8"/>
                </a:moveTo>
                <a:arcTo wR="10800" hR="10800" stAng="-5528855" swAng="16634985"/>
                <a:lnTo>
                  <a:pt x="10800" y="10800"/>
                </a:lnTo>
                <a:close/>
              </a:path>
              <a:path fill="none" w="21600" h="21600">
                <a:moveTo>
                  <a:pt x="10395" y="8"/>
                </a:moveTo>
                <a:arcTo wR="10800" hR="10800" stAng="-5528855" swAng="16634985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 flipV="1">
            <a:off x="5870520" y="4575240"/>
            <a:ext cx="14616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5867280" y="4648320"/>
            <a:ext cx="81000" cy="153720"/>
          </a:xfrm>
          <a:custGeom>
            <a:avLst/>
            <a:gdLst/>
            <a:ahLst/>
            <a:rect l="l" t="t" r="r" b="b"/>
            <a:pathLst>
              <a:path w="51" h="97">
                <a:moveTo>
                  <a:pt x="0" y="0"/>
                </a:moveTo>
                <a:lnTo>
                  <a:pt x="34" y="25"/>
                </a:lnTo>
                <a:lnTo>
                  <a:pt x="42" y="50"/>
                </a:lnTo>
                <a:lnTo>
                  <a:pt x="50" y="75"/>
                </a:lnTo>
                <a:lnTo>
                  <a:pt x="48" y="9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5264280" y="1835280"/>
            <a:ext cx="59688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6330960" y="3054240"/>
            <a:ext cx="59688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844560" y="3054240"/>
            <a:ext cx="59688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3435480" y="1073160"/>
            <a:ext cx="59688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3511440" y="5035680"/>
            <a:ext cx="59688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1911240" y="4273560"/>
            <a:ext cx="59688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 flipH="1">
            <a:off x="2444760" y="1454040"/>
            <a:ext cx="984240" cy="52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5715000" y="2368440"/>
            <a:ext cx="0" cy="197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3892680" y="1606680"/>
            <a:ext cx="1670040" cy="273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 flipH="1">
            <a:off x="4120920" y="2444760"/>
            <a:ext cx="1517400" cy="2889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 flipH="1" flipV="1">
            <a:off x="4041360" y="1450440"/>
            <a:ext cx="1289160" cy="527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 flipH="1">
            <a:off x="4044960" y="2444760"/>
            <a:ext cx="1441440" cy="2736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1447920" y="2286000"/>
            <a:ext cx="3963960" cy="1074600"/>
          </a:xfrm>
          <a:custGeom>
            <a:avLst/>
            <a:gdLst/>
            <a:ahLst/>
            <a:rect l="l" t="t" r="r" b="b"/>
            <a:pathLst>
              <a:path w="2497" h="677">
                <a:moveTo>
                  <a:pt x="0" y="672"/>
                </a:moveTo>
                <a:lnTo>
                  <a:pt x="34" y="676"/>
                </a:lnTo>
                <a:lnTo>
                  <a:pt x="249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1454040" y="3429000"/>
            <a:ext cx="4870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1301760" y="3587760"/>
            <a:ext cx="755640" cy="83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 flipH="1">
            <a:off x="5797440" y="3587760"/>
            <a:ext cx="679680" cy="83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 flipH="1">
            <a:off x="2520720" y="3511440"/>
            <a:ext cx="3879720" cy="1060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2521080" y="2139840"/>
            <a:ext cx="2889000" cy="220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2362320" y="2286000"/>
            <a:ext cx="2896920" cy="2211480"/>
          </a:xfrm>
          <a:custGeom>
            <a:avLst/>
            <a:gdLst/>
            <a:ahLst/>
            <a:rect l="l" t="t" r="r" b="b"/>
            <a:pathLst>
              <a:path w="1825" h="1393">
                <a:moveTo>
                  <a:pt x="1824" y="1392"/>
                </a:moveTo>
                <a:lnTo>
                  <a:pt x="0" y="0"/>
                </a:lnTo>
                <a:lnTo>
                  <a:pt x="19" y="1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 flipH="1" flipV="1">
            <a:off x="1450800" y="3508200"/>
            <a:ext cx="3803760" cy="1060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 flipH="1">
            <a:off x="2444760" y="4724280"/>
            <a:ext cx="2889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 flipV="1">
            <a:off x="4041720" y="4803480"/>
            <a:ext cx="1365480" cy="67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2368440" y="2368440"/>
            <a:ext cx="1594080" cy="2737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 flipH="1" flipV="1">
            <a:off x="2212920" y="2441160"/>
            <a:ext cx="1441440" cy="2660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 flipV="1">
            <a:off x="2133720" y="2364840"/>
            <a:ext cx="0" cy="189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 flipV="1">
            <a:off x="1069920" y="2365200"/>
            <a:ext cx="908280" cy="679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 flipV="1">
            <a:off x="1450800" y="1679400"/>
            <a:ext cx="2279880" cy="15940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2286000" y="4800600"/>
            <a:ext cx="1220760" cy="611280"/>
          </a:xfrm>
          <a:custGeom>
            <a:avLst/>
            <a:gdLst/>
            <a:ahLst/>
            <a:rect l="l" t="t" r="r" b="b"/>
            <a:pathLst>
              <a:path w="769" h="385">
                <a:moveTo>
                  <a:pt x="768" y="384"/>
                </a:move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1051560" y="1217520"/>
            <a:ext cx="73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bcbcb"/>
                </a:solidFill>
                <a:latin typeface="Arial"/>
              </a:rPr>
              <a:t>Y (1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2422800" y="1293840"/>
            <a:ext cx="985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Arial"/>
              </a:rPr>
              <a:t>(11) X’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4176000" y="1217520"/>
            <a:ext cx="928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Arial"/>
              </a:rPr>
              <a:t>X Y (1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4098240" y="1827360"/>
            <a:ext cx="625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Arial"/>
              </a:rPr>
              <a:t>X’ Y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Arial"/>
              </a:rPr>
              <a:t>(1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3124080" y="1851120"/>
            <a:ext cx="914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969696"/>
                </a:solidFill>
                <a:latin typeface="Arial"/>
              </a:rPr>
              <a:t>X Y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69696"/>
                </a:solidFill>
                <a:latin typeface="Arial"/>
              </a:rPr>
              <a:t>(1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565080" y="2741760"/>
            <a:ext cx="569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bcbcb"/>
                </a:solidFill>
                <a:latin typeface="Arial"/>
              </a:rPr>
              <a:t>X’Y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bcbcb"/>
                </a:solidFill>
                <a:latin typeface="Arial"/>
              </a:rPr>
              <a:t>(1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5776200" y="3046320"/>
            <a:ext cx="544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Y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4785480" y="2513160"/>
            <a:ext cx="544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Y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5698800" y="2436840"/>
            <a:ext cx="631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’+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442440" y="5767560"/>
            <a:ext cx="5522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Differen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Arc: input expression (outputs) = expression (Z1 /Z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8312040" y="5568840"/>
            <a:ext cx="59688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6864480" y="5568840"/>
            <a:ext cx="59688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7473960" y="5791320"/>
            <a:ext cx="831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 flipH="1">
            <a:off x="7397640" y="6019920"/>
            <a:ext cx="9842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7451640" y="5386320"/>
            <a:ext cx="99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y’ (1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7451640" y="6072120"/>
            <a:ext cx="997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Arial"/>
              </a:rPr>
              <a:t>x’ y (1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6844680" y="4548240"/>
            <a:ext cx="22028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cbcb"/>
                </a:solidFill>
                <a:latin typeface="Arial"/>
              </a:rPr>
              <a:t>Also possib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cbcb"/>
                </a:solidFill>
                <a:latin typeface="Arial"/>
              </a:rPr>
              <a:t>Same transition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bcbcb"/>
                </a:solidFill>
                <a:latin typeface="Arial"/>
              </a:rPr>
              <a:t>but different out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 - State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"/>
          <p:cNvSpPr/>
          <p:nvPr/>
        </p:nvSpPr>
        <p:spPr>
          <a:xfrm>
            <a:off x="2347200" y="2513160"/>
            <a:ext cx="544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bcbcb"/>
                </a:solidFill>
                <a:latin typeface="Arial"/>
              </a:rPr>
              <a:t>XY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bcbcb"/>
                </a:solidFill>
                <a:latin typeface="Arial"/>
              </a:rPr>
              <a:t>(1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6233400" y="3656160"/>
            <a:ext cx="544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0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1" name=""/>
          <p:cNvSpPr/>
          <p:nvPr/>
        </p:nvSpPr>
        <p:spPr>
          <a:xfrm>
            <a:off x="5166360" y="3427560"/>
            <a:ext cx="544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1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2" name=""/>
          <p:cNvSpPr/>
          <p:nvPr/>
        </p:nvSpPr>
        <p:spPr>
          <a:xfrm>
            <a:off x="362520" y="4221000"/>
            <a:ext cx="1416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mplet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7B054-73BB-4551-B15D-0BF060CE89A3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is of J-K Flip-Flop State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two excitation equations per flip-flop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J , 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haracteristic equation :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(t+1) = J·Q(t)’ + K’·Q(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same analysis procedure shown previous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B63E2-FF51-44B4-9335-614F1716C866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 - State Machine with J-K Flip-fl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"/>
          <p:cNvSpPr/>
          <p:nvPr/>
        </p:nvSpPr>
        <p:spPr>
          <a:xfrm>
            <a:off x="4419720" y="1913040"/>
            <a:ext cx="106632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 flipV="1">
            <a:off x="4952880" y="1907640"/>
            <a:ext cx="0" cy="45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5410440" y="1989000"/>
            <a:ext cx="106632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5799600" y="1987560"/>
            <a:ext cx="303840" cy="455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88" y="1"/>
                </a:moveTo>
                <a:arcTo wR="10800" hR="10800" stAng="-5435809" swAng="9509936"/>
                <a:lnTo>
                  <a:pt x="10800" y="10800"/>
                </a:lnTo>
                <a:close/>
              </a:path>
              <a:path fill="none" w="21600" h="21600">
                <a:moveTo>
                  <a:pt x="10688" y="1"/>
                </a:moveTo>
                <a:arcTo wR="10800" hR="10800" stAng="-5435809" swAng="9509936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3435480" y="2063880"/>
            <a:ext cx="749160" cy="977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 flipH="1" flipV="1">
            <a:off x="3432240" y="2441520"/>
            <a:ext cx="6984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 flipH="1">
            <a:off x="3435480" y="2521080"/>
            <a:ext cx="6984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4197240" y="27496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3435480" y="3664080"/>
            <a:ext cx="749160" cy="977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3413160" y="3657600"/>
            <a:ext cx="32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3352680" y="4191120"/>
            <a:ext cx="38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 flipH="1" flipV="1">
            <a:off x="3432240" y="4041720"/>
            <a:ext cx="6984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 flipH="1">
            <a:off x="3435480" y="4121280"/>
            <a:ext cx="6984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4197240" y="434988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 flipH="1">
            <a:off x="1149480" y="2209680"/>
            <a:ext cx="2279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1676520" y="2598840"/>
            <a:ext cx="106632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08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 flipV="1">
            <a:off x="2209680" y="2593440"/>
            <a:ext cx="0" cy="45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1987560" y="3664080"/>
            <a:ext cx="298440" cy="14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 flipH="1">
            <a:off x="1987200" y="3816360"/>
            <a:ext cx="29844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1981080" y="3664080"/>
            <a:ext cx="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2292480" y="37400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2444760" y="3809880"/>
            <a:ext cx="98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 flipH="1">
            <a:off x="2978280" y="4419720"/>
            <a:ext cx="45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2971800" y="4425840"/>
            <a:ext cx="0" cy="22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 flipH="1">
            <a:off x="2825280" y="4648320"/>
            <a:ext cx="29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2901960" y="472428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2901960" y="480060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 flipH="1">
            <a:off x="4196880" y="2209680"/>
            <a:ext cx="75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 flipH="1">
            <a:off x="2825280" y="1981080"/>
            <a:ext cx="212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2819520" y="1987560"/>
            <a:ext cx="0" cy="22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1523880" y="2216160"/>
            <a:ext cx="0" cy="1593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1530360" y="3809880"/>
            <a:ext cx="45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 flipH="1">
            <a:off x="1149120" y="2971800"/>
            <a:ext cx="106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2749680" y="2819520"/>
            <a:ext cx="67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 flipH="1">
            <a:off x="1530000" y="2666880"/>
            <a:ext cx="67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5492880" y="2133720"/>
            <a:ext cx="60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 flipH="1">
            <a:off x="5721120" y="2362320"/>
            <a:ext cx="29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5715000" y="2368440"/>
            <a:ext cx="0" cy="144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 flipH="1">
            <a:off x="4197240" y="3809880"/>
            <a:ext cx="1517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3276720" y="2521080"/>
            <a:ext cx="0" cy="266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3282840" y="251460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 flipH="1">
            <a:off x="3282840" y="4114800"/>
            <a:ext cx="146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2971800" y="5181480"/>
            <a:ext cx="914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69696"/>
                </a:solidFill>
                <a:latin typeface="Times New Roman"/>
              </a:rPr>
              <a:t>CL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6483240" y="2209680"/>
            <a:ext cx="374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762120" y="198108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762120" y="2743200"/>
            <a:ext cx="304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6858000" y="1981080"/>
            <a:ext cx="304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7093080" y="3054240"/>
            <a:ext cx="1892160" cy="86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ly Out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 = X·Q1 + Q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4267080" y="213372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Q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4191120" y="3429000"/>
            <a:ext cx="533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Q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2819520" y="2209680"/>
            <a:ext cx="533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J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2743200" y="281952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K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2514600" y="350532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J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2514600" y="419112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69696"/>
                </a:solidFill>
                <a:latin typeface="Times New Roman"/>
              </a:rPr>
              <a:t>K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3413160" y="2057400"/>
            <a:ext cx="32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3352680" y="2590920"/>
            <a:ext cx="38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 flipH="1" flipV="1">
            <a:off x="3432240" y="2441520"/>
            <a:ext cx="6984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 flipH="1">
            <a:off x="3435480" y="2521080"/>
            <a:ext cx="6984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3870360" y="3657600"/>
            <a:ext cx="32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3870360" y="4191120"/>
            <a:ext cx="32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3870360" y="2057400"/>
            <a:ext cx="32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3870360" y="2590920"/>
            <a:ext cx="320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817B4-DBC5-4F94-92A3-68BAA0B16707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 -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16002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Exci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1 =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1 = X·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2 = X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2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1447920" y="373392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1(t+1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X·Q1’ + (X·Y)’ ·Q1 = X·Q1’ + X’·Q1 + Y’·Q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2(t+1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X’·Q2’ + 0’·Q2 = X’·Q2’ + Q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4876920" y="1600200"/>
            <a:ext cx="3429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haracteris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(t+1)= J·Q’ + K’·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1(t+1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J1·Q1’ + K1’·Q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2(t+1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J2·Q2’ + K2’·Q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539640" y="1530360"/>
            <a:ext cx="1511280" cy="1892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4883040" y="1606680"/>
            <a:ext cx="3270240" cy="1358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1371600" y="3664080"/>
            <a:ext cx="6781680" cy="113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2063880" y="2444760"/>
            <a:ext cx="1212840" cy="1212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 flipH="1">
            <a:off x="4120920" y="2139840"/>
            <a:ext cx="755640" cy="1517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533520" y="5334120"/>
            <a:ext cx="1892160" cy="83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ealy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 = X·Q1 + Q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AF3D7-97E4-4000-9851-E28D5307D26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matic diagram/Logic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3276720"/>
            <a:ext cx="792468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Design Practices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bble-to-Bubble 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wires are either horizontal or ver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s are connected at “T” inters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s are not connected at “X” inters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tic diagrams should incl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C-Type-Logic Fam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n numbers- Pin Di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erence designator- Unit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457200" y="1066680"/>
            <a:ext cx="4114800" cy="1374480"/>
            <a:chOff x="457200" y="1066680"/>
            <a:chExt cx="4114800" cy="1374480"/>
          </a:xfrm>
        </p:grpSpPr>
        <p:sp>
          <p:nvSpPr>
            <p:cNvPr id="228" name=""/>
            <p:cNvSpPr/>
            <p:nvPr/>
          </p:nvSpPr>
          <p:spPr>
            <a:xfrm>
              <a:off x="2438280" y="1982520"/>
              <a:ext cx="0" cy="4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61000" y="1984320"/>
              <a:ext cx="7610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5" y="0"/>
                  </a:moveTo>
                  <a:arcTo wR="10800" hR="10800" stAng="-5414323" swAng="54143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5" y="0"/>
                  </a:moveTo>
                  <a:arcTo wR="10800" hR="10800" stAng="-5414323" swAng="5414323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57040" y="1981080"/>
              <a:ext cx="762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2058840" y="2057400"/>
              <a:ext cx="37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058840" y="2361960"/>
              <a:ext cx="37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2972880" y="2209680"/>
              <a:ext cx="227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832120" y="2146320"/>
              <a:ext cx="127080" cy="126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438280" y="1144440"/>
              <a:ext cx="0" cy="4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61000" y="1145880"/>
              <a:ext cx="7610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5" y="0"/>
                  </a:moveTo>
                  <a:arcTo wR="10800" hR="10800" stAng="-5414323" swAng="54143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5" y="0"/>
                  </a:moveTo>
                  <a:arcTo wR="10800" hR="10800" stAng="-5414323" swAng="5414323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57040" y="1143000"/>
              <a:ext cx="762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2058840" y="1218960"/>
              <a:ext cx="37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2058840" y="1523880"/>
              <a:ext cx="37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2972880" y="1371600"/>
              <a:ext cx="227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32120" y="1307880"/>
              <a:ext cx="127080" cy="1270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581280" y="1525320"/>
              <a:ext cx="0" cy="45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4000" y="1527120"/>
              <a:ext cx="7610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5" y="0"/>
                  </a:moveTo>
                  <a:arcTo wR="10800" hR="10800" stAng="-5414323" swAng="54143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5" y="0"/>
                  </a:moveTo>
                  <a:arcTo wR="10800" hR="10800" stAng="-5414323" swAng="5414323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00040" y="1523880"/>
              <a:ext cx="76212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3201840" y="1600200"/>
              <a:ext cx="37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3201840" y="1904760"/>
              <a:ext cx="37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4115880" y="1752480"/>
              <a:ext cx="227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75120" y="1689120"/>
              <a:ext cx="127080" cy="1267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95280" y="1677960"/>
              <a:ext cx="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97080" y="1677960"/>
              <a:ext cx="226800" cy="15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1297080" y="1830240"/>
              <a:ext cx="226800" cy="15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536840" y="1765080"/>
              <a:ext cx="126720" cy="1270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915840" y="1828800"/>
              <a:ext cx="37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1677600" y="1828800"/>
              <a:ext cx="150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95280" y="1068120"/>
              <a:ext cx="0" cy="303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297080" y="1068120"/>
              <a:ext cx="226800" cy="15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1297080" y="1220760"/>
              <a:ext cx="226800" cy="15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536840" y="1155600"/>
              <a:ext cx="126720" cy="1270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915840" y="1218960"/>
              <a:ext cx="37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1677960" y="1218960"/>
              <a:ext cx="37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143000" y="1523880"/>
              <a:ext cx="1068480" cy="306360"/>
            </a:xfrm>
            <a:custGeom>
              <a:avLst/>
              <a:gdLst/>
              <a:ahLst/>
              <a:rect l="l" t="t" r="r" b="b"/>
              <a:pathLst>
                <a:path w="673" h="193">
                  <a:moveTo>
                    <a:pt x="0" y="192"/>
                  </a:moveTo>
                  <a:lnTo>
                    <a:pt x="0" y="0"/>
                  </a:lnTo>
                  <a:lnTo>
                    <a:pt x="672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66680" y="1218960"/>
              <a:ext cx="992160" cy="839880"/>
            </a:xfrm>
            <a:custGeom>
              <a:avLst/>
              <a:gdLst/>
              <a:ahLst/>
              <a:rect l="l" t="t" r="r" b="b"/>
              <a:pathLst>
                <a:path w="625" h="529">
                  <a:moveTo>
                    <a:pt x="624" y="528"/>
                  </a:moveTo>
                  <a:lnTo>
                    <a:pt x="0" y="528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828800" y="1828800"/>
              <a:ext cx="306360" cy="534960"/>
            </a:xfrm>
            <a:custGeom>
              <a:avLst/>
              <a:gdLst/>
              <a:ahLst/>
              <a:rect l="l" t="t" r="r" b="b"/>
              <a:pathLst>
                <a:path w="193" h="337">
                  <a:moveTo>
                    <a:pt x="0" y="0"/>
                  </a:moveTo>
                  <a:lnTo>
                    <a:pt x="0" y="336"/>
                  </a:lnTo>
                  <a:lnTo>
                    <a:pt x="20" y="329"/>
                  </a:lnTo>
                  <a:lnTo>
                    <a:pt x="192" y="33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200400" y="1371600"/>
              <a:ext cx="230040" cy="230040"/>
            </a:xfrm>
            <a:custGeom>
              <a:avLst/>
              <a:gdLst/>
              <a:ahLst/>
              <a:rect l="l" t="t" r="r" b="b"/>
              <a:pathLst>
                <a:path w="145" h="145">
                  <a:moveTo>
                    <a:pt x="0" y="0"/>
                  </a:moveTo>
                  <a:lnTo>
                    <a:pt x="0" y="144"/>
                  </a:lnTo>
                  <a:lnTo>
                    <a:pt x="144" y="14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200400" y="1904760"/>
              <a:ext cx="154080" cy="306360"/>
            </a:xfrm>
            <a:custGeom>
              <a:avLst/>
              <a:gdLst/>
              <a:ahLst/>
              <a:rect l="l" t="t" r="r" b="b"/>
              <a:pathLst>
                <a:path w="97" h="193">
                  <a:moveTo>
                    <a:pt x="0" y="192"/>
                  </a:moveTo>
                  <a:lnTo>
                    <a:pt x="0" y="0"/>
                  </a:lnTo>
                  <a:lnTo>
                    <a:pt x="96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57200" y="1066680"/>
              <a:ext cx="53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/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" y="1676160"/>
              <a:ext cx="53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/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38480" y="1371600"/>
              <a:ext cx="5335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495680" y="914400"/>
            <a:ext cx="4267080" cy="1829880"/>
            <a:chOff x="4495680" y="914400"/>
            <a:chExt cx="4267080" cy="1829880"/>
          </a:xfrm>
        </p:grpSpPr>
        <p:sp>
          <p:nvSpPr>
            <p:cNvPr id="270" name=""/>
            <p:cNvSpPr/>
            <p:nvPr/>
          </p:nvSpPr>
          <p:spPr>
            <a:xfrm>
              <a:off x="8229600" y="1600200"/>
              <a:ext cx="533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4495680" y="914400"/>
              <a:ext cx="4114800" cy="1829880"/>
              <a:chOff x="4495680" y="914400"/>
              <a:chExt cx="4114800" cy="182988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8800" y="1679760"/>
                <a:ext cx="76104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55" y="0"/>
                    </a:moveTo>
                    <a:arcTo wR="10800" hR="10800" stAng="-5414323" swAng="54143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55" y="0"/>
                    </a:moveTo>
                    <a:arcTo wR="10800" hR="10800" stAng="-5414323" swAng="5414323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314840" y="1676520"/>
                <a:ext cx="76212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543800" y="1679760"/>
                <a:ext cx="304560" cy="60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688" y="1"/>
                    </a:moveTo>
                    <a:arcTo wR="10800" hR="10800" stAng="-5435809" swAng="532728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688" y="1"/>
                    </a:moveTo>
                    <a:arcTo wR="10800" hR="10800" stAng="-5435809" swAng="5327284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543440" y="1676520"/>
                <a:ext cx="30492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7240680" y="1752840"/>
                <a:ext cx="379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7240680" y="2057400"/>
                <a:ext cx="379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8078760" y="1905120"/>
                <a:ext cx="379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632720" y="1689120"/>
                <a:ext cx="127080" cy="127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632720" y="1994040"/>
                <a:ext cx="127080" cy="127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477120" y="2135160"/>
                <a:ext cx="0" cy="455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099120" y="2136960"/>
                <a:ext cx="76176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55" y="0"/>
                    </a:moveTo>
                    <a:arcTo wR="10800" hR="10800" stAng="-5414323" swAng="54143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55" y="0"/>
                    </a:moveTo>
                    <a:arcTo wR="10800" hR="10800" stAng="-5414323" swAng="5414323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096240" y="2133720"/>
                <a:ext cx="7614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6097680" y="2210040"/>
                <a:ext cx="379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6097680" y="2514600"/>
                <a:ext cx="379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H="1">
                <a:off x="7012080" y="2362320"/>
                <a:ext cx="226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870600" y="2298960"/>
                <a:ext cx="127080" cy="1267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477120" y="1297080"/>
                <a:ext cx="0" cy="455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099120" y="1298520"/>
                <a:ext cx="76176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55" y="0"/>
                    </a:moveTo>
                    <a:arcTo wR="10800" hR="10800" stAng="-5414323" swAng="54143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55" y="0"/>
                    </a:moveTo>
                    <a:arcTo wR="10800" hR="10800" stAng="-5414323" swAng="5414323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096240" y="1295640"/>
                <a:ext cx="761400" cy="456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6097680" y="1371600"/>
                <a:ext cx="379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6097680" y="1676520"/>
                <a:ext cx="379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7012080" y="1524240"/>
                <a:ext cx="226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870600" y="1460520"/>
                <a:ext cx="127080" cy="127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7240680" y="1752840"/>
                <a:ext cx="379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7240680" y="2057400"/>
                <a:ext cx="379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486400" y="1830600"/>
                <a:ext cx="0" cy="303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487840" y="1830600"/>
                <a:ext cx="227160" cy="150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5487480" y="1982880"/>
                <a:ext cx="227160" cy="150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346720" y="1917720"/>
                <a:ext cx="127080" cy="127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4954680" y="1981440"/>
                <a:ext cx="379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5716080" y="1981440"/>
                <a:ext cx="150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5486400" y="1220760"/>
                <a:ext cx="0" cy="303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487840" y="1220760"/>
                <a:ext cx="227160" cy="150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5487480" y="1373400"/>
                <a:ext cx="227160" cy="150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346720" y="1308240"/>
                <a:ext cx="127080" cy="12708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H="1">
                <a:off x="4954680" y="1371600"/>
                <a:ext cx="379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5716440" y="1371600"/>
                <a:ext cx="379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181480" y="1676520"/>
                <a:ext cx="1068480" cy="306360"/>
              </a:xfrm>
              <a:custGeom>
                <a:avLst/>
                <a:gdLst/>
                <a:ahLst/>
                <a:rect l="l" t="t" r="r" b="b"/>
                <a:pathLst>
                  <a:path w="673" h="193">
                    <a:moveTo>
                      <a:pt x="0" y="192"/>
                    </a:moveTo>
                    <a:lnTo>
                      <a:pt x="0" y="0"/>
                    </a:lnTo>
                    <a:lnTo>
                      <a:pt x="672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105520" y="1371600"/>
                <a:ext cx="992160" cy="839880"/>
              </a:xfrm>
              <a:custGeom>
                <a:avLst/>
                <a:gdLst/>
                <a:ahLst/>
                <a:rect l="l" t="t" r="r" b="b"/>
                <a:pathLst>
                  <a:path w="625" h="529">
                    <a:moveTo>
                      <a:pt x="624" y="528"/>
                    </a:moveTo>
                    <a:lnTo>
                      <a:pt x="0" y="52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867280" y="1981440"/>
                <a:ext cx="306360" cy="534960"/>
              </a:xfrm>
              <a:custGeom>
                <a:avLst/>
                <a:gdLst/>
                <a:ahLst/>
                <a:rect l="l" t="t" r="r" b="b"/>
                <a:pathLst>
                  <a:path w="193" h="337">
                    <a:moveTo>
                      <a:pt x="0" y="0"/>
                    </a:moveTo>
                    <a:lnTo>
                      <a:pt x="0" y="336"/>
                    </a:lnTo>
                    <a:lnTo>
                      <a:pt x="20" y="329"/>
                    </a:lnTo>
                    <a:lnTo>
                      <a:pt x="192" y="336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238880" y="1524240"/>
                <a:ext cx="230400" cy="230040"/>
              </a:xfrm>
              <a:custGeom>
                <a:avLst/>
                <a:gdLst/>
                <a:ahLst/>
                <a:rect l="l" t="t" r="r" b="b"/>
                <a:pathLst>
                  <a:path w="145" h="145">
                    <a:moveTo>
                      <a:pt x="0" y="0"/>
                    </a:moveTo>
                    <a:lnTo>
                      <a:pt x="0" y="144"/>
                    </a:lnTo>
                    <a:lnTo>
                      <a:pt x="144" y="144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238880" y="2057400"/>
                <a:ext cx="154080" cy="306360"/>
              </a:xfrm>
              <a:custGeom>
                <a:avLst/>
                <a:gdLst/>
                <a:ahLst/>
                <a:rect l="l" t="t" r="r" b="b"/>
                <a:pathLst>
                  <a:path w="97" h="193">
                    <a:moveTo>
                      <a:pt x="0" y="192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495680" y="1219320"/>
                <a:ext cx="5335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/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495680" y="1828800"/>
                <a:ext cx="5335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/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105520" y="914400"/>
                <a:ext cx="1066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74LS0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029200" y="2210040"/>
                <a:ext cx="1066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74LS0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400800" y="990720"/>
                <a:ext cx="1066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74LS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400800" y="1905120"/>
                <a:ext cx="10666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74LS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467480" y="1371600"/>
                <a:ext cx="10670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74LS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105520" y="1143000"/>
                <a:ext cx="533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969696"/>
                    </a:solidFill>
                    <a:latin typeface="Times New Roman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38680" y="1143000"/>
                <a:ext cx="5335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969696"/>
                    </a:solidFill>
                    <a:latin typeface="Times New Roman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105520" y="1752840"/>
                <a:ext cx="533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969696"/>
                    </a:solidFill>
                    <a:latin typeface="Times New Roman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638680" y="1752840"/>
                <a:ext cx="5335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969696"/>
                    </a:solidFill>
                    <a:latin typeface="Times New Roman"/>
                  </a:rPr>
                  <a:t>4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172200" y="1143000"/>
                <a:ext cx="5335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969696"/>
                    </a:solidFill>
                    <a:latin typeface="Times New Roman"/>
                  </a:rPr>
                  <a:t>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172200" y="1447920"/>
                <a:ext cx="5335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969696"/>
                    </a:solidFill>
                    <a:latin typeface="Times New Roman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934320" y="1219320"/>
                <a:ext cx="533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969696"/>
                    </a:solidFill>
                    <a:latin typeface="Times New Roman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172200" y="1981440"/>
                <a:ext cx="5335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969696"/>
                    </a:solidFill>
                    <a:latin typeface="Times New Roman"/>
                  </a:rPr>
                  <a:t>4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172200" y="2286000"/>
                <a:ext cx="5335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969696"/>
                    </a:solidFill>
                    <a:latin typeface="Times New Roman"/>
                  </a:rPr>
                  <a:t>5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934320" y="2057400"/>
                <a:ext cx="533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969696"/>
                    </a:solidFill>
                    <a:latin typeface="Times New Roman"/>
                  </a:rPr>
                  <a:t>6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238880" y="1524240"/>
                <a:ext cx="5335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969696"/>
                    </a:solidFill>
                    <a:latin typeface="Times New Roman"/>
                  </a:rPr>
                  <a:t>  </a:t>
                </a:r>
                <a:r>
                  <a:rPr b="0" lang="en-US" sz="1400" spc="-1" strike="noStrike">
                    <a:solidFill>
                      <a:srgbClr val="969696"/>
                    </a:solidFill>
                    <a:latin typeface="Times New Roman"/>
                  </a:rPr>
                  <a:t>10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391520" y="1828800"/>
                <a:ext cx="533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969696"/>
                    </a:solidFill>
                    <a:latin typeface="Times New Roman"/>
                  </a:rPr>
                  <a:t>9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077320" y="1600200"/>
                <a:ext cx="533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969696"/>
                    </a:solidFill>
                    <a:latin typeface="Times New Roman"/>
                  </a:rPr>
                  <a:t>8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781680" y="1600200"/>
                <a:ext cx="5335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969696"/>
                    </a:solidFill>
                    <a:latin typeface="Times New Roman"/>
                  </a:rPr>
                  <a:t>U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781680" y="2438640"/>
                <a:ext cx="5335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969696"/>
                    </a:solidFill>
                    <a:latin typeface="Times New Roman"/>
                  </a:rPr>
                  <a:t>U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8001000" y="1981440"/>
                <a:ext cx="5335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969696"/>
                    </a:solidFill>
                    <a:latin typeface="Times New Roman"/>
                  </a:rPr>
                  <a:t>U1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410080" y="1447920"/>
                <a:ext cx="5335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969696"/>
                    </a:solidFill>
                    <a:latin typeface="Times New Roman"/>
                  </a:rPr>
                  <a:t>U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562720" y="2210040"/>
                <a:ext cx="533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969696"/>
                    </a:solidFill>
                    <a:latin typeface="Times New Roman"/>
                  </a:rPr>
                  <a:t>U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9" name=""/>
          <p:cNvGrpSpPr/>
          <p:nvPr/>
        </p:nvGrpSpPr>
        <p:grpSpPr>
          <a:xfrm>
            <a:off x="6705720" y="3809880"/>
            <a:ext cx="533160" cy="762120"/>
            <a:chOff x="6705720" y="3809880"/>
            <a:chExt cx="533160" cy="762120"/>
          </a:xfrm>
        </p:grpSpPr>
        <p:sp>
          <p:nvSpPr>
            <p:cNvPr id="340" name=""/>
            <p:cNvSpPr/>
            <p:nvPr/>
          </p:nvSpPr>
          <p:spPr>
            <a:xfrm>
              <a:off x="6705720" y="38098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705720" y="41911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324480" y="4952880"/>
            <a:ext cx="763560" cy="762120"/>
            <a:chOff x="6324480" y="4952880"/>
            <a:chExt cx="763560" cy="762120"/>
          </a:xfrm>
        </p:grpSpPr>
        <p:sp>
          <p:nvSpPr>
            <p:cNvPr id="343" name=""/>
            <p:cNvSpPr/>
            <p:nvPr/>
          </p:nvSpPr>
          <p:spPr>
            <a:xfrm>
              <a:off x="6707160" y="4952880"/>
              <a:ext cx="0" cy="76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324480" y="5334120"/>
              <a:ext cx="76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" name=""/>
          <p:cNvSpPr/>
          <p:nvPr/>
        </p:nvSpPr>
        <p:spPr>
          <a:xfrm>
            <a:off x="6705360" y="380988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s conn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04640" y="495288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s not connec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370160" y="2438280"/>
            <a:ext cx="18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55640" y="2743200"/>
            <a:ext cx="21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matic Dia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A9ABD-3014-4EC1-94B8-79F4257A831A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 - Stat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"/>
          <p:cNvSpPr/>
          <p:nvPr/>
        </p:nvSpPr>
        <p:spPr>
          <a:xfrm>
            <a:off x="1295280" y="1752480"/>
            <a:ext cx="647712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    Q1  Q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     0     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1,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1,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,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      0     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1,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1,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,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,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     1      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,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,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0,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,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      1      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,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,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1,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,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1758960" y="1758960"/>
            <a:ext cx="5016600" cy="3111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1758960" y="2590920"/>
            <a:ext cx="502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3048120" y="1758960"/>
            <a:ext cx="0" cy="2736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3505320" y="4495680"/>
            <a:ext cx="2438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1(t+1) Q2(t+1),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3130560" y="4495680"/>
            <a:ext cx="3498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1301760" y="2590920"/>
            <a:ext cx="374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228600" y="5257800"/>
            <a:ext cx="685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1(t+1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X·Q1’ + (X·Y)’ ·Q1 = X·Q1’ + X’·Q1 + Y’·Q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2(t+1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 X’·Q2’ + 0’·Q2 = X’·Q2’ + Q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152280" y="5187960"/>
            <a:ext cx="6782040" cy="113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7086600" y="5181480"/>
            <a:ext cx="1892160" cy="830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ealy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Z = X·Q1 + Q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4138D-445F-48F2-9D83-414D92709CD1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 - Named State/Output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"/>
          <p:cNvSpPr/>
          <p:nvPr/>
        </p:nvSpPr>
        <p:spPr>
          <a:xfrm>
            <a:off x="1447920" y="1828800"/>
            <a:ext cx="647676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,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,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,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,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,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,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,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,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,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,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,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,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,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,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,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,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2292480" y="1835280"/>
            <a:ext cx="4483080" cy="3035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2292480" y="2590920"/>
            <a:ext cx="448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3048120" y="1835280"/>
            <a:ext cx="0" cy="266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4191120" y="4495680"/>
            <a:ext cx="1371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(t+1),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3206880" y="4495680"/>
            <a:ext cx="3422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0A5F3-B7A2-4CF7-B9C2-A35CBFC83743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"/>
          <p:cNvSpPr/>
          <p:nvPr/>
        </p:nvSpPr>
        <p:spPr>
          <a:xfrm>
            <a:off x="2908440" y="237492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5575320" y="237492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2908440" y="405144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5499000" y="3898800"/>
            <a:ext cx="432000" cy="43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2971800" y="2438280"/>
            <a:ext cx="3049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5638680" y="2438280"/>
            <a:ext cx="3049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5562720" y="3962520"/>
            <a:ext cx="3045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2971800" y="4114800"/>
            <a:ext cx="3049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5418000" y="2065320"/>
            <a:ext cx="1218960" cy="60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90" y="17450"/>
                </a:moveTo>
                <a:arcTo wR="10800" hR="10800" stAng="8519635" swAng="18480365"/>
                <a:lnTo>
                  <a:pt x="10800" y="10800"/>
                </a:lnTo>
                <a:close/>
              </a:path>
              <a:path fill="none" w="21600" h="21600">
                <a:moveTo>
                  <a:pt x="2290" y="17450"/>
                </a:moveTo>
                <a:arcTo wR="10800" hR="10800" stAng="8519635" swAng="18480365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 rot="10800000">
            <a:off x="5342400" y="4041720"/>
            <a:ext cx="1218600" cy="60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9" y="21599"/>
                </a:moveTo>
                <a:arcTo wR="10800" hR="10800" stAng="5444995" swAng="18480195"/>
                <a:lnTo>
                  <a:pt x="10800" y="10800"/>
                </a:lnTo>
                <a:close/>
              </a:path>
              <a:path fill="none" w="21600" h="21600">
                <a:moveTo>
                  <a:pt x="10659" y="21599"/>
                </a:moveTo>
                <a:arcTo wR="10800" hR="10800" stAng="5444995" swAng="18480195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 rot="10800000">
            <a:off x="2293920" y="4199040"/>
            <a:ext cx="1218960" cy="60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90" y="17450"/>
                </a:moveTo>
                <a:arcTo wR="10800" hR="10800" stAng="8519635" swAng="18480365"/>
                <a:lnTo>
                  <a:pt x="10800" y="10800"/>
                </a:lnTo>
                <a:close/>
              </a:path>
              <a:path fill="none" w="21600" h="21600">
                <a:moveTo>
                  <a:pt x="2290" y="17450"/>
                </a:moveTo>
                <a:arcTo wR="10800" hR="10800" stAng="8519635" swAng="18480365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1295280" y="4191120"/>
            <a:ext cx="10670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,01,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1454040" y="4495680"/>
            <a:ext cx="75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6629400" y="4038480"/>
            <a:ext cx="6094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6711840" y="4343400"/>
            <a:ext cx="29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6705720" y="1981080"/>
            <a:ext cx="1218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,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6711840" y="2286000"/>
            <a:ext cx="60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3962520" y="3886200"/>
            <a:ext cx="9144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,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4044960" y="4191120"/>
            <a:ext cx="52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3357720" y="2370240"/>
            <a:ext cx="224856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5"/>
                </a:moveTo>
                <a:arcTo wR="10800" hR="10800" stAng="-10728441" swAng="9501393"/>
                <a:lnTo>
                  <a:pt x="10800" y="10800"/>
                </a:lnTo>
                <a:close/>
              </a:path>
              <a:path fill="none" w="21600" h="21600">
                <a:moveTo>
                  <a:pt x="2" y="10575"/>
                </a:moveTo>
                <a:arcTo wR="10800" hR="10800" stAng="-10728441" swAng="9501393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3351240" y="3817800"/>
            <a:ext cx="224856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5"/>
                </a:moveTo>
                <a:arcTo wR="10800" hR="10800" stAng="-10728441" swAng="9501393"/>
                <a:lnTo>
                  <a:pt x="10800" y="10800"/>
                </a:lnTo>
                <a:close/>
              </a:path>
              <a:path fill="none" w="21600" h="21600">
                <a:moveTo>
                  <a:pt x="2" y="10575"/>
                </a:moveTo>
                <a:arcTo wR="10800" hR="10800" stAng="-10728441" swAng="9501393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3124080" y="2664000"/>
            <a:ext cx="3962160" cy="276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0"/>
                </a:moveTo>
                <a:arcTo wR="10800" hR="10800" stAng="-10784213" swAng="6195920"/>
                <a:lnTo>
                  <a:pt x="10800" y="10800"/>
                </a:lnTo>
                <a:close/>
              </a:path>
              <a:path fill="none" w="21600" h="21600">
                <a:moveTo>
                  <a:pt x="0" y="10750"/>
                </a:moveTo>
                <a:arcTo wR="10800" hR="10800" stAng="-10784213" swAng="619592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3276720" y="2751120"/>
            <a:ext cx="424476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0"/>
                </a:moveTo>
                <a:arcTo wR="10800" hR="10800" stAng="-10784084" swAng="5767827"/>
                <a:lnTo>
                  <a:pt x="10800" y="10800"/>
                </a:lnTo>
                <a:close/>
              </a:path>
              <a:path fill="none" w="21600" h="21600">
                <a:moveTo>
                  <a:pt x="0" y="10750"/>
                </a:moveTo>
                <a:arcTo wR="10800" hR="10800" stAng="-10784084" swAng="5767827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1474920" y="2598840"/>
            <a:ext cx="424404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605" y="66"/>
                </a:moveTo>
                <a:arcTo wR="10800" hR="10800" stAng="-5781188" swAng="5554212"/>
                <a:lnTo>
                  <a:pt x="10800" y="10800"/>
                </a:lnTo>
                <a:close/>
              </a:path>
              <a:path fill="none" w="21600" h="21600">
                <a:moveTo>
                  <a:pt x="9605" y="66"/>
                </a:moveTo>
                <a:arcTo wR="10800" hR="10800" stAng="-5781188" swAng="5554212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380880" y="2752560"/>
            <a:ext cx="5181480" cy="2435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77" y="76"/>
                </a:moveTo>
                <a:arcTo wR="10800" hR="10800" stAng="-4992702" swAng="4992702"/>
                <a:lnTo>
                  <a:pt x="10800" y="10800"/>
                </a:lnTo>
                <a:close/>
              </a:path>
              <a:path fill="none" w="21600" h="21600">
                <a:moveTo>
                  <a:pt x="12077" y="76"/>
                </a:moveTo>
                <a:arcTo wR="10800" hR="10800" stAng="-4992702" swAng="4992702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4876920" y="3124080"/>
            <a:ext cx="5331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4959360" y="3429000"/>
            <a:ext cx="22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5562720" y="3200400"/>
            <a:ext cx="7617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,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5645160" y="3505320"/>
            <a:ext cx="52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4038480" y="1752480"/>
            <a:ext cx="8384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0,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4044960" y="2057400"/>
            <a:ext cx="60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2743200" y="3352680"/>
            <a:ext cx="5335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2825640" y="3657600"/>
            <a:ext cx="22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3581280" y="3200400"/>
            <a:ext cx="7621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,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3664080" y="3505320"/>
            <a:ext cx="52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666360" y="1623960"/>
            <a:ext cx="1565640" cy="100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 Form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s   x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  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768240" y="2286000"/>
            <a:ext cx="67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1606680" y="2286000"/>
            <a:ext cx="37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 - State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D92F3-B44E-4FFF-8E67-3ADBC6D3EC4A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"/>
          <p:cNvSpPr/>
          <p:nvPr/>
        </p:nvSpPr>
        <p:spPr>
          <a:xfrm>
            <a:off x="2908440" y="237492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5575320" y="237492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2908440" y="4051440"/>
            <a:ext cx="431640" cy="4316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499000" y="3898800"/>
            <a:ext cx="432000" cy="4320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2971800" y="2438280"/>
            <a:ext cx="3049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5638680" y="2438280"/>
            <a:ext cx="3049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5562720" y="3962520"/>
            <a:ext cx="3045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2971800" y="4114800"/>
            <a:ext cx="3049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5418000" y="2065320"/>
            <a:ext cx="1218960" cy="60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90" y="17450"/>
                </a:moveTo>
                <a:arcTo wR="10800" hR="10800" stAng="8519635" swAng="18480365"/>
                <a:lnTo>
                  <a:pt x="10800" y="10800"/>
                </a:lnTo>
                <a:close/>
              </a:path>
              <a:path fill="none" w="21600" h="21600">
                <a:moveTo>
                  <a:pt x="2290" y="17450"/>
                </a:moveTo>
                <a:arcTo wR="10800" hR="10800" stAng="8519635" swAng="18480365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 rot="10800000">
            <a:off x="5342400" y="4041720"/>
            <a:ext cx="1218600" cy="60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59" y="21599"/>
                </a:moveTo>
                <a:arcTo wR="10800" hR="10800" stAng="5444995" swAng="18480195"/>
                <a:lnTo>
                  <a:pt x="10800" y="10800"/>
                </a:lnTo>
                <a:close/>
              </a:path>
              <a:path fill="none" w="21600" h="21600">
                <a:moveTo>
                  <a:pt x="10659" y="21599"/>
                </a:moveTo>
                <a:arcTo wR="10800" hR="10800" stAng="5444995" swAng="18480195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 rot="10800000">
            <a:off x="2293920" y="4199040"/>
            <a:ext cx="1218960" cy="60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290" y="17450"/>
                </a:moveTo>
                <a:arcTo wR="10800" hR="10800" stAng="8519635" swAng="18480365"/>
                <a:lnTo>
                  <a:pt x="10800" y="10800"/>
                </a:lnTo>
                <a:close/>
              </a:path>
              <a:path fill="none" w="21600" h="21600">
                <a:moveTo>
                  <a:pt x="2290" y="17450"/>
                </a:moveTo>
                <a:arcTo wR="10800" hR="10800" stAng="8519635" swAng="18480365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1295280" y="4191120"/>
            <a:ext cx="10670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XY)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1454040" y="4495680"/>
            <a:ext cx="52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6629400" y="4038480"/>
            <a:ext cx="6094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Y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6711840" y="4343400"/>
            <a:ext cx="29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6705720" y="1981080"/>
            <a:ext cx="1218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6781680" y="22860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3962520" y="3886200"/>
            <a:ext cx="9144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044960" y="4191120"/>
            <a:ext cx="52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3357720" y="2370240"/>
            <a:ext cx="2248560" cy="608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5"/>
                </a:moveTo>
                <a:arcTo wR="10800" hR="10800" stAng="-10728441" swAng="9501393"/>
                <a:lnTo>
                  <a:pt x="10800" y="10800"/>
                </a:lnTo>
                <a:close/>
              </a:path>
              <a:path fill="none" w="21600" h="21600">
                <a:moveTo>
                  <a:pt x="2" y="10575"/>
                </a:moveTo>
                <a:arcTo wR="10800" hR="10800" stAng="-10728441" swAng="9501393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3351240" y="3817800"/>
            <a:ext cx="224856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5"/>
                </a:moveTo>
                <a:arcTo wR="10800" hR="10800" stAng="-10728441" swAng="9501393"/>
                <a:lnTo>
                  <a:pt x="10800" y="10800"/>
                </a:lnTo>
                <a:close/>
              </a:path>
              <a:path fill="none" w="21600" h="21600">
                <a:moveTo>
                  <a:pt x="2" y="10575"/>
                </a:moveTo>
                <a:arcTo wR="10800" hR="10800" stAng="-10728441" swAng="9501393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3124080" y="2664000"/>
            <a:ext cx="3962160" cy="2764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0"/>
                </a:moveTo>
                <a:arcTo wR="10800" hR="10800" stAng="-10784213" swAng="6195920"/>
                <a:lnTo>
                  <a:pt x="10800" y="10800"/>
                </a:lnTo>
                <a:close/>
              </a:path>
              <a:path fill="none" w="21600" h="21600">
                <a:moveTo>
                  <a:pt x="0" y="10750"/>
                </a:moveTo>
                <a:arcTo wR="10800" hR="10800" stAng="-10784213" swAng="6195920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3276720" y="2751120"/>
            <a:ext cx="424476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0"/>
                </a:moveTo>
                <a:arcTo wR="10800" hR="10800" stAng="-10784084" swAng="5767827"/>
                <a:lnTo>
                  <a:pt x="10800" y="10800"/>
                </a:lnTo>
                <a:close/>
              </a:path>
              <a:path fill="none" w="21600" h="21600">
                <a:moveTo>
                  <a:pt x="0" y="10750"/>
                </a:moveTo>
                <a:arcTo wR="10800" hR="10800" stAng="-10784084" swAng="5767827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1474920" y="2598840"/>
            <a:ext cx="424404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605" y="66"/>
                </a:moveTo>
                <a:arcTo wR="10800" hR="10800" stAng="-5781188" swAng="5554212"/>
                <a:lnTo>
                  <a:pt x="10800" y="10800"/>
                </a:lnTo>
                <a:close/>
              </a:path>
              <a:path fill="none" w="21600" h="21600">
                <a:moveTo>
                  <a:pt x="9605" y="66"/>
                </a:moveTo>
                <a:arcTo wR="10800" hR="10800" stAng="-5781188" swAng="5554212"/>
              </a:path>
            </a:pathLst>
          </a:custGeom>
          <a:noFill/>
          <a:ln cap="rnd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380880" y="2752560"/>
            <a:ext cx="5181480" cy="2435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077" y="76"/>
                </a:moveTo>
                <a:arcTo wR="10800" hR="10800" stAng="-4992702" swAng="4992702"/>
                <a:lnTo>
                  <a:pt x="10800" y="10800"/>
                </a:lnTo>
                <a:close/>
              </a:path>
              <a:path fill="none" w="21600" h="21600">
                <a:moveTo>
                  <a:pt x="12077" y="76"/>
                </a:moveTo>
                <a:arcTo wR="10800" hR="10800" stAng="-4992702" swAng="4992702"/>
              </a:path>
            </a:pathLst>
          </a:custGeom>
          <a:noFill/>
          <a:ln cap="rnd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4876920" y="3124080"/>
            <a:ext cx="5331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4959360" y="3429000"/>
            <a:ext cx="22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5562720" y="3200400"/>
            <a:ext cx="7617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5645160" y="3505320"/>
            <a:ext cx="52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038480" y="1752480"/>
            <a:ext cx="8384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4267080" y="20574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2743200" y="3352680"/>
            <a:ext cx="5335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2825640" y="3657600"/>
            <a:ext cx="22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3581280" y="3200400"/>
            <a:ext cx="76212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3664080" y="3505320"/>
            <a:ext cx="52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304200" y="1066680"/>
            <a:ext cx="2494080" cy="1007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 Form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ition Ex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57200" y="1752480"/>
            <a:ext cx="220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 - State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"/>
          <p:cNvSpPr/>
          <p:nvPr/>
        </p:nvSpPr>
        <p:spPr>
          <a:xfrm>
            <a:off x="370440" y="4843440"/>
            <a:ext cx="7977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each state/input combination there must be exactly one next-state (and output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tual Exclusion: No more than one transition arc from any state can be satisfied 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y input assign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Inclusion:        At least one transition arc must exist from any state for any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ig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FC098-7F64-45C4-818E-8ED2503EDDEF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digital devices have associated propagation delays (min,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devices have setup and hold times that must be satisfied to avoid metastable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ing a synchronous clock simplifies timing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devices produce effects within a well-defined ran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what speeds will a device function?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transition per 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is the maximum clock rat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devices require the following timing document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imum propagation delay (clock to outp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imum propagation delay (clock to outp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up time (input before clo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ld time (input after clo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FCDE4-ECCE-41D3-81C2-0B6ED09F8A01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4LS74 Data Sheet Ti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/>
          </p:nvPr>
        </p:nvSpPr>
        <p:spPr>
          <a:xfrm>
            <a:off x="1293840" y="1523880"/>
            <a:ext cx="64785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met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lse Wid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Clock Hig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8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Preset L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Clear L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0000">
                <a:solidFill>
                  <a:srgbClr val="000000"/>
                </a:solidFill>
                <a:latin typeface="Times New Roman"/>
              </a:rPr>
              <a:t>SU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up Ti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0000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ld Ti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20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 Clock Frequen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0000">
                <a:solidFill>
                  <a:srgbClr val="000000"/>
                </a:solidFill>
                <a:latin typeface="Times New Roman"/>
              </a:rPr>
              <a:t>PL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 Delay, Clock-to-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0000">
                <a:solidFill>
                  <a:srgbClr val="000000"/>
                </a:solidFill>
                <a:latin typeface="Times New Roman"/>
              </a:rPr>
              <a:t>PL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 Delay, Preset-to-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0000">
                <a:solidFill>
                  <a:srgbClr val="000000"/>
                </a:solidFill>
                <a:latin typeface="Times New Roman"/>
              </a:rPr>
              <a:t>PL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 Delay, Clear-to-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8" name=""/>
          <p:cNvGrpSpPr/>
          <p:nvPr/>
        </p:nvGrpSpPr>
        <p:grpSpPr>
          <a:xfrm>
            <a:off x="1220760" y="1525680"/>
            <a:ext cx="6246720" cy="4722840"/>
            <a:chOff x="1220760" y="1525680"/>
            <a:chExt cx="6246720" cy="4722840"/>
          </a:xfrm>
        </p:grpSpPr>
        <p:sp>
          <p:nvSpPr>
            <p:cNvPr id="2589" name=""/>
            <p:cNvSpPr/>
            <p:nvPr/>
          </p:nvSpPr>
          <p:spPr>
            <a:xfrm>
              <a:off x="1225440" y="1530360"/>
              <a:ext cx="6235920" cy="4711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4724280" y="1525680"/>
              <a:ext cx="0" cy="472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1220760" y="1905120"/>
              <a:ext cx="624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5638680" y="1525680"/>
              <a:ext cx="0" cy="472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1220760" y="3352680"/>
              <a:ext cx="624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1220760" y="3733920"/>
              <a:ext cx="624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1220760" y="4114800"/>
              <a:ext cx="624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1220760" y="4419720"/>
              <a:ext cx="624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1220760" y="4800600"/>
              <a:ext cx="624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1220760" y="5181480"/>
              <a:ext cx="624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6553080" y="1525680"/>
              <a:ext cx="0" cy="472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1220760" y="2971800"/>
              <a:ext cx="6246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34958-6CD4-4953-98A9-2889E6FF3356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ed Synchronous State-machine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"/>
          <p:cNvSpPr/>
          <p:nvPr/>
        </p:nvSpPr>
        <p:spPr>
          <a:xfrm>
            <a:off x="1378080" y="2597040"/>
            <a:ext cx="135864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xt-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3968640" y="2597040"/>
            <a:ext cx="135900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6559560" y="2597040"/>
            <a:ext cx="135900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996840" y="2133720"/>
            <a:ext cx="4794480" cy="0"/>
          </a:xfrm>
          <a:prstGeom prst="line">
            <a:avLst/>
          </a:prstGeom>
          <a:ln w="12600">
            <a:solidFill>
              <a:srgbClr val="cbcbc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5791320" y="2139840"/>
            <a:ext cx="0" cy="755640"/>
          </a:xfrm>
          <a:prstGeom prst="line">
            <a:avLst/>
          </a:prstGeom>
          <a:ln w="12600">
            <a:solidFill>
              <a:srgbClr val="cbcbc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5797440" y="2895480"/>
            <a:ext cx="451080" cy="0"/>
          </a:xfrm>
          <a:prstGeom prst="line">
            <a:avLst/>
          </a:prstGeom>
          <a:ln w="12600">
            <a:solidFill>
              <a:srgbClr val="cbcbc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5943600" y="1987560"/>
            <a:ext cx="0" cy="755640"/>
          </a:xfrm>
          <a:prstGeom prst="line">
            <a:avLst/>
          </a:prstGeom>
          <a:ln w="12600">
            <a:solidFill>
              <a:srgbClr val="cbcbc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9" name=""/>
          <p:cNvSpPr/>
          <p:nvPr/>
        </p:nvSpPr>
        <p:spPr>
          <a:xfrm>
            <a:off x="5950080" y="2743200"/>
            <a:ext cx="298440" cy="0"/>
          </a:xfrm>
          <a:prstGeom prst="line">
            <a:avLst/>
          </a:prstGeom>
          <a:ln w="12600">
            <a:solidFill>
              <a:srgbClr val="cbcbc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0" name=""/>
          <p:cNvSpPr/>
          <p:nvPr/>
        </p:nvSpPr>
        <p:spPr>
          <a:xfrm flipH="1">
            <a:off x="844560" y="1981080"/>
            <a:ext cx="5099040" cy="0"/>
          </a:xfrm>
          <a:prstGeom prst="line">
            <a:avLst/>
          </a:prstGeom>
          <a:ln w="12600">
            <a:solidFill>
              <a:srgbClr val="cbcbc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1" name=""/>
          <p:cNvSpPr/>
          <p:nvPr/>
        </p:nvSpPr>
        <p:spPr>
          <a:xfrm>
            <a:off x="838080" y="1987560"/>
            <a:ext cx="0" cy="984240"/>
          </a:xfrm>
          <a:prstGeom prst="line">
            <a:avLst/>
          </a:prstGeom>
          <a:ln w="12600">
            <a:solidFill>
              <a:srgbClr val="cbcbc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2" name=""/>
          <p:cNvSpPr/>
          <p:nvPr/>
        </p:nvSpPr>
        <p:spPr>
          <a:xfrm flipH="1">
            <a:off x="615600" y="2971800"/>
            <a:ext cx="374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3" name=""/>
          <p:cNvSpPr/>
          <p:nvPr/>
        </p:nvSpPr>
        <p:spPr>
          <a:xfrm>
            <a:off x="990720" y="2139840"/>
            <a:ext cx="0" cy="831960"/>
          </a:xfrm>
          <a:prstGeom prst="line">
            <a:avLst/>
          </a:prstGeom>
          <a:ln w="12600">
            <a:solidFill>
              <a:srgbClr val="cbcbc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4" name=""/>
          <p:cNvSpPr/>
          <p:nvPr/>
        </p:nvSpPr>
        <p:spPr>
          <a:xfrm>
            <a:off x="615960" y="3124080"/>
            <a:ext cx="45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5" name=""/>
          <p:cNvSpPr/>
          <p:nvPr/>
        </p:nvSpPr>
        <p:spPr>
          <a:xfrm>
            <a:off x="996840" y="2971800"/>
            <a:ext cx="6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6" name=""/>
          <p:cNvSpPr/>
          <p:nvPr/>
        </p:nvSpPr>
        <p:spPr>
          <a:xfrm flipH="1">
            <a:off x="615960" y="3733920"/>
            <a:ext cx="45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7" name=""/>
          <p:cNvSpPr/>
          <p:nvPr/>
        </p:nvSpPr>
        <p:spPr>
          <a:xfrm>
            <a:off x="609480" y="3740040"/>
            <a:ext cx="0" cy="151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8" name=""/>
          <p:cNvSpPr/>
          <p:nvPr/>
        </p:nvSpPr>
        <p:spPr>
          <a:xfrm flipV="1">
            <a:off x="762120" y="3889080"/>
            <a:ext cx="0" cy="1212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9" name=""/>
          <p:cNvSpPr/>
          <p:nvPr/>
        </p:nvSpPr>
        <p:spPr>
          <a:xfrm>
            <a:off x="768240" y="3886200"/>
            <a:ext cx="29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0" name=""/>
          <p:cNvSpPr/>
          <p:nvPr/>
        </p:nvSpPr>
        <p:spPr>
          <a:xfrm>
            <a:off x="2749680" y="3352680"/>
            <a:ext cx="90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1" name=""/>
          <p:cNvSpPr/>
          <p:nvPr/>
        </p:nvSpPr>
        <p:spPr>
          <a:xfrm>
            <a:off x="5340240" y="3352680"/>
            <a:ext cx="908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2" name=""/>
          <p:cNvSpPr/>
          <p:nvPr/>
        </p:nvSpPr>
        <p:spPr>
          <a:xfrm>
            <a:off x="7931160" y="3352680"/>
            <a:ext cx="75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3" name=""/>
          <p:cNvSpPr/>
          <p:nvPr/>
        </p:nvSpPr>
        <p:spPr>
          <a:xfrm>
            <a:off x="2749680" y="3505320"/>
            <a:ext cx="90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4" name=""/>
          <p:cNvSpPr/>
          <p:nvPr/>
        </p:nvSpPr>
        <p:spPr>
          <a:xfrm>
            <a:off x="5340240" y="3505320"/>
            <a:ext cx="451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5" name=""/>
          <p:cNvSpPr/>
          <p:nvPr/>
        </p:nvSpPr>
        <p:spPr>
          <a:xfrm>
            <a:off x="5950080" y="3505320"/>
            <a:ext cx="29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6" name=""/>
          <p:cNvSpPr/>
          <p:nvPr/>
        </p:nvSpPr>
        <p:spPr>
          <a:xfrm>
            <a:off x="7931160" y="3505320"/>
            <a:ext cx="75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7" name=""/>
          <p:cNvSpPr/>
          <p:nvPr/>
        </p:nvSpPr>
        <p:spPr>
          <a:xfrm>
            <a:off x="768240" y="5105520"/>
            <a:ext cx="502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"/>
          <p:cNvSpPr/>
          <p:nvPr/>
        </p:nvSpPr>
        <p:spPr>
          <a:xfrm>
            <a:off x="615960" y="5257800"/>
            <a:ext cx="532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9" name=""/>
          <p:cNvSpPr/>
          <p:nvPr/>
        </p:nvSpPr>
        <p:spPr>
          <a:xfrm flipV="1">
            <a:off x="5791320" y="3508200"/>
            <a:ext cx="0" cy="1594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 flipV="1">
            <a:off x="5943600" y="3507840"/>
            <a:ext cx="0" cy="174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3581280" y="4191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 flipH="1">
            <a:off x="456840" y="4648320"/>
            <a:ext cx="311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3" name=""/>
          <p:cNvSpPr/>
          <p:nvPr/>
        </p:nvSpPr>
        <p:spPr>
          <a:xfrm>
            <a:off x="8686800" y="3276720"/>
            <a:ext cx="230040" cy="306360"/>
          </a:xfrm>
          <a:custGeom>
            <a:avLst/>
            <a:gdLst/>
            <a:ahLst/>
            <a:rect l="l" t="t" r="r" b="b"/>
            <a:pathLst>
              <a:path w="145" h="193">
                <a:moveTo>
                  <a:pt x="0" y="192"/>
                </a:moveTo>
                <a:lnTo>
                  <a:pt x="144" y="9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4" name=""/>
          <p:cNvSpPr/>
          <p:nvPr/>
        </p:nvSpPr>
        <p:spPr>
          <a:xfrm>
            <a:off x="6248520" y="2666880"/>
            <a:ext cx="230040" cy="306360"/>
          </a:xfrm>
          <a:custGeom>
            <a:avLst/>
            <a:gdLst/>
            <a:ahLst/>
            <a:rect l="l" t="t" r="r" b="b"/>
            <a:pathLst>
              <a:path w="145" h="193">
                <a:moveTo>
                  <a:pt x="0" y="192"/>
                </a:moveTo>
                <a:lnTo>
                  <a:pt x="144" y="9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cbcbc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5" name=""/>
          <p:cNvSpPr/>
          <p:nvPr/>
        </p:nvSpPr>
        <p:spPr>
          <a:xfrm flipV="1">
            <a:off x="8686800" y="3507840"/>
            <a:ext cx="0" cy="7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"/>
          <p:cNvSpPr/>
          <p:nvPr/>
        </p:nvSpPr>
        <p:spPr>
          <a:xfrm>
            <a:off x="8686800" y="328284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7" name=""/>
          <p:cNvSpPr/>
          <p:nvPr/>
        </p:nvSpPr>
        <p:spPr>
          <a:xfrm>
            <a:off x="1066680" y="3657600"/>
            <a:ext cx="230400" cy="306360"/>
          </a:xfrm>
          <a:custGeom>
            <a:avLst/>
            <a:gdLst/>
            <a:ahLst/>
            <a:rect l="l" t="t" r="r" b="b"/>
            <a:pathLst>
              <a:path w="145" h="193">
                <a:moveTo>
                  <a:pt x="0" y="192"/>
                </a:moveTo>
                <a:lnTo>
                  <a:pt x="144" y="9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8" name=""/>
          <p:cNvSpPr/>
          <p:nvPr/>
        </p:nvSpPr>
        <p:spPr>
          <a:xfrm>
            <a:off x="1068480" y="2895480"/>
            <a:ext cx="230040" cy="306360"/>
          </a:xfrm>
          <a:custGeom>
            <a:avLst/>
            <a:gdLst/>
            <a:ahLst/>
            <a:rect l="l" t="t" r="r" b="b"/>
            <a:pathLst>
              <a:path w="145" h="193">
                <a:moveTo>
                  <a:pt x="0" y="192"/>
                </a:moveTo>
                <a:lnTo>
                  <a:pt x="144" y="9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9" name=""/>
          <p:cNvSpPr/>
          <p:nvPr/>
        </p:nvSpPr>
        <p:spPr>
          <a:xfrm>
            <a:off x="3659040" y="3276720"/>
            <a:ext cx="230400" cy="306360"/>
          </a:xfrm>
          <a:custGeom>
            <a:avLst/>
            <a:gdLst/>
            <a:ahLst/>
            <a:rect l="l" t="t" r="r" b="b"/>
            <a:pathLst>
              <a:path w="145" h="193">
                <a:moveTo>
                  <a:pt x="0" y="192"/>
                </a:moveTo>
                <a:lnTo>
                  <a:pt x="144" y="9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0" name=""/>
          <p:cNvSpPr/>
          <p:nvPr/>
        </p:nvSpPr>
        <p:spPr>
          <a:xfrm>
            <a:off x="6249960" y="3276720"/>
            <a:ext cx="230040" cy="306360"/>
          </a:xfrm>
          <a:custGeom>
            <a:avLst/>
            <a:gdLst/>
            <a:ahLst/>
            <a:rect l="l" t="t" r="r" b="b"/>
            <a:pathLst>
              <a:path w="145" h="193">
                <a:moveTo>
                  <a:pt x="0" y="192"/>
                </a:moveTo>
                <a:lnTo>
                  <a:pt x="144" y="9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1" name=""/>
          <p:cNvSpPr/>
          <p:nvPr/>
        </p:nvSpPr>
        <p:spPr>
          <a:xfrm>
            <a:off x="1066680" y="290196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2" name=""/>
          <p:cNvSpPr/>
          <p:nvPr/>
        </p:nvSpPr>
        <p:spPr>
          <a:xfrm>
            <a:off x="1066680" y="313056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3" name=""/>
          <p:cNvSpPr/>
          <p:nvPr/>
        </p:nvSpPr>
        <p:spPr>
          <a:xfrm>
            <a:off x="1066680" y="366408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4" name=""/>
          <p:cNvSpPr/>
          <p:nvPr/>
        </p:nvSpPr>
        <p:spPr>
          <a:xfrm>
            <a:off x="1066680" y="389268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5" name=""/>
          <p:cNvSpPr/>
          <p:nvPr/>
        </p:nvSpPr>
        <p:spPr>
          <a:xfrm>
            <a:off x="3657600" y="328284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6" name=""/>
          <p:cNvSpPr/>
          <p:nvPr/>
        </p:nvSpPr>
        <p:spPr>
          <a:xfrm>
            <a:off x="3657600" y="351144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7" name=""/>
          <p:cNvSpPr/>
          <p:nvPr/>
        </p:nvSpPr>
        <p:spPr>
          <a:xfrm>
            <a:off x="6248520" y="2673360"/>
            <a:ext cx="0" cy="69840"/>
          </a:xfrm>
          <a:prstGeom prst="line">
            <a:avLst/>
          </a:prstGeom>
          <a:ln w="12600">
            <a:solidFill>
              <a:srgbClr val="cbcbc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8" name=""/>
          <p:cNvSpPr/>
          <p:nvPr/>
        </p:nvSpPr>
        <p:spPr>
          <a:xfrm>
            <a:off x="6248520" y="2901960"/>
            <a:ext cx="0" cy="69840"/>
          </a:xfrm>
          <a:prstGeom prst="line">
            <a:avLst/>
          </a:prstGeom>
          <a:ln w="12600">
            <a:solidFill>
              <a:srgbClr val="cbcbcb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9" name=""/>
          <p:cNvSpPr/>
          <p:nvPr/>
        </p:nvSpPr>
        <p:spPr>
          <a:xfrm>
            <a:off x="6248520" y="328284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0" name=""/>
          <p:cNvSpPr/>
          <p:nvPr/>
        </p:nvSpPr>
        <p:spPr>
          <a:xfrm>
            <a:off x="6248520" y="3511440"/>
            <a:ext cx="0" cy="6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1" name=""/>
          <p:cNvSpPr/>
          <p:nvPr/>
        </p:nvSpPr>
        <p:spPr>
          <a:xfrm>
            <a:off x="2800800" y="3070080"/>
            <a:ext cx="941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Arial"/>
              </a:rPr>
              <a:t>exci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2" name=""/>
          <p:cNvSpPr/>
          <p:nvPr/>
        </p:nvSpPr>
        <p:spPr>
          <a:xfrm>
            <a:off x="0" y="2917800"/>
            <a:ext cx="6588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Arial"/>
              </a:rPr>
              <a:t>in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3" name=""/>
          <p:cNvSpPr/>
          <p:nvPr/>
        </p:nvSpPr>
        <p:spPr>
          <a:xfrm>
            <a:off x="-2160" y="4572000"/>
            <a:ext cx="5936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Arial"/>
              </a:rPr>
              <a:t>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4" name=""/>
          <p:cNvSpPr/>
          <p:nvPr/>
        </p:nvSpPr>
        <p:spPr>
          <a:xfrm>
            <a:off x="5314680" y="3070080"/>
            <a:ext cx="118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Arial"/>
              </a:rPr>
              <a:t>current s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5" name=""/>
          <p:cNvSpPr/>
          <p:nvPr/>
        </p:nvSpPr>
        <p:spPr>
          <a:xfrm>
            <a:off x="7982640" y="3070080"/>
            <a:ext cx="7718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Arial"/>
              </a:rPr>
              <a:t>out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6" name=""/>
          <p:cNvSpPr/>
          <p:nvPr/>
        </p:nvSpPr>
        <p:spPr>
          <a:xfrm>
            <a:off x="3486600" y="1554120"/>
            <a:ext cx="1931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bcbcb"/>
                </a:solidFill>
                <a:latin typeface="Times New Roman"/>
              </a:rPr>
              <a:t>(Mealy machin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7" name=""/>
          <p:cNvSpPr/>
          <p:nvPr/>
        </p:nvSpPr>
        <p:spPr>
          <a:xfrm>
            <a:off x="1371960" y="5791320"/>
            <a:ext cx="137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, t_pd(ma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, t_pd(m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8" name=""/>
          <p:cNvSpPr/>
          <p:nvPr/>
        </p:nvSpPr>
        <p:spPr>
          <a:xfrm>
            <a:off x="6477480" y="571500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, t_pd(ma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, t_pd(m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9" name=""/>
          <p:cNvSpPr/>
          <p:nvPr/>
        </p:nvSpPr>
        <p:spPr>
          <a:xfrm flipH="1">
            <a:off x="3580920" y="4191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3886200" y="533412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, t_pd(ma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, t_pd(m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, setup(ma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, hold(ma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59400" y="550080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cul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D0F76-A90D-415E-B05E-2E187B169510}" type="slidenum">
              <a:t>7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"/>
          <p:cNvSpPr/>
          <p:nvPr/>
        </p:nvSpPr>
        <p:spPr>
          <a:xfrm flipV="1">
            <a:off x="1703520" y="2171880"/>
            <a:ext cx="40644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 flipV="1">
            <a:off x="2109960" y="1828440"/>
            <a:ext cx="25236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2362320" y="1828800"/>
            <a:ext cx="1131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 flipH="1" flipV="1">
            <a:off x="3493800" y="1828440"/>
            <a:ext cx="23004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3726000" y="2171880"/>
            <a:ext cx="100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4624560" y="2171880"/>
            <a:ext cx="1006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 flipV="1">
            <a:off x="5630760" y="1828440"/>
            <a:ext cx="250920" cy="34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5881680" y="1828800"/>
            <a:ext cx="998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1711440" y="3111480"/>
            <a:ext cx="977760" cy="17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1724040" y="2819520"/>
            <a:ext cx="94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2819520" y="3124080"/>
            <a:ext cx="25286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2819520" y="28195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763920" y="190512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533520" y="2666880"/>
            <a:ext cx="112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ip-fl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2209680" y="1752480"/>
            <a:ext cx="0" cy="34290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2743200" y="274320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2751120" y="2133720"/>
            <a:ext cx="34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4503600" y="2133720"/>
            <a:ext cx="325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3581280" y="175248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4572000" y="358128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3823560" y="2362320"/>
            <a:ext cx="407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2226960" y="3124080"/>
            <a:ext cx="46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ffp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5334120" y="3124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5334120" y="28195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6324480" y="3124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6324480" y="28195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2666880" y="2819520"/>
            <a:ext cx="15264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 flipV="1">
            <a:off x="2666880" y="2819520"/>
            <a:ext cx="15264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6172200" y="2819520"/>
            <a:ext cx="1522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 flipV="1">
            <a:off x="6172200" y="2819520"/>
            <a:ext cx="1522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2209680" y="2819520"/>
            <a:ext cx="15264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 flipV="1">
            <a:off x="2209680" y="2819520"/>
            <a:ext cx="15264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2362320" y="2819520"/>
            <a:ext cx="1522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 flipV="1">
            <a:off x="2362320" y="2819520"/>
            <a:ext cx="1522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2514600" y="2819520"/>
            <a:ext cx="1522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 flipV="1">
            <a:off x="2514600" y="2819520"/>
            <a:ext cx="1522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6019920" y="2819520"/>
            <a:ext cx="1522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 flipV="1">
            <a:off x="6019920" y="2819520"/>
            <a:ext cx="1522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5867280" y="2819520"/>
            <a:ext cx="15264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 flipV="1">
            <a:off x="5867280" y="2819520"/>
            <a:ext cx="15264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5715000" y="2819520"/>
            <a:ext cx="1522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 flipV="1">
            <a:off x="5715000" y="2819520"/>
            <a:ext cx="1522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1711440" y="3962520"/>
            <a:ext cx="278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1711440" y="3657600"/>
            <a:ext cx="2784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4648320" y="3962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4648320" y="3657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5334120" y="39625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5334120" y="36576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6172200" y="39625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6172200" y="36576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2666880" y="3657600"/>
            <a:ext cx="1526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 flipV="1">
            <a:off x="2666880" y="3657240"/>
            <a:ext cx="1526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6172200" y="365760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 flipV="1">
            <a:off x="6172200" y="365724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2209680" y="3657600"/>
            <a:ext cx="1526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 flipV="1">
            <a:off x="2209680" y="3657240"/>
            <a:ext cx="1526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2362320" y="365760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 flipV="1">
            <a:off x="2362320" y="365724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2514600" y="365760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 flipV="1">
            <a:off x="2514600" y="365724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6019920" y="365760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 flipV="1">
            <a:off x="6019920" y="365724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5867280" y="3657600"/>
            <a:ext cx="1526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 flipV="1">
            <a:off x="5867280" y="3657240"/>
            <a:ext cx="1526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5715000" y="365760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 flipV="1">
            <a:off x="5715000" y="365724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1739880" y="4952880"/>
            <a:ext cx="81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1752480" y="4648320"/>
            <a:ext cx="80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2708280" y="495288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2708280" y="4648320"/>
            <a:ext cx="2585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6043680" y="4952880"/>
            <a:ext cx="31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 flipV="1">
            <a:off x="6045120" y="4646160"/>
            <a:ext cx="327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6365880" y="49528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6365880" y="46483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2708280" y="4648320"/>
            <a:ext cx="1522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 flipV="1">
            <a:off x="2708280" y="4648320"/>
            <a:ext cx="1522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6213600" y="4648320"/>
            <a:ext cx="1522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 flipV="1">
            <a:off x="6213600" y="4648320"/>
            <a:ext cx="1522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2556000" y="4648320"/>
            <a:ext cx="1522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 flipV="1">
            <a:off x="2556000" y="4648320"/>
            <a:ext cx="1522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6060960" y="4648320"/>
            <a:ext cx="15264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 flipV="1">
            <a:off x="6060960" y="4648320"/>
            <a:ext cx="15264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5908680" y="4648320"/>
            <a:ext cx="1522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 flipV="1">
            <a:off x="5908680" y="4648320"/>
            <a:ext cx="1522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4495680" y="3657600"/>
            <a:ext cx="1526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 flipV="1">
            <a:off x="4495680" y="3657240"/>
            <a:ext cx="1526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4343400" y="365760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 flipV="1">
            <a:off x="4343400" y="365724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4191120" y="365760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 flipV="1">
            <a:off x="4191120" y="365724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4038480" y="3657600"/>
            <a:ext cx="1526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 flipV="1">
            <a:off x="4038480" y="3657240"/>
            <a:ext cx="1526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2819520" y="365760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 flipV="1">
            <a:off x="2819520" y="365724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2971800" y="365760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 flipV="1">
            <a:off x="2971800" y="365724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3124080" y="3657600"/>
            <a:ext cx="1526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 flipV="1">
            <a:off x="3124080" y="3657240"/>
            <a:ext cx="1526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3276720" y="365760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 flipV="1">
            <a:off x="3276720" y="365724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3429000" y="365760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 flipV="1">
            <a:off x="3429000" y="365724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3581280" y="3657600"/>
            <a:ext cx="1526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 flipV="1">
            <a:off x="3581280" y="3657240"/>
            <a:ext cx="1526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3733920" y="365760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 flipV="1">
            <a:off x="3733920" y="365724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3886200" y="365760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 flipV="1">
            <a:off x="3886200" y="365724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3317760" y="4648320"/>
            <a:ext cx="15264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 flipV="1">
            <a:off x="3317760" y="4648320"/>
            <a:ext cx="15264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2860560" y="4648320"/>
            <a:ext cx="15264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 flipV="1">
            <a:off x="2860560" y="4648320"/>
            <a:ext cx="15264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3013200" y="4648320"/>
            <a:ext cx="1522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 flipV="1">
            <a:off x="3013200" y="4648320"/>
            <a:ext cx="1522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3165480" y="4648320"/>
            <a:ext cx="1522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 flipV="1">
            <a:off x="3165480" y="4648320"/>
            <a:ext cx="1522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5146560" y="4648320"/>
            <a:ext cx="15264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 flipV="1">
            <a:off x="5146560" y="4648320"/>
            <a:ext cx="15264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4994280" y="4648320"/>
            <a:ext cx="1522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 flipV="1">
            <a:off x="4994280" y="4648320"/>
            <a:ext cx="1522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4842000" y="4648320"/>
            <a:ext cx="1522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 flipV="1">
            <a:off x="4842000" y="4648320"/>
            <a:ext cx="1522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4689360" y="4648320"/>
            <a:ext cx="15264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 flipV="1">
            <a:off x="4689360" y="4648320"/>
            <a:ext cx="15264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3470400" y="4648320"/>
            <a:ext cx="1522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 flipV="1">
            <a:off x="3470400" y="4648320"/>
            <a:ext cx="1522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3622680" y="4648320"/>
            <a:ext cx="1522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 flipV="1">
            <a:off x="3622680" y="4648320"/>
            <a:ext cx="1522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3774960" y="4648320"/>
            <a:ext cx="15264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 flipV="1">
            <a:off x="3774960" y="4648320"/>
            <a:ext cx="15264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3927600" y="4648320"/>
            <a:ext cx="1522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 flipV="1">
            <a:off x="3927600" y="4648320"/>
            <a:ext cx="1522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4079880" y="4648320"/>
            <a:ext cx="1522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 flipV="1">
            <a:off x="4079880" y="4648320"/>
            <a:ext cx="1522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4232160" y="4648320"/>
            <a:ext cx="15264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 flipV="1">
            <a:off x="4232160" y="4648320"/>
            <a:ext cx="15264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4384800" y="4648320"/>
            <a:ext cx="1522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 flipV="1">
            <a:off x="4384800" y="4648320"/>
            <a:ext cx="1522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4537080" y="4648320"/>
            <a:ext cx="1522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 flipV="1">
            <a:off x="4537080" y="4648320"/>
            <a:ext cx="1522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5299200" y="4648320"/>
            <a:ext cx="1522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 flipV="1">
            <a:off x="5299200" y="4648320"/>
            <a:ext cx="15228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151920" y="3505320"/>
            <a:ext cx="149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727920" y="4495680"/>
            <a:ext cx="94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ip-fl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5740560" y="1676520"/>
            <a:ext cx="0" cy="3665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547380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5456160" y="4935600"/>
            <a:ext cx="46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3200400" y="2362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 flipH="1">
            <a:off x="2209320" y="2362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 flipH="1">
            <a:off x="3657600" y="2362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4800600" y="23623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4267080" y="25909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 flipH="1">
            <a:off x="2285640" y="25909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1828800" y="3352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 flipH="1">
            <a:off x="2819520" y="33526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3375360" y="4038480"/>
            <a:ext cx="54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com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2971440" y="53341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up-time marg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5203080" y="5638680"/>
            <a:ext cx="52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et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5809680" y="5638680"/>
            <a:ext cx="482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h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 flipH="1">
            <a:off x="2819160" y="42670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3886200" y="42670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5376960" y="4494240"/>
            <a:ext cx="3240" cy="874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6000840" y="4497480"/>
            <a:ext cx="3240" cy="874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5410080" y="52578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5791320" y="52578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4648320" y="5105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4952880" y="5105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4800600" y="55627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5562720" y="5257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5867280" y="5257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D5378-31EA-4711-9C9F-D1692E4CC535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ing Sequential Device Timing Spe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the dela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lock edg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worst-case primary out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_pd(min) = R,t_pd(min) + G,t_pd(mi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_pd(max) = R,t_pd(max) + G,t_pd(ma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the worst-case setup time for any in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_setup = F,t_pd(max) + R,setup(ma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the worst-case hold time for any inp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_hold = R,hold(max) - F,t_pd(m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ate the maximum clock rate by finding the minimum perio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. period = R,t_pd(max) + F,t_pd(max) + R,setup(ma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certain that the device work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,t_pd(min) + F,t_pd(min) &gt; R,hold(ma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B3C19-90C0-42B9-B616-20DE52F58524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"/>
          <p:cNvSpPr/>
          <p:nvPr/>
        </p:nvSpPr>
        <p:spPr>
          <a:xfrm>
            <a:off x="609480" y="3733920"/>
            <a:ext cx="7925040" cy="34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pd,com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2 ns (min) to 20 ns (max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pd,f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3 ns (min) to 15 ns (m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et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5 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ho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 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up/Hold Tim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et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20 + 5; 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hol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4 - 2 = 2 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 Frequency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imes New Roman"/>
              </a:rPr>
              <a:t>clk,m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gt;= 15 + 20 + 5 = 40 n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000" spc="-1" strike="noStrike" baseline="-10000">
                <a:solidFill>
                  <a:srgbClr val="000000"/>
                </a:solidFill>
                <a:latin typeface="Times New Roman"/>
              </a:rPr>
              <a:t>ma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= 25 MHz      (40ns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25 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up margin @ 10 MHz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 - 40 = 60 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ld Margin?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3 + 2) - 5 = 0 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6" name=""/>
          <p:cNvGrpSpPr/>
          <p:nvPr/>
        </p:nvGrpSpPr>
        <p:grpSpPr>
          <a:xfrm>
            <a:off x="685800" y="1600200"/>
            <a:ext cx="7391520" cy="1845360"/>
            <a:chOff x="685800" y="1600200"/>
            <a:chExt cx="7391520" cy="1845360"/>
          </a:xfrm>
        </p:grpSpPr>
        <p:sp>
          <p:nvSpPr>
            <p:cNvPr id="2837" name=""/>
            <p:cNvSpPr/>
            <p:nvPr/>
          </p:nvSpPr>
          <p:spPr>
            <a:xfrm>
              <a:off x="1987560" y="2368440"/>
              <a:ext cx="1816200" cy="97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2041560" y="2362320"/>
              <a:ext cx="1844640" cy="86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mbinatio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logi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3811680" y="312408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1449360" y="2438280"/>
              <a:ext cx="53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654440" y="2368440"/>
              <a:ext cx="1816200" cy="97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708440" y="2362320"/>
              <a:ext cx="1844640" cy="86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vi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3811680" y="289548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3811680" y="266688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6478560" y="259092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6478560" y="289548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6478560" y="3200400"/>
              <a:ext cx="836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 flipV="1">
              <a:off x="6705720" y="2058840"/>
              <a:ext cx="0" cy="53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2516040" y="2057400"/>
              <a:ext cx="418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 flipV="1">
              <a:off x="2514600" y="2058480"/>
              <a:ext cx="0" cy="30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 flipV="1">
              <a:off x="6858000" y="1829880"/>
              <a:ext cx="0" cy="1065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2820960" y="1828800"/>
              <a:ext cx="403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 flipV="1">
              <a:off x="2819520" y="1830240"/>
              <a:ext cx="0" cy="53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 flipV="1">
              <a:off x="3124080" y="1601280"/>
              <a:ext cx="0" cy="760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3125880" y="1600200"/>
              <a:ext cx="3884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 flipV="1">
              <a:off x="7010280" y="1601280"/>
              <a:ext cx="0" cy="159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7315200" y="243828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7315200" y="274320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7315200" y="304812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1449360" y="2819520"/>
              <a:ext cx="53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685800" y="220968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685800" y="2590920"/>
              <a:ext cx="762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n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chronous System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E973B-1294-4E7D-B825-E2F06ACF1D37}" type="slidenum">
              <a:t>79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-to-Bubble Logic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rpose : To make it easy to understand the function of the Logic circui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870520" y="3051000"/>
            <a:ext cx="76176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5" y="0"/>
                </a:moveTo>
                <a:arcTo wR="10800" hR="10800" stAng="-5414323" swAng="5414323"/>
                <a:lnTo>
                  <a:pt x="10800" y="10800"/>
                </a:lnTo>
                <a:close/>
              </a:path>
              <a:path fill="none" w="21600" h="21600">
                <a:moveTo>
                  <a:pt x="10755" y="0"/>
                </a:moveTo>
                <a:arcTo wR="10800" hR="10800" stAng="-5414323" swAng="5414323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867640" y="3048120"/>
            <a:ext cx="7614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095880" y="3051000"/>
            <a:ext cx="30456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88" y="1"/>
                </a:moveTo>
                <a:arcTo wR="10800" hR="10800" stAng="-5435809" swAng="5327284"/>
                <a:lnTo>
                  <a:pt x="10800" y="10800"/>
                </a:lnTo>
                <a:close/>
              </a:path>
              <a:path fill="none" w="21600" h="21600">
                <a:moveTo>
                  <a:pt x="10688" y="1"/>
                </a:moveTo>
                <a:arcTo wR="10800" hR="10800" stAng="-5435809" swAng="5327284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96240" y="3048120"/>
            <a:ext cx="3042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5792760" y="3124080"/>
            <a:ext cx="37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5792760" y="3429000"/>
            <a:ext cx="37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6630840" y="3276720"/>
            <a:ext cx="4557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84800" y="3060720"/>
            <a:ext cx="127080" cy="127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184800" y="3365640"/>
            <a:ext cx="127080" cy="126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0280" y="3124080"/>
            <a:ext cx="762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2971800"/>
            <a:ext cx="1067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 F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276720"/>
            <a:ext cx="1524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 OVER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429000" y="3124080"/>
            <a:ext cx="762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666880" y="3049560"/>
            <a:ext cx="0" cy="455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289600" y="3051000"/>
            <a:ext cx="761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5" y="0"/>
                </a:moveTo>
                <a:arcTo wR="10800" hR="10800" stAng="-5414323" swAng="5414323"/>
                <a:lnTo>
                  <a:pt x="10800" y="10800"/>
                </a:lnTo>
                <a:close/>
              </a:path>
              <a:path fill="none" w="21600" h="21600">
                <a:moveTo>
                  <a:pt x="10755" y="0"/>
                </a:moveTo>
                <a:arcTo wR="10800" hR="10800" stAng="-5414323" swAng="5414323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5640" y="3048120"/>
            <a:ext cx="76212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2287440" y="3124080"/>
            <a:ext cx="37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2287440" y="3429000"/>
            <a:ext cx="379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3201480" y="3276720"/>
            <a:ext cx="227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60720" y="3213000"/>
            <a:ext cx="127080" cy="127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2209680" y="3962520"/>
          <a:ext cx="1067040" cy="231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962520"/>
                    <a:ext cx="1067040" cy="23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"/>
          <p:cNvSpPr/>
          <p:nvPr/>
        </p:nvSpPr>
        <p:spPr>
          <a:xfrm>
            <a:off x="1676520" y="2971800"/>
            <a:ext cx="10666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 F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3276720"/>
            <a:ext cx="15238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 OVER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5867280" y="3733920"/>
          <a:ext cx="914400" cy="25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3733920"/>
                    <a:ext cx="91440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4268880" y="3052800"/>
                <a:ext cx="315720" cy="2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º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E92AC-5B45-4D3C-986E-19E8F07AB85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gital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925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og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inuous signal lev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small, smooth level 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rete signal levels (voltage usuall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wo levels: on/off, high/low 1/0 (bina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joint or quantized level chan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96969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Concepts and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gital Design also called Logic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ic Gates - the most basic digital devic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gital devices have analog electronic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51"/>
              </a:spcBef>
              <a:buClr>
                <a:srgbClr val="cbcbcb"/>
              </a:buClr>
              <a:buSzPct val="62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ercise: list some of these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5637960" y="2971800"/>
            <a:ext cx="2617560" cy="1387800"/>
            <a:chOff x="5637960" y="2971800"/>
            <a:chExt cx="2617560" cy="1387800"/>
          </a:xfrm>
        </p:grpSpPr>
        <p:sp>
          <p:nvSpPr>
            <p:cNvPr id="381" name=""/>
            <p:cNvSpPr/>
            <p:nvPr/>
          </p:nvSpPr>
          <p:spPr>
            <a:xfrm>
              <a:off x="5807160" y="4160880"/>
              <a:ext cx="2209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5959440" y="3703680"/>
              <a:ext cx="1600200" cy="457200"/>
              <a:chOff x="5959440" y="3703680"/>
              <a:chExt cx="1600200" cy="457200"/>
            </a:xfrm>
          </p:grpSpPr>
          <p:sp>
            <p:nvSpPr>
              <p:cNvPr id="383" name=""/>
              <p:cNvSpPr/>
              <p:nvPr/>
            </p:nvSpPr>
            <p:spPr>
              <a:xfrm>
                <a:off x="5959440" y="3703680"/>
                <a:ext cx="0" cy="457200"/>
              </a:xfrm>
              <a:prstGeom prst="line">
                <a:avLst/>
              </a:prstGeom>
              <a:ln w="255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340320" y="3703680"/>
                <a:ext cx="0" cy="457200"/>
              </a:xfrm>
              <a:prstGeom prst="line">
                <a:avLst/>
              </a:prstGeom>
              <a:ln w="255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959440" y="3703680"/>
                <a:ext cx="380880" cy="0"/>
              </a:xfrm>
              <a:prstGeom prst="line">
                <a:avLst/>
              </a:prstGeom>
              <a:ln w="255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873840" y="3703680"/>
                <a:ext cx="0" cy="457200"/>
              </a:xfrm>
              <a:prstGeom prst="line">
                <a:avLst/>
              </a:prstGeom>
              <a:ln w="255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559640" y="3703680"/>
                <a:ext cx="0" cy="457200"/>
              </a:xfrm>
              <a:prstGeom prst="line">
                <a:avLst/>
              </a:prstGeom>
              <a:ln w="255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873840" y="3703680"/>
                <a:ext cx="685800" cy="0"/>
              </a:xfrm>
              <a:prstGeom prst="line">
                <a:avLst/>
              </a:prstGeom>
              <a:ln w="255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340320" y="4160880"/>
                <a:ext cx="533520" cy="0"/>
              </a:xfrm>
              <a:prstGeom prst="line">
                <a:avLst/>
              </a:prstGeom>
              <a:ln w="255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"/>
            <p:cNvSpPr/>
            <p:nvPr/>
          </p:nvSpPr>
          <p:spPr>
            <a:xfrm>
              <a:off x="8000280" y="3962160"/>
              <a:ext cx="2552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637960" y="29718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5807160" y="3322080"/>
              <a:ext cx="0" cy="83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637960" y="1371600"/>
            <a:ext cx="2601720" cy="1342080"/>
            <a:chOff x="5637960" y="1371600"/>
            <a:chExt cx="2601720" cy="1342080"/>
          </a:xfrm>
        </p:grpSpPr>
        <p:sp>
          <p:nvSpPr>
            <p:cNvPr id="394" name=""/>
            <p:cNvSpPr/>
            <p:nvPr/>
          </p:nvSpPr>
          <p:spPr>
            <a:xfrm>
              <a:off x="5637960" y="1371600"/>
              <a:ext cx="313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5791320" y="1676520"/>
              <a:ext cx="2448360" cy="1037160"/>
              <a:chOff x="5791320" y="1676520"/>
              <a:chExt cx="2448360" cy="1037160"/>
            </a:xfrm>
          </p:grpSpPr>
          <p:sp>
            <p:nvSpPr>
              <p:cNvPr id="396" name=""/>
              <p:cNvSpPr/>
              <p:nvPr/>
            </p:nvSpPr>
            <p:spPr>
              <a:xfrm>
                <a:off x="5791320" y="2514600"/>
                <a:ext cx="22096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984440" y="2316240"/>
                <a:ext cx="2552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5791320" y="167652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999040" y="1847880"/>
                <a:ext cx="1698840" cy="668160"/>
              </a:xfrm>
              <a:custGeom>
                <a:avLst/>
                <a:gdLst/>
                <a:ahLst/>
                <a:rect l="l" t="t" r="r" b="b"/>
                <a:pathLst>
                  <a:path w="1070" h="421">
                    <a:moveTo>
                      <a:pt x="13" y="420"/>
                    </a:moveTo>
                    <a:lnTo>
                      <a:pt x="0" y="390"/>
                    </a:lnTo>
                    <a:lnTo>
                      <a:pt x="7" y="368"/>
                    </a:lnTo>
                    <a:lnTo>
                      <a:pt x="22" y="338"/>
                    </a:lnTo>
                    <a:lnTo>
                      <a:pt x="30" y="308"/>
                    </a:lnTo>
                    <a:lnTo>
                      <a:pt x="52" y="293"/>
                    </a:lnTo>
                    <a:lnTo>
                      <a:pt x="75" y="293"/>
                    </a:lnTo>
                    <a:lnTo>
                      <a:pt x="97" y="300"/>
                    </a:lnTo>
                    <a:lnTo>
                      <a:pt x="127" y="323"/>
                    </a:lnTo>
                    <a:lnTo>
                      <a:pt x="150" y="330"/>
                    </a:lnTo>
                    <a:lnTo>
                      <a:pt x="172" y="338"/>
                    </a:lnTo>
                    <a:lnTo>
                      <a:pt x="195" y="330"/>
                    </a:lnTo>
                    <a:lnTo>
                      <a:pt x="202" y="308"/>
                    </a:lnTo>
                    <a:lnTo>
                      <a:pt x="225" y="300"/>
                    </a:lnTo>
                    <a:lnTo>
                      <a:pt x="232" y="270"/>
                    </a:lnTo>
                    <a:lnTo>
                      <a:pt x="247" y="248"/>
                    </a:lnTo>
                    <a:lnTo>
                      <a:pt x="247" y="225"/>
                    </a:lnTo>
                    <a:lnTo>
                      <a:pt x="255" y="203"/>
                    </a:lnTo>
                    <a:lnTo>
                      <a:pt x="270" y="180"/>
                    </a:lnTo>
                    <a:lnTo>
                      <a:pt x="292" y="158"/>
                    </a:lnTo>
                    <a:lnTo>
                      <a:pt x="315" y="150"/>
                    </a:lnTo>
                    <a:lnTo>
                      <a:pt x="352" y="150"/>
                    </a:lnTo>
                    <a:lnTo>
                      <a:pt x="382" y="180"/>
                    </a:lnTo>
                    <a:lnTo>
                      <a:pt x="412" y="188"/>
                    </a:lnTo>
                    <a:lnTo>
                      <a:pt x="435" y="195"/>
                    </a:lnTo>
                    <a:lnTo>
                      <a:pt x="457" y="203"/>
                    </a:lnTo>
                    <a:lnTo>
                      <a:pt x="495" y="188"/>
                    </a:lnTo>
                    <a:lnTo>
                      <a:pt x="517" y="165"/>
                    </a:lnTo>
                    <a:lnTo>
                      <a:pt x="525" y="143"/>
                    </a:lnTo>
                    <a:lnTo>
                      <a:pt x="540" y="120"/>
                    </a:lnTo>
                    <a:lnTo>
                      <a:pt x="540" y="98"/>
                    </a:lnTo>
                    <a:lnTo>
                      <a:pt x="547" y="75"/>
                    </a:lnTo>
                    <a:lnTo>
                      <a:pt x="547" y="45"/>
                    </a:lnTo>
                    <a:lnTo>
                      <a:pt x="555" y="23"/>
                    </a:lnTo>
                    <a:lnTo>
                      <a:pt x="570" y="0"/>
                    </a:lnTo>
                    <a:lnTo>
                      <a:pt x="600" y="0"/>
                    </a:lnTo>
                    <a:lnTo>
                      <a:pt x="622" y="0"/>
                    </a:lnTo>
                    <a:lnTo>
                      <a:pt x="660" y="8"/>
                    </a:lnTo>
                    <a:lnTo>
                      <a:pt x="690" y="8"/>
                    </a:lnTo>
                    <a:lnTo>
                      <a:pt x="712" y="15"/>
                    </a:lnTo>
                    <a:lnTo>
                      <a:pt x="735" y="23"/>
                    </a:lnTo>
                    <a:lnTo>
                      <a:pt x="765" y="23"/>
                    </a:lnTo>
                    <a:lnTo>
                      <a:pt x="795" y="38"/>
                    </a:lnTo>
                    <a:lnTo>
                      <a:pt x="832" y="45"/>
                    </a:lnTo>
                    <a:lnTo>
                      <a:pt x="855" y="68"/>
                    </a:lnTo>
                    <a:lnTo>
                      <a:pt x="855" y="90"/>
                    </a:lnTo>
                    <a:lnTo>
                      <a:pt x="855" y="113"/>
                    </a:lnTo>
                    <a:lnTo>
                      <a:pt x="855" y="135"/>
                    </a:lnTo>
                    <a:lnTo>
                      <a:pt x="855" y="158"/>
                    </a:lnTo>
                    <a:lnTo>
                      <a:pt x="855" y="180"/>
                    </a:lnTo>
                    <a:lnTo>
                      <a:pt x="855" y="210"/>
                    </a:lnTo>
                    <a:lnTo>
                      <a:pt x="870" y="233"/>
                    </a:lnTo>
                    <a:lnTo>
                      <a:pt x="877" y="255"/>
                    </a:lnTo>
                    <a:lnTo>
                      <a:pt x="900" y="263"/>
                    </a:lnTo>
                    <a:lnTo>
                      <a:pt x="922" y="255"/>
                    </a:lnTo>
                    <a:lnTo>
                      <a:pt x="945" y="240"/>
                    </a:lnTo>
                    <a:lnTo>
                      <a:pt x="967" y="225"/>
                    </a:lnTo>
                    <a:lnTo>
                      <a:pt x="990" y="218"/>
                    </a:lnTo>
                    <a:lnTo>
                      <a:pt x="1027" y="240"/>
                    </a:lnTo>
                    <a:lnTo>
                      <a:pt x="1042" y="263"/>
                    </a:lnTo>
                    <a:lnTo>
                      <a:pt x="1050" y="285"/>
                    </a:lnTo>
                    <a:lnTo>
                      <a:pt x="1050" y="308"/>
                    </a:lnTo>
                    <a:lnTo>
                      <a:pt x="1057" y="330"/>
                    </a:lnTo>
                    <a:lnTo>
                      <a:pt x="1057" y="353"/>
                    </a:lnTo>
                    <a:lnTo>
                      <a:pt x="1057" y="375"/>
                    </a:lnTo>
                    <a:lnTo>
                      <a:pt x="1057" y="398"/>
                    </a:lnTo>
                    <a:lnTo>
                      <a:pt x="1057" y="420"/>
                    </a:lnTo>
                    <a:lnTo>
                      <a:pt x="1069" y="420"/>
                    </a:lnTo>
                  </a:path>
                </a:pathLst>
              </a:custGeom>
              <a:noFill/>
              <a:ln cap="rnd" w="255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9B521-D3C0-4AF7-BC90-5D50B41C831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29T15:58:04Z</dcterms:created>
  <dc:creator>Dr. Travis E. Doom</dc:creator>
  <dc:description>These slides contain material from textbooks by J. Wakerly and M. Mano as well as original slides created by Dr. R. Haggard and Dr. T. Doom</dc:description>
  <dc:language>en-US</dc:language>
  <cp:lastModifiedBy>Dr. Travis E. Doom</cp:lastModifiedBy>
  <cp:lastPrinted>1999-01-26T18:38:23Z</cp:lastPrinted>
  <dcterms:modified xsi:type="dcterms:W3CDTF">1999-04-23T17:19:50Z</dcterms:modified>
  <cp:revision>196</cp:revision>
  <dc:subject/>
  <dc:title>CEG 360/560 - EE 451/651 Section I No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wright.edu/~tdoom</vt:lpwstr>
  </property>
  <property fmtid="{D5CDD505-2E9C-101B-9397-08002B2CF9AE}" pid="9" name="LinkColor">
    <vt:r8>16711782</vt:r8>
  </property>
  <property fmtid="{D5CDD505-2E9C-101B-9397-08002B2CF9AE}" pid="10" name="MailAddress">
    <vt:lpwstr>doom@cs.wright.edu</vt:lpwstr>
  </property>
  <property fmtid="{D5CDD505-2E9C-101B-9397-08002B2CF9AE}" pid="11" name="NavBtnPos">
    <vt:r8>1</vt:r8>
  </property>
  <property fmtid="{D5CDD505-2E9C-101B-9397-08002B2CF9AE}" pid="12" name="Other">
    <vt:lpwstr>Assistant Professor of Computer Science, Computer Engineering, and Electrical Engineering; Wright State University</vt:lpwstr>
  </property>
  <property fmtid="{D5CDD505-2E9C-101B-9397-08002B2CF9AE}" pid="13" name="OutputDir">
    <vt:lpwstr>C:\My Documents\CEG360\Slides\export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