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57.wmf" ContentType="image/x-wmf"/>
  <Override PartName="/ppt/media/image60.wmf" ContentType="image/x-wmf"/>
  <Override PartName="/ppt/media/image20.png" ContentType="image/png"/>
  <Override PartName="/ppt/media/image29.wmf" ContentType="image/x-wmf"/>
  <Override PartName="/ppt/media/image31.png" ContentType="image/png"/>
  <Override PartName="/ppt/media/image47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0.png" ContentType="image/png"/>
  <Override PartName="/ppt/media/image4.wmf" ContentType="image/x-wmf"/>
  <Override PartName="/ppt/media/image27.wmf" ContentType="image/x-wmf"/>
  <Override PartName="/ppt/media/image50.wmf" ContentType="image/x-wmf"/>
  <Override PartName="/ppt/media/image62.wmf" ContentType="image/x-wmf"/>
  <Override PartName="/ppt/media/image22.png" ContentType="image/png"/>
  <Override PartName="/ppt/media/image16.png" ContentType="image/png"/>
  <Override PartName="/ppt/media/image56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15.wmf" ContentType="image/x-wmf"/>
  <Override PartName="/ppt/media/image1.jpeg" ContentType="image/jpeg"/>
  <Override PartName="/ppt/media/image21.png" ContentType="image/png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3.png" ContentType="image/png"/>
  <Override PartName="/ppt/media/image11.wmf" ContentType="image/x-wmf"/>
  <Override PartName="/ppt/media/image48.wmf" ContentType="image/x-wmf"/>
  <Override PartName="/ppt/media/image12.png" ContentType="image/png"/>
  <Override PartName="/ppt/media/image49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9.wmf" ContentType="image/x-wmf"/>
  <Override PartName="/ppt/media/image34.png" ContentType="image/png"/>
  <Override PartName="/ppt/media/image38.wmf" ContentType="image/x-wmf"/>
  <Override PartName="/ppt/media/image61.wmf" ContentType="image/x-wmf"/>
  <Override PartName="/ppt/media/image39.png" ContentType="image/png"/>
  <Override PartName="/ppt/media/image40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1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65938" cy="915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28840"/>
            <a:ext cx="9132840" cy="74520"/>
          </a:xfrm>
          <a:prstGeom prst="rect">
            <a:avLst/>
          </a:prstGeom>
          <a:gradFill rotWithShape="0">
            <a:gsLst>
              <a:gs pos="0">
                <a:srgbClr val="760c04"/>
              </a:gs>
              <a:gs pos="50000">
                <a:srgbClr val="e71909"/>
              </a:gs>
              <a:gs pos="100000">
                <a:srgbClr val="760c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42960"/>
            <a:ext cx="9132840" cy="3816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50000">
                <a:srgbClr val="0000b6"/>
              </a:gs>
              <a:gs pos="100000">
                <a:srgbClr val="0000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0160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8000" y="64738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2"/>
                </a:solidFill>
                <a:latin typeface="Arial"/>
              </a:rPr>
              <a:t>Digital Integrated 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59680" y="647388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2"/>
                </a:solidFill>
                <a:latin typeface="Arial"/>
              </a:rPr>
              <a:t>© Prentice Hall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57480" y="6477120"/>
            <a:ext cx="16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2"/>
                </a:solidFill>
                <a:latin typeface="Arial"/>
              </a:rPr>
              <a:t>Design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image" Target="../media/image49.png"/><Relationship Id="rId16" Type="http://schemas.openxmlformats.org/officeDocument/2006/relationships/image" Target="../media/image49.png"/><Relationship Id="rId17" Type="http://schemas.openxmlformats.org/officeDocument/2006/relationships/image" Target="../media/image49.png"/><Relationship Id="rId18" Type="http://schemas.openxmlformats.org/officeDocument/2006/relationships/image" Target="../media/image49.png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msquar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652840" cy="4216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59056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Design</a:t>
            </a:r>
            <a:br>
              <a:rPr sz="4400"/>
            </a:b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Methodologie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Book Antiqua"/>
              </a:rPr>
              <a:t>Behavioral simulation of accumulator</a:t>
            </a:r>
            <a:endParaRPr b="0" lang="en-US" sz="36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076960" cy="309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267080" y="3657240"/>
            <a:ext cx="609840" cy="609480"/>
          </a:xfrm>
          <a:prstGeom prst="line">
            <a:avLst/>
          </a:prstGeom>
          <a:ln w="1260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72880" y="4227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Integ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1981080"/>
            <a:ext cx="1219320" cy="533520"/>
          </a:xfrm>
          <a:prstGeom prst="line">
            <a:avLst/>
          </a:prstGeom>
          <a:ln w="1260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82160" y="15606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Discret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6960" y="552276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(Synopsys Waves display t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Timing Verification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375120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53480" y="599436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2"/>
                </a:solidFill>
                <a:latin typeface="Arial"/>
              </a:rPr>
              <a:t>(Synopsys-Epic Pathmi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52800" y="3532320"/>
            <a:ext cx="2714400" cy="820440"/>
          </a:xfrm>
          <a:custGeom>
            <a:avLst/>
            <a:gdLst/>
            <a:ahLst/>
            <a:rect l="l" t="t" r="r" b="b"/>
            <a:pathLst>
              <a:path w="1710" h="517">
                <a:moveTo>
                  <a:pt x="0" y="13"/>
                </a:moveTo>
                <a:cubicBezTo>
                  <a:pt x="102" y="15"/>
                  <a:pt x="199" y="17"/>
                  <a:pt x="300" y="10"/>
                </a:cubicBezTo>
                <a:cubicBezTo>
                  <a:pt x="352" y="0"/>
                  <a:pt x="407" y="5"/>
                  <a:pt x="459" y="7"/>
                </a:cubicBezTo>
                <a:cubicBezTo>
                  <a:pt x="517" y="12"/>
                  <a:pt x="487" y="8"/>
                  <a:pt x="522" y="43"/>
                </a:cubicBezTo>
                <a:cubicBezTo>
                  <a:pt x="531" y="52"/>
                  <a:pt x="546" y="73"/>
                  <a:pt x="546" y="73"/>
                </a:cubicBezTo>
                <a:cubicBezTo>
                  <a:pt x="550" y="130"/>
                  <a:pt x="564" y="180"/>
                  <a:pt x="573" y="235"/>
                </a:cubicBezTo>
                <a:cubicBezTo>
                  <a:pt x="574" y="288"/>
                  <a:pt x="574" y="341"/>
                  <a:pt x="576" y="394"/>
                </a:cubicBezTo>
                <a:cubicBezTo>
                  <a:pt x="577" y="417"/>
                  <a:pt x="579" y="463"/>
                  <a:pt x="597" y="481"/>
                </a:cubicBezTo>
                <a:cubicBezTo>
                  <a:pt x="632" y="516"/>
                  <a:pt x="706" y="514"/>
                  <a:pt x="750" y="517"/>
                </a:cubicBezTo>
                <a:cubicBezTo>
                  <a:pt x="771" y="514"/>
                  <a:pt x="792" y="515"/>
                  <a:pt x="813" y="511"/>
                </a:cubicBezTo>
                <a:cubicBezTo>
                  <a:pt x="822" y="509"/>
                  <a:pt x="837" y="500"/>
                  <a:pt x="846" y="496"/>
                </a:cubicBezTo>
                <a:cubicBezTo>
                  <a:pt x="866" y="488"/>
                  <a:pt x="887" y="483"/>
                  <a:pt x="906" y="472"/>
                </a:cubicBezTo>
                <a:cubicBezTo>
                  <a:pt x="925" y="461"/>
                  <a:pt x="964" y="423"/>
                  <a:pt x="981" y="406"/>
                </a:cubicBezTo>
                <a:cubicBezTo>
                  <a:pt x="984" y="394"/>
                  <a:pt x="987" y="384"/>
                  <a:pt x="993" y="373"/>
                </a:cubicBezTo>
                <a:cubicBezTo>
                  <a:pt x="1002" y="326"/>
                  <a:pt x="1002" y="281"/>
                  <a:pt x="1032" y="241"/>
                </a:cubicBezTo>
                <a:cubicBezTo>
                  <a:pt x="1034" y="228"/>
                  <a:pt x="1036" y="208"/>
                  <a:pt x="1044" y="196"/>
                </a:cubicBezTo>
                <a:cubicBezTo>
                  <a:pt x="1060" y="173"/>
                  <a:pt x="1115" y="150"/>
                  <a:pt x="1140" y="136"/>
                </a:cubicBezTo>
                <a:cubicBezTo>
                  <a:pt x="1173" y="117"/>
                  <a:pt x="1207" y="96"/>
                  <a:pt x="1239" y="76"/>
                </a:cubicBezTo>
                <a:cubicBezTo>
                  <a:pt x="1263" y="61"/>
                  <a:pt x="1331" y="59"/>
                  <a:pt x="1356" y="55"/>
                </a:cubicBezTo>
                <a:cubicBezTo>
                  <a:pt x="1384" y="57"/>
                  <a:pt x="1413" y="60"/>
                  <a:pt x="1440" y="67"/>
                </a:cubicBezTo>
                <a:cubicBezTo>
                  <a:pt x="1529" y="65"/>
                  <a:pt x="1621" y="58"/>
                  <a:pt x="1710" y="58"/>
                </a:cubicBezTo>
              </a:path>
            </a:pathLst>
          </a:custGeom>
          <a:noFill/>
          <a:ln w="108000">
            <a:solidFill>
              <a:srgbClr val="1ccfe2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2819520"/>
            <a:ext cx="838440" cy="685800"/>
          </a:xfrm>
          <a:prstGeom prst="line">
            <a:avLst/>
          </a:prstGeom>
          <a:ln w="12600">
            <a:solidFill>
              <a:srgbClr val="1ccf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7480" y="251460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Arial"/>
              </a:rPr>
              <a:t>Critical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59480" y="3632040"/>
            <a:ext cx="31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01608"/>
                </a:solidFill>
                <a:latin typeface="Arial"/>
              </a:rPr>
              <a:t>Enumerates and r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01608"/>
                </a:solidFill>
                <a:latin typeface="Arial"/>
              </a:rPr>
              <a:t>orders critical timing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01608"/>
                </a:solidFill>
                <a:latin typeface="Arial"/>
              </a:rPr>
              <a:t>No simulation nee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Issues in Timing Verification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4780" t="44965" r="0" b="0"/>
          <a:stretch/>
        </p:blipFill>
        <p:spPr>
          <a:xfrm>
            <a:off x="1905120" y="2057400"/>
            <a:ext cx="5681520" cy="332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0760" y="518148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01608"/>
                </a:solidFill>
                <a:latin typeface="Arial"/>
              </a:rPr>
              <a:t>False Timing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Implementation Methodologie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533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Custom Design –</a:t>
            </a:r>
            <a:br>
              <a:rPr sz="4400"/>
            </a:b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 Layout Editor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4375" t="29687" r="29376" b="6250"/>
          <a:stretch/>
        </p:blipFill>
        <p:spPr>
          <a:xfrm>
            <a:off x="762120" y="1676520"/>
            <a:ext cx="5257800" cy="478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83280" y="575136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Magic Layout 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(UC Berke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ymbolic Layou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516120" cy="3943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11560" y="5943600"/>
            <a:ext cx="31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Arial"/>
              </a:rPr>
              <a:t>Stick diagram of inve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30400" y="3124080"/>
            <a:ext cx="42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2"/>
                </a:solidFill>
                <a:latin typeface="Arial"/>
              </a:rPr>
              <a:t>Dimensionless layou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2"/>
                </a:solidFill>
                <a:latin typeface="Arial"/>
              </a:rPr>
              <a:t>Only topology i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2"/>
                </a:solidFill>
                <a:latin typeface="Arial"/>
              </a:rPr>
              <a:t>Final layout generated by </a:t>
            </a:r>
            <a:br>
              <a:rPr sz="2400"/>
            </a:br>
            <a:r>
              <a:rPr b="0" lang="en-US" sz="2400" spc="-1" strike="noStrike">
                <a:solidFill>
                  <a:srgbClr val="000082"/>
                </a:solidFill>
                <a:latin typeface="Arial"/>
              </a:rPr>
              <a:t>  “compaction”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Cell-based Design (or standard cells)</a:t>
            </a:r>
            <a:endParaRPr b="0" lang="en-US" sz="40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973" t="18932" r="0" b="0"/>
          <a:stretch/>
        </p:blipFill>
        <p:spPr>
          <a:xfrm>
            <a:off x="762120" y="1600200"/>
            <a:ext cx="6107040" cy="4568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24480" y="3809880"/>
            <a:ext cx="222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Arial"/>
              </a:rPr>
              <a:t>Routing chann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Arial"/>
              </a:rPr>
              <a:t>requirements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Arial"/>
              </a:rPr>
              <a:t>reduced by 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Arial"/>
              </a:rPr>
              <a:t>of more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Arial"/>
              </a:rPr>
              <a:t>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tandard Cell — Example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4724640" cy="4724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235560" y="59040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[Brodersen9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tandard Cell - Example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16" name="gaaa04272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557520" cy="4124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52964" t="27300" r="5598" b="21956"/>
          <a:stretch/>
        </p:blipFill>
        <p:spPr>
          <a:xfrm>
            <a:off x="4724280" y="1905120"/>
            <a:ext cx="4267440" cy="2895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12040" y="4836960"/>
            <a:ext cx="34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3-input NAND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(from Mississippi State Libr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characterized for fanout of 4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for three different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Automatic Cell Generation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20" name="cleo_layout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5562360" cy="480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41560" y="52182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Random-logic lay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generated by 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cell compiler (Dig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752480"/>
            <a:ext cx="7924680" cy="3733920"/>
          </a:xfrm>
          <a:prstGeom prst="rect">
            <a:avLst/>
          </a:prstGeom>
          <a:solidFill>
            <a:srgbClr val="00008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The Design Problem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543800" cy="334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4040" y="556272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Source: sematech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87480" y="6019920"/>
            <a:ext cx="74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1608"/>
                </a:solidFill>
                <a:latin typeface="Arial"/>
              </a:rPr>
              <a:t>A growing gap between design complexity and design produ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Module Generators — </a:t>
            </a:r>
            <a:br>
              <a:rPr sz="4000"/>
            </a:b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Compiled Datapath</a:t>
            </a:r>
            <a:endParaRPr b="0" lang="en-US" sz="40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2915" t="62150" r="0" b="0"/>
          <a:stretch/>
        </p:blipFill>
        <p:spPr>
          <a:xfrm>
            <a:off x="1143000" y="2209680"/>
            <a:ext cx="692136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Macrocell Design Methodology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86320" cy="456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73640" y="22464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Macro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21000" y="2855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Interconnect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75080" y="43038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Routing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81480" y="2438280"/>
            <a:ext cx="1905120" cy="22860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00440" y="3048120"/>
            <a:ext cx="609480" cy="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248520" y="4495680"/>
            <a:ext cx="838080" cy="30492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00" y="2870280"/>
            <a:ext cx="22852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Arial"/>
              </a:rPr>
              <a:t>Floor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Defines over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topology of desig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relative placemen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modules, and glob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routes of buss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supplies, and c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Macrocell-Based Design</a:t>
            </a:r>
            <a:br>
              <a:rPr sz="4000"/>
            </a:b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34" name="venc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257800" cy="441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24240" y="548640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Video-encoder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[Brodersen9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30600" y="3429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24440" y="25509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25800">
            <a:off x="2871720" y="3877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outing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9920" y="35654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01608"/>
                </a:solidFill>
                <a:latin typeface="Arial"/>
              </a:rPr>
              <a:t>Data pa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52160" y="501336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01608"/>
                </a:solidFill>
                <a:latin typeface="Arial"/>
              </a:rPr>
              <a:t>Standard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191120" y="3733920"/>
            <a:ext cx="1752480" cy="30456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05520" y="3733920"/>
            <a:ext cx="838080" cy="68580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723920" y="5181480"/>
            <a:ext cx="1143000" cy="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Gate Array — Sea-of-gate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4600" y="2514600"/>
            <a:ext cx="4127400" cy="2887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2208240" cy="1797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10080" y="4114800"/>
            <a:ext cx="1739880" cy="1892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30840" y="27795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4520" y="476100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Cell</a:t>
            </a:r>
            <a:br>
              <a:rPr sz="1800"/>
            </a:b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(4-input N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ea-of-gate Primitive Cell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44520" y="1739880"/>
            <a:ext cx="6654960" cy="337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41680" y="552276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Using oxide-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17680" y="55227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Using gate-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ea-of-gate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749840" cy="4800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5760" y="20178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Random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4920" y="491328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371600" y="4800240"/>
            <a:ext cx="1447920" cy="30492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2000" y="2286000"/>
            <a:ext cx="2209680" cy="38088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69080" y="56754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LSI Logic LEA3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(0.6 </a:t>
            </a:r>
            <a:r>
              <a:rPr b="0" lang="en-US" sz="1800" spc="-1" strike="noStrike">
                <a:solidFill>
                  <a:srgbClr val="000082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m CM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Prewired Array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prewired arrays (or field-programmable devic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se-based (program-o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volatile EPROM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M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Programmable Logic Device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64" name="pla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854080" cy="3457800"/>
          </a:xfrm>
          <a:prstGeom prst="rect">
            <a:avLst/>
          </a:prstGeom>
          <a:ln w="0">
            <a:noFill/>
          </a:ln>
        </p:spPr>
      </p:pic>
      <p:pic>
        <p:nvPicPr>
          <p:cNvPr id="165" name="prom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2435400" cy="3819240"/>
          </a:xfrm>
          <a:prstGeom prst="rect">
            <a:avLst/>
          </a:prstGeom>
          <a:ln w="0">
            <a:noFill/>
          </a:ln>
        </p:spPr>
      </p:pic>
      <p:pic>
        <p:nvPicPr>
          <p:cNvPr id="166" name="pal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2754360" cy="3352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28960" y="5827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P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7672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48880" y="5751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EPLD Block Diagram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71" name="altera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08320" cy="4800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362320" y="1600200"/>
            <a:ext cx="4343400" cy="990720"/>
          </a:xfrm>
          <a:prstGeom prst="rect">
            <a:avLst/>
          </a:prstGeom>
          <a:solidFill>
            <a:srgbClr val="d0160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45040" y="20178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Macro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85200" y="595476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82"/>
                </a:solidFill>
                <a:latin typeface="Arial"/>
              </a:rPr>
              <a:t>Courtesy Altera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7320" y="20574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1608"/>
                </a:solidFill>
                <a:latin typeface="Arial"/>
              </a:rPr>
              <a:t>Primary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209680"/>
            <a:ext cx="761760" cy="762120"/>
          </a:xfrm>
          <a:prstGeom prst="line">
            <a:avLst/>
          </a:prstGeom>
          <a:ln w="19080">
            <a:solidFill>
              <a:srgbClr val="d016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Field-Programmable Gate Arrays</a:t>
            </a:r>
            <a:br>
              <a:rPr sz="4000"/>
            </a:b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Fuse-based</a:t>
            </a:r>
            <a:endParaRPr b="0" lang="en-US" sz="40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2862" t="45742" r="0" b="0"/>
          <a:stretch/>
        </p:blipFill>
        <p:spPr>
          <a:xfrm>
            <a:off x="228600" y="1600200"/>
            <a:ext cx="6427800" cy="4610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61960" y="30621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Standard-cell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floor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Design Methodology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00200" y="1752480"/>
            <a:ext cx="5867280" cy="3353040"/>
            <a:chOff x="1600200" y="1752480"/>
            <a:chExt cx="5867280" cy="3353040"/>
          </a:xfrm>
        </p:grpSpPr>
        <p:sp>
          <p:nvSpPr>
            <p:cNvPr id="52" name=""/>
            <p:cNvSpPr/>
            <p:nvPr/>
          </p:nvSpPr>
          <p:spPr>
            <a:xfrm>
              <a:off x="1600200" y="1752480"/>
              <a:ext cx="5867280" cy="3353040"/>
            </a:xfrm>
            <a:prstGeom prst="rect">
              <a:avLst/>
            </a:prstGeom>
            <a:solidFill>
              <a:srgbClr val="d01608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812240" y="1841040"/>
              <a:ext cx="5478480" cy="317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1056240" y="5370480"/>
            <a:ext cx="67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Design process traverses iteratively between three abstractions:</a:t>
            </a:r>
            <a:br>
              <a:rPr sz="1800"/>
            </a:b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  behavior, structure, and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More and more automation for each of these ste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Interconnec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54800" cy="440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15280" y="586728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Programming interconnect using anti-f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Field-Programmable Gate Arrays</a:t>
            </a:r>
            <a:br>
              <a:rPr sz="4000"/>
            </a:b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RAM-based</a:t>
            </a:r>
            <a:endParaRPr b="0" lang="en-US" sz="40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121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RAM-based FPGA</a:t>
            </a:r>
            <a:br>
              <a:rPr sz="4400"/>
            </a:b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Basic Cell (CLB)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918480" cy="3797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86640" y="595476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2"/>
                </a:solidFill>
                <a:latin typeface="Arial"/>
              </a:rPr>
              <a:t>Courtesy of Xili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RAM-based FPGA 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89" name="xilinx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4724280" cy="4586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236280" y="58276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Xilinx XC4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Taxonomy of Synthesis Task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21134" t="0" r="0" b="0"/>
          <a:stretch/>
        </p:blipFill>
        <p:spPr>
          <a:xfrm>
            <a:off x="990720" y="1752480"/>
            <a:ext cx="710856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msquar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652840" cy="4216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59056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Design</a:t>
            </a:r>
            <a:br>
              <a:rPr sz="4400"/>
            </a:b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for Tes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Validation and Test of Manufactured Circuit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196" name=""/>
          <p:cNvSpPr/>
          <p:nvPr/>
        </p:nvSpPr>
        <p:spPr>
          <a:xfrm>
            <a:off x="830160" y="4495680"/>
            <a:ext cx="4015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01608"/>
                </a:solidFill>
                <a:latin typeface="Arial"/>
              </a:rPr>
              <a:t>Components of DFT strate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640" y="5029200"/>
            <a:ext cx="406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ide circuitry to enable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6720" y="5348160"/>
            <a:ext cx="620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ide test patterns that guarantee reason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36040" y="5632560"/>
            <a:ext cx="116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0160" y="2039760"/>
            <a:ext cx="444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1608"/>
                </a:solidFill>
                <a:latin typeface="Arial"/>
              </a:rPr>
              <a:t>Goals of Design-for-Test (D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2480" y="2560680"/>
            <a:ext cx="533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testing of manufactured part swift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20400" y="2892600"/>
            <a:ext cx="186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7720" y="3429000"/>
            <a:ext cx="167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1608"/>
                </a:solidFill>
                <a:latin typeface="Arial"/>
              </a:rPr>
              <a:t>DFT Ma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05360" y="3795840"/>
            <a:ext cx="483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controllability and observ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Test Classification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Arial"/>
              </a:rPr>
              <a:t>Diagnostic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8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chip/board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8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 loc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82"/>
                </a:solidFill>
                <a:latin typeface="Arial"/>
              </a:rPr>
              <a:t>go/no go” or produc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8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chip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Arial"/>
              </a:rPr>
              <a:t>Parametric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8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v,i] versu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8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parameters such as NM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Design for Testability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65880" cy="3738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234440" y="5562720"/>
            <a:ext cx="69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Exhaustive test is impossible or unpractical</a:t>
            </a:r>
            <a:r>
              <a:rPr b="1" lang="en-US" sz="4400" spc="-1" strike="noStrike">
                <a:solidFill>
                  <a:srgbClr val="0000b6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Problem: Controllability/Observability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Arial"/>
              </a:rPr>
              <a:t>Combinational Circu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able and observable - relatively easy to determine test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Arial"/>
              </a:rPr>
              <a:t>Sequential Circuits: St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into combinational circuits or use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Arial"/>
              </a:rPr>
              <a:t>Memory: requires complex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Design Analysis and Verification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for largest fraction of desig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when done at higher levels of abstraction - selection of correct analysis level can account for multiple orders of magnitude in verific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jor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Test Approache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-hoc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-based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is getting ha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mplexity and heterogeneous combination of modules in system-on-a-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ackaging and assembly techniques extend problem to the boa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Generating and Validating </a:t>
            </a:r>
            <a:br>
              <a:rPr sz="4400"/>
            </a:b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Test-Vector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test-pattern generation (ATP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iven fault, determine excitation vector (called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</a:rPr>
              <a:t>test v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at will propagate error to primary (observable)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ity of available tools: combinational network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TPG available from academic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s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</a:rPr>
              <a:t>test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roposed test-vector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8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s correct network in parallel with fault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0160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adequate models of faults in CMOS integrated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944800" y="3886200"/>
            <a:ext cx="6046920" cy="2908440"/>
          </a:xfrm>
          <a:custGeom>
            <a:avLst/>
            <a:gdLst/>
            <a:ahLst/>
            <a:rect l="l" t="t" r="r" b="b"/>
            <a:pathLst>
              <a:path w="3809" h="1832">
                <a:moveTo>
                  <a:pt x="2849" y="288"/>
                </a:moveTo>
                <a:cubicBezTo>
                  <a:pt x="2617" y="264"/>
                  <a:pt x="2217" y="224"/>
                  <a:pt x="1985" y="192"/>
                </a:cubicBezTo>
                <a:cubicBezTo>
                  <a:pt x="1753" y="160"/>
                  <a:pt x="1673" y="112"/>
                  <a:pt x="1457" y="96"/>
                </a:cubicBezTo>
                <a:cubicBezTo>
                  <a:pt x="1241" y="80"/>
                  <a:pt x="897" y="0"/>
                  <a:pt x="689" y="96"/>
                </a:cubicBezTo>
                <a:cubicBezTo>
                  <a:pt x="481" y="192"/>
                  <a:pt x="316" y="495"/>
                  <a:pt x="209" y="672"/>
                </a:cubicBezTo>
                <a:cubicBezTo>
                  <a:pt x="102" y="849"/>
                  <a:pt x="69" y="993"/>
                  <a:pt x="47" y="1158"/>
                </a:cubicBezTo>
                <a:cubicBezTo>
                  <a:pt x="25" y="1323"/>
                  <a:pt x="0" y="1555"/>
                  <a:pt x="75" y="1662"/>
                </a:cubicBezTo>
                <a:cubicBezTo>
                  <a:pt x="150" y="1769"/>
                  <a:pt x="99" y="1774"/>
                  <a:pt x="494" y="1797"/>
                </a:cubicBezTo>
                <a:cubicBezTo>
                  <a:pt x="889" y="1820"/>
                  <a:pt x="2039" y="1832"/>
                  <a:pt x="2447" y="1797"/>
                </a:cubicBezTo>
                <a:cubicBezTo>
                  <a:pt x="2855" y="1762"/>
                  <a:pt x="2742" y="1644"/>
                  <a:pt x="2945" y="1584"/>
                </a:cubicBezTo>
                <a:cubicBezTo>
                  <a:pt x="3148" y="1524"/>
                  <a:pt x="3529" y="1616"/>
                  <a:pt x="3665" y="1440"/>
                </a:cubicBezTo>
                <a:cubicBezTo>
                  <a:pt x="3801" y="1264"/>
                  <a:pt x="3809" y="712"/>
                  <a:pt x="3761" y="528"/>
                </a:cubicBezTo>
                <a:cubicBezTo>
                  <a:pt x="3713" y="344"/>
                  <a:pt x="3529" y="376"/>
                  <a:pt x="3377" y="336"/>
                </a:cubicBezTo>
                <a:cubicBezTo>
                  <a:pt x="3225" y="296"/>
                  <a:pt x="3081" y="312"/>
                  <a:pt x="2849" y="28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d016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Fault Model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4825800" cy="1924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8600" y="167652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2"/>
                </a:solidFill>
                <a:latin typeface="Arial"/>
              </a:rPr>
              <a:t>Most Popular - “Stuck - at”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276720" y="4038480"/>
            <a:ext cx="5630760" cy="2667240"/>
            <a:chOff x="3276720" y="4038480"/>
            <a:chExt cx="5630760" cy="2667240"/>
          </a:xfrm>
        </p:grpSpPr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3733920" y="4038480"/>
              <a:ext cx="255276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056640" y="4495680"/>
              <a:ext cx="2850840" cy="18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x1 s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x1 sa0 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2 sa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Z s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6720" y="624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729760" y="3200400"/>
            <a:ext cx="335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1608"/>
                </a:solidFill>
                <a:latin typeface="Book Antiqua"/>
              </a:rPr>
              <a:t>Covers almost all (oth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1608"/>
                </a:solidFill>
                <a:latin typeface="Book Antiqua"/>
              </a:rPr>
              <a:t>occurring faults, such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1608"/>
                </a:solidFill>
                <a:latin typeface="Book Antiqua"/>
              </a:rPr>
              <a:t>opens and sh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Problem with stuck-at model: CMOS open faul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2181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5163" t="16937" r="62312" b="57788"/>
          <a:stretch/>
        </p:blipFill>
        <p:spPr>
          <a:xfrm>
            <a:off x="457200" y="3276720"/>
            <a:ext cx="2819520" cy="1933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324480" y="2514600"/>
            <a:ext cx="457200" cy="7632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60" y="0"/>
                  <a:pt x="192" y="0"/>
                </a:cubicBezTo>
                <a:cubicBezTo>
                  <a:pt x="224" y="0"/>
                  <a:pt x="272" y="40"/>
                  <a:pt x="288" y="48"/>
                </a:cubicBezTo>
              </a:path>
            </a:pathLst>
          </a:custGeom>
          <a:noFill/>
          <a:ln w="28440">
            <a:solidFill>
              <a:srgbClr val="d016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91840" y="41911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1608"/>
                </a:solidFill>
                <a:latin typeface="Book Antiqua"/>
              </a:rPr>
              <a:t>Sequential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85200" y="4648320"/>
            <a:ext cx="51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Needs two vectors to ensure det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4760" y="5348160"/>
            <a:ext cx="85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ther options: use stuck-open or stuck-shor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is requires fault-simulation and analysis at the switch 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ransistor level - Very expen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Problem with stuck-at model: CMOS short faul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667240" cy="3873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666880" y="3505320"/>
            <a:ext cx="177840" cy="609480"/>
          </a:xfrm>
          <a:custGeom>
            <a:avLst/>
            <a:gdLst/>
            <a:ahLst/>
            <a:rect l="l" t="t" r="r" b="b"/>
            <a:pathLst>
              <a:path w="112" h="384">
                <a:moveTo>
                  <a:pt x="0" y="0"/>
                </a:moveTo>
                <a:cubicBezTo>
                  <a:pt x="40" y="24"/>
                  <a:pt x="80" y="48"/>
                  <a:pt x="96" y="96"/>
                </a:cubicBezTo>
                <a:cubicBezTo>
                  <a:pt x="112" y="144"/>
                  <a:pt x="112" y="240"/>
                  <a:pt x="96" y="288"/>
                </a:cubicBezTo>
                <a:cubicBezTo>
                  <a:pt x="80" y="336"/>
                  <a:pt x="40" y="360"/>
                  <a:pt x="0" y="384"/>
                </a:cubicBezTo>
              </a:path>
            </a:pathLst>
          </a:custGeom>
          <a:noFill/>
          <a:ln w="28440">
            <a:solidFill>
              <a:srgbClr val="d016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91040" y="2819520"/>
            <a:ext cx="485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Causes short circuit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Vdd and GND for A=C=0, B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Possible appro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Supply Current Measurement (IDD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ut: not applicable for gigasca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egration</a:t>
            </a: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Path Sensitization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81280" y="3352680"/>
            <a:ext cx="4378320" cy="1695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04400" y="5410080"/>
            <a:ext cx="50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chniques Used: D-algorithm, P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6840" y="1905120"/>
            <a:ext cx="69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Goals: Determine input pattern that makes a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controllable (triggers the fault, and makes its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visible at the output n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84440" y="312408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1909"/>
                </a:solidFill>
                <a:latin typeface="Book Antiqua"/>
              </a:rPr>
              <a:t>sa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45120" y="327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5120" y="3581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45120" y="47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b6"/>
                </a:solidFill>
                <a:latin typeface="Book Antiqu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4512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b6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45120" y="4343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b6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720" y="4191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b6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419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b6"/>
                </a:solidFill>
                <a:latin typeface="Book Antiqu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3263760"/>
            <a:ext cx="782640" cy="357480"/>
          </a:xfrm>
          <a:custGeom>
            <a:avLst/>
            <a:gdLst/>
            <a:ahLst/>
            <a:rect l="l" t="t" r="r" b="b"/>
            <a:pathLst>
              <a:path w="493" h="225">
                <a:moveTo>
                  <a:pt x="0" y="8"/>
                </a:moveTo>
                <a:cubicBezTo>
                  <a:pt x="0" y="8"/>
                  <a:pt x="0" y="8"/>
                  <a:pt x="48" y="8"/>
                </a:cubicBezTo>
                <a:cubicBezTo>
                  <a:pt x="96" y="8"/>
                  <a:pt x="228" y="0"/>
                  <a:pt x="288" y="8"/>
                </a:cubicBezTo>
                <a:cubicBezTo>
                  <a:pt x="348" y="16"/>
                  <a:pt x="375" y="19"/>
                  <a:pt x="409" y="55"/>
                </a:cubicBezTo>
                <a:cubicBezTo>
                  <a:pt x="443" y="91"/>
                  <a:pt x="476" y="190"/>
                  <a:pt x="493" y="225"/>
                </a:cubicBezTo>
              </a:path>
            </a:pathLst>
          </a:custGeom>
          <a:noFill/>
          <a:ln w="28440">
            <a:solidFill>
              <a:srgbClr val="00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4470480"/>
            <a:ext cx="990720" cy="26676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624" y="16"/>
                </a:moveTo>
                <a:cubicBezTo>
                  <a:pt x="616" y="16"/>
                  <a:pt x="608" y="16"/>
                  <a:pt x="576" y="16"/>
                </a:cubicBezTo>
                <a:cubicBezTo>
                  <a:pt x="544" y="16"/>
                  <a:pt x="472" y="0"/>
                  <a:pt x="432" y="16"/>
                </a:cubicBezTo>
                <a:cubicBezTo>
                  <a:pt x="392" y="32"/>
                  <a:pt x="376" y="88"/>
                  <a:pt x="336" y="112"/>
                </a:cubicBezTo>
                <a:cubicBezTo>
                  <a:pt x="296" y="136"/>
                  <a:pt x="248" y="152"/>
                  <a:pt x="192" y="160"/>
                </a:cubicBezTo>
                <a:cubicBezTo>
                  <a:pt x="136" y="168"/>
                  <a:pt x="68" y="164"/>
                  <a:pt x="0" y="160"/>
                </a:cubicBezTo>
              </a:path>
            </a:pathLst>
          </a:custGeom>
          <a:noFill/>
          <a:ln w="28440">
            <a:solidFill>
              <a:srgbClr val="0000b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4646520"/>
            <a:ext cx="2373480" cy="541440"/>
          </a:xfrm>
          <a:custGeom>
            <a:avLst/>
            <a:gdLst/>
            <a:ahLst/>
            <a:rect l="l" t="t" r="r" b="b"/>
            <a:pathLst>
              <a:path w="1495" h="341">
                <a:moveTo>
                  <a:pt x="1495" y="0"/>
                </a:moveTo>
                <a:cubicBezTo>
                  <a:pt x="1488" y="36"/>
                  <a:pt x="1478" y="162"/>
                  <a:pt x="1456" y="215"/>
                </a:cubicBezTo>
                <a:cubicBezTo>
                  <a:pt x="1434" y="268"/>
                  <a:pt x="1408" y="297"/>
                  <a:pt x="1365" y="317"/>
                </a:cubicBezTo>
                <a:cubicBezTo>
                  <a:pt x="1322" y="337"/>
                  <a:pt x="1427" y="334"/>
                  <a:pt x="1200" y="337"/>
                </a:cubicBezTo>
                <a:cubicBezTo>
                  <a:pt x="973" y="340"/>
                  <a:pt x="480" y="341"/>
                  <a:pt x="0" y="337"/>
                </a:cubicBezTo>
              </a:path>
            </a:pathLst>
          </a:custGeom>
          <a:noFill/>
          <a:ln w="28440">
            <a:solidFill>
              <a:srgbClr val="0000b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429000"/>
            <a:ext cx="152280" cy="228600"/>
          </a:xfrm>
          <a:prstGeom prst="lightningBolt">
            <a:avLst/>
          </a:prstGeom>
          <a:solidFill>
            <a:srgbClr val="e71909"/>
          </a:solidFill>
          <a:ln w="12600">
            <a:solidFill>
              <a:srgbClr val="e71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35480" y="365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28320" y="449568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b6"/>
                </a:solidFill>
                <a:latin typeface="Book Antiqua"/>
              </a:rPr>
              <a:t>Fault 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57120" y="3505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Book Antiqua"/>
              </a:rPr>
              <a:t>Fault enab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Ad-hoc Tes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56" name=""/>
          <p:cNvSpPr/>
          <p:nvPr/>
        </p:nvSpPr>
        <p:spPr>
          <a:xfrm>
            <a:off x="2006640" y="2984400"/>
            <a:ext cx="12600" cy="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06640" y="3554280"/>
            <a:ext cx="12600" cy="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3643200"/>
            <a:ext cx="12600" cy="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2984400"/>
            <a:ext cx="12600" cy="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60440" y="4646520"/>
            <a:ext cx="12960" cy="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60440" y="5027760"/>
            <a:ext cx="12960" cy="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8560" y="2933640"/>
            <a:ext cx="12600" cy="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8560" y="3137040"/>
            <a:ext cx="12600" cy="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86520" y="3211560"/>
            <a:ext cx="12600" cy="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86520" y="2933640"/>
            <a:ext cx="12600" cy="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2720" y="4938840"/>
            <a:ext cx="12600" cy="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319720"/>
            <a:ext cx="12600" cy="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86520" y="3668760"/>
            <a:ext cx="12600" cy="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86520" y="3871800"/>
            <a:ext cx="12600" cy="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8560" y="3668760"/>
            <a:ext cx="12600" cy="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5141880"/>
            <a:ext cx="360" cy="126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7840" y="3402000"/>
            <a:ext cx="360" cy="1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35840" y="3402000"/>
            <a:ext cx="360" cy="126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64600" y="5638680"/>
            <a:ext cx="67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Inserting multiplexer improves testability</a:t>
            </a:r>
            <a:r>
              <a:rPr b="1" lang="en-US" sz="4400" spc="-1" strike="noStrike">
                <a:solidFill>
                  <a:srgbClr val="0000b6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9"/>
          <a:srcRect l="25615" t="59308" r="0" b="0"/>
          <a:stretch/>
        </p:blipFill>
        <p:spPr>
          <a:xfrm>
            <a:off x="914400" y="1600200"/>
            <a:ext cx="73026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can-based Tes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0" t="48603" r="0" b="0"/>
          <a:stretch/>
        </p:blipFill>
        <p:spPr>
          <a:xfrm>
            <a:off x="-380880" y="2133720"/>
            <a:ext cx="88106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Polarity-Hold SRL </a:t>
            </a:r>
            <a:br>
              <a:rPr sz="4000"/>
            </a:b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(Shift-Register Latch)</a:t>
            </a:r>
            <a:endParaRPr b="0" lang="en-US" sz="40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79" name=""/>
          <p:cNvSpPr/>
          <p:nvPr/>
        </p:nvSpPr>
        <p:spPr>
          <a:xfrm>
            <a:off x="1163880" y="563868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Introduced at IBM and set as company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0106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can-Path Register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162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Book Antiqua"/>
              </a:rPr>
              <a:t>Digital Data treated as Analog Signal</a:t>
            </a:r>
            <a:endParaRPr b="0" lang="en-US" sz="36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52371" t="46591" r="0" b="0"/>
          <a:stretch/>
        </p:blipFill>
        <p:spPr>
          <a:xfrm>
            <a:off x="4267080" y="1905120"/>
            <a:ext cx="4227480" cy="314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698920" cy="298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2320" y="495288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1608"/>
                </a:solidFill>
                <a:latin typeface="Arial"/>
              </a:rPr>
              <a:t>Circuit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35640" y="541008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Both Time and Data treated as Analog Qua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Also complicated by presence of non-linear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(relaxed in timing simu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4038480"/>
            <a:ext cx="990720" cy="914400"/>
          </a:xfrm>
          <a:prstGeom prst="ellipse">
            <a:avLst/>
          </a:prstGeom>
          <a:noFill/>
          <a:ln w="28440">
            <a:solidFill>
              <a:srgbClr val="d01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can-based Test —Operation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can-Path Testing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sp>
        <p:nvSpPr>
          <p:cNvPr id="286" name=""/>
          <p:cNvSpPr/>
          <p:nvPr/>
        </p:nvSpPr>
        <p:spPr>
          <a:xfrm>
            <a:off x="57600" y="6019920"/>
            <a:ext cx="90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Partial-Scan can be more effective for pipelined data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2688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Boundary Scan (JTAG)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0" t="0" r="0" b="59382"/>
          <a:stretch/>
        </p:blipFill>
        <p:spPr>
          <a:xfrm>
            <a:off x="1066680" y="1676520"/>
            <a:ext cx="6172200" cy="4417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04000" y="5943600"/>
            <a:ext cx="83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Board testing becomes as problematic as chip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elf-tes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39880" y="2008080"/>
            <a:ext cx="7467480" cy="283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12640" y="5156280"/>
            <a:ext cx="78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Rapidly becoming more important with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chip-complexity and larg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Linear-Feedback Shift Register (LFSR)</a:t>
            </a:r>
            <a:endParaRPr b="0" lang="en-US" sz="40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38720" cy="43243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737360" y="59436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Pseudo-Random Pattern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Signature Analysis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695920" cy="22399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63840" y="4495680"/>
            <a:ext cx="62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Counts transitions on single-bit 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2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82"/>
                </a:solidFill>
                <a:latin typeface="Book Antiqua"/>
              </a:rPr>
              <a:t>Compression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BILBO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8850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BILBO Application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13428" t="51056" r="0" b="0"/>
          <a:stretch/>
        </p:blipFill>
        <p:spPr>
          <a:xfrm>
            <a:off x="990720" y="2133720"/>
            <a:ext cx="73692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2"/>
                </a:solidFill>
                <a:latin typeface="Book Antiqua"/>
              </a:rPr>
              <a:t>Memory Self-Test</a:t>
            </a:r>
            <a:endParaRPr b="0" lang="en-US" sz="44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54000" y="2155680"/>
            <a:ext cx="7239240" cy="254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933560" y="5075280"/>
            <a:ext cx="440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Patterns: Writing/Reading 0s, 1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Walking 0s, 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000082"/>
                </a:solidFill>
                <a:latin typeface="Book Antiqua"/>
              </a:rPr>
              <a:t>Galloping 0s, 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Book Antiqua"/>
              </a:rPr>
              <a:t>Representing Data as Discrete Entity</a:t>
            </a:r>
            <a:endParaRPr b="0" lang="en-US" sz="40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6200" y="1981080"/>
            <a:ext cx="3925800" cy="205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1560600" cy="3508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9240" y="4419720"/>
            <a:ext cx="28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Discretizing the data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switching 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55400" y="559908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The linear switch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of the inve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Book Antiqua"/>
              </a:rPr>
              <a:t>Circuit versus Switch-Level Simulation</a:t>
            </a:r>
            <a:endParaRPr b="0" lang="en-US" sz="36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743600" cy="24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1539720"/>
            <a:ext cx="7620120" cy="2476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6200000">
            <a:off x="-76680" y="2517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-13320" y="5094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676520"/>
            <a:ext cx="3657600" cy="4572000"/>
          </a:xfrm>
          <a:prstGeom prst="rect">
            <a:avLst/>
          </a:prstGeom>
          <a:solidFill>
            <a:srgbClr val="fca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Book Antiqua"/>
              </a:rPr>
              <a:t>Structural Description of Accumulator</a:t>
            </a:r>
            <a:endParaRPr b="0" lang="en-US" sz="3600" spc="-1" strike="noStrike">
              <a:solidFill>
                <a:srgbClr val="000082"/>
              </a:solidFill>
              <a:latin typeface="Book Antiqu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013280" cy="4391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3120" y="3160800"/>
            <a:ext cx="394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Design defined as composi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register and full-adder cells (“netlist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Data represented as {0,1,Z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Time discretized and progress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unit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4200" y="5562720"/>
            <a:ext cx="36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Description language: V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Arial"/>
              </a:rPr>
              <a:t>Other options: schematics, Veri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Book Antiqua"/>
              </a:rPr>
              <a:t>Behavioral Description of Accumulator</a:t>
            </a:r>
            <a:endParaRPr b="0" lang="en-US" sz="3600" spc="-1" strike="noStrike">
              <a:solidFill>
                <a:srgbClr val="000082"/>
              </a:solidFill>
              <a:latin typeface="Book Antiqu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2209680"/>
            <a:ext cx="3962520" cy="3809880"/>
            <a:chOff x="228600" y="2209680"/>
            <a:chExt cx="3962520" cy="3809880"/>
          </a:xfrm>
        </p:grpSpPr>
        <p:sp>
          <p:nvSpPr>
            <p:cNvPr id="80" name=""/>
            <p:cNvSpPr/>
            <p:nvPr/>
          </p:nvSpPr>
          <p:spPr>
            <a:xfrm>
              <a:off x="457200" y="2209680"/>
              <a:ext cx="3733920" cy="3809880"/>
            </a:xfrm>
            <a:prstGeom prst="rect">
              <a:avLst/>
            </a:prstGeom>
            <a:solidFill>
              <a:srgbClr val="fca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"/>
            <a:srcRect l="0" t="0" r="28364" b="0"/>
            <a:stretch/>
          </p:blipFill>
          <p:spPr>
            <a:xfrm>
              <a:off x="228600" y="2361960"/>
              <a:ext cx="3962520" cy="345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4500360" y="3200400"/>
            <a:ext cx="41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Design described as set of input-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relations, regardless of cho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Data described at higher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1608"/>
                </a:solidFill>
                <a:latin typeface="Arial"/>
              </a:rPr>
              <a:t>level (“integer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3T14:24:48Z</dcterms:created>
  <dc:creator>kaat</dc:creator>
  <dc:description/>
  <dc:language>en-US</dc:language>
  <cp:lastModifiedBy>jan</cp:lastModifiedBy>
  <cp:lastPrinted>1998-07-09T21:18:54Z</cp:lastPrinted>
  <dcterms:modified xsi:type="dcterms:W3CDTF">1998-07-09T21:21:52Z</dcterms:modified>
  <cp:revision>107</cp:revision>
  <dc:subject/>
  <dc:title>No Slide Title</dc:title>
</cp:coreProperties>
</file>