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75.xml.rels" ContentType="application/vnd.openxmlformats-package.relationships+xml"/>
  <Override PartName="/ppt/slides/_rels/slide105.xml.rels" ContentType="application/vnd.openxmlformats-package.relationships+xml"/>
  <Override PartName="/ppt/slides/_rels/slide123.xml.rels" ContentType="application/vnd.openxmlformats-package.relationships+xml"/>
  <Override PartName="/ppt/slides/_rels/slide93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24.xml.rels" ContentType="application/vnd.openxmlformats-package.relationships+xml"/>
  <Override PartName="/ppt/slides/_rels/slide94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125.xml.rels" ContentType="application/vnd.openxmlformats-package.relationships+xml"/>
  <Override PartName="/ppt/slides/_rels/slide95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2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4.xml.rels" ContentType="application/vnd.openxmlformats-package.relationships+xml"/>
  <Override PartName="/ppt/slides/_rels/slide91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0.xml.rels" ContentType="application/vnd.openxmlformats-package.relationships+xml"/>
  <Override PartName="/ppt/slides/_rels/slide121.xml.rels" ContentType="application/vnd.openxmlformats-package.relationships+xml"/>
  <Override PartName="/ppt/slides/_rels/slide65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27.xml.rels" ContentType="application/vnd.openxmlformats-package.relationships+xml"/>
  <Override PartName="/ppt/slides/_rels/slide120.xml.rels" ContentType="application/vnd.openxmlformats-package.relationships+xml"/>
  <Override PartName="/ppt/slides/_rels/slide116.xml.rels" ContentType="application/vnd.openxmlformats-package.relationships+xml"/>
  <Override PartName="/ppt/slides/_rels/slide126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103.xml.rels" ContentType="application/vnd.openxmlformats-package.relationships+xml"/>
  <Override PartName="/ppt/slides/_rels/slide89.xml.rels" ContentType="application/vnd.openxmlformats-package.relationships+xml"/>
  <Override PartName="/ppt/slides/_rels/slide119.xml.rels" ContentType="application/vnd.openxmlformats-package.relationships+xml"/>
  <Override PartName="/ppt/slides/_rels/slide1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7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1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82.xml.rels" ContentType="application/vnd.openxmlformats-package.relationships+xml"/>
  <Override PartName="/ppt/slides/_rels/slide112.xml.rels" ContentType="application/vnd.openxmlformats-package.relationships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120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93.xml" ContentType="application/vnd.openxmlformats-officedocument.presentationml.slide+xml"/>
  <Override PartName="/ppt/slides/slide121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94.xml" ContentType="application/vnd.openxmlformats-officedocument.presentationml.slide+xml"/>
  <Override PartName="/ppt/slides/slide122.xml" ContentType="application/vnd.openxmlformats-officedocument.presentationml.slide+xml"/>
  <Override PartName="/ppt/slides/slide71.xml" ContentType="application/vnd.openxmlformats-officedocument.presentationml.slide+xml"/>
  <Override PartName="/ppt/slides/slide118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98.xml" ContentType="application/vnd.openxmlformats-officedocument.presentationml.slide+xml"/>
  <Override PartName="/ppt/slides/slide126.xml" ContentType="application/vnd.openxmlformats-officedocument.presentationml.slide+xml"/>
  <Override PartName="/ppt/slides/slide70.xml" ContentType="application/vnd.openxmlformats-officedocument.presentationml.slide+xml"/>
  <Override PartName="/ppt/slides/slide99.xml" ContentType="application/vnd.openxmlformats-officedocument.presentationml.slide+xml"/>
  <Override PartName="/ppt/slides/slide127.xml" ContentType="application/vnd.openxmlformats-officedocument.presentationml.slide+xml"/>
  <Override PartName="/ppt/slides/slide27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78.xml" ContentType="application/vnd.openxmlformats-officedocument.presentationml.slide+xml"/>
  <Override PartName="/ppt/slides/slide60.xml" ContentType="application/vnd.openxmlformats-officedocument.presentationml.slide+xml"/>
  <Override PartName="/ppt/slides/slide29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8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105.xml" ContentType="application/vnd.openxmlformats-officedocument.presentationml.slide+xml"/>
  <Override PartName="/ppt/slides/slide77.xml" ContentType="application/vnd.openxmlformats-officedocument.presentationml.slide+xml"/>
  <Override PartName="/ppt/slides/slide104.xml" ContentType="application/vnd.openxmlformats-officedocument.presentationml.slide+xml"/>
  <Override PartName="/ppt/slides/slide76.xml" ContentType="application/vnd.openxmlformats-officedocument.presentationml.slide+xml"/>
  <Override PartName="/ppt/slides/slide91.xml" ContentType="application/vnd.openxmlformats-officedocument.presentationml.slide+xml"/>
  <Override PartName="/ppt/slides/slide23.xml" ContentType="application/vnd.openxmlformats-officedocument.presentationml.slide+xml"/>
  <Override PartName="/ppt/slides/slide90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113.xml" ContentType="application/vnd.openxmlformats-officedocument.presentationml.slide+xml"/>
  <Override PartName="/ppt/slides/slide85.xml" ContentType="application/vnd.openxmlformats-officedocument.presentationml.slide+xml"/>
  <Override PartName="/ppt/slides/slide17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1.xml" ContentType="application/vnd.openxmlformats-officedocument.presentationml.slide+xml"/>
  <Override PartName="/ppt/slides/slide108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72.xml" ContentType="application/vnd.openxmlformats-officedocument.presentationml.slide+xml"/>
  <Override PartName="/ppt/slides/slide100.xml" ContentType="application/vnd.openxmlformats-officedocument.presentationml.slide+xml"/>
  <Override PartName="/ppt/slides/slide47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73.xml" ContentType="application/vnd.openxmlformats-officedocument.presentationml.slide+xml"/>
  <Override PartName="/ppt/slides/slide101.xml" ContentType="application/vnd.openxmlformats-officedocument.presentationml.slide+xml"/>
  <Override PartName="/ppt/slides/slide48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80.xml" ContentType="application/vnd.openxmlformats-officedocument.presentationml.slide+xml"/>
  <Override PartName="/ppt/slides/slide12.xml" ContentType="application/vnd.openxmlformats-officedocument.presentationml.slide+xml"/>
  <Override PartName="/ppt/slides/slide74.xml" ContentType="application/vnd.openxmlformats-officedocument.presentationml.slide+xml"/>
  <Override PartName="/ppt/slides/slide102.xml" ContentType="application/vnd.openxmlformats-officedocument.presentationml.slide+xml"/>
  <Override PartName="/ppt/slides/slide49.xml" ContentType="application/vnd.openxmlformats-officedocument.presentationml.slide+xml"/>
  <Override PartName="/ppt/slides/slide6.xml" ContentType="application/vnd.openxmlformats-officedocument.presentationml.slide+xml"/>
  <Override PartName="/ppt/slides/slide81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  <p:sldId id="359" r:id="rId106"/>
    <p:sldId id="360" r:id="rId107"/>
    <p:sldId id="361" r:id="rId108"/>
    <p:sldId id="362" r:id="rId109"/>
    <p:sldId id="363" r:id="rId110"/>
    <p:sldId id="364" r:id="rId111"/>
    <p:sldId id="365" r:id="rId112"/>
    <p:sldId id="366" r:id="rId113"/>
    <p:sldId id="367" r:id="rId114"/>
    <p:sldId id="368" r:id="rId115"/>
    <p:sldId id="369" r:id="rId116"/>
    <p:sldId id="370" r:id="rId117"/>
    <p:sldId id="371" r:id="rId118"/>
    <p:sldId id="372" r:id="rId119"/>
    <p:sldId id="373" r:id="rId120"/>
    <p:sldId id="374" r:id="rId121"/>
    <p:sldId id="375" r:id="rId122"/>
    <p:sldId id="376" r:id="rId123"/>
    <p:sldId id="377" r:id="rId124"/>
    <p:sldId id="378" r:id="rId125"/>
    <p:sldId id="379" r:id="rId126"/>
    <p:sldId id="380" r:id="rId127"/>
    <p:sldId id="381" r:id="rId128"/>
    <p:sldId id="382" r:id="rId1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slide" Target="slides/slide104.xml"/><Relationship Id="rId107" Type="http://schemas.openxmlformats.org/officeDocument/2006/relationships/slide" Target="slides/slide105.xml"/><Relationship Id="rId108" Type="http://schemas.openxmlformats.org/officeDocument/2006/relationships/slide" Target="slides/slide106.xml"/><Relationship Id="rId109" Type="http://schemas.openxmlformats.org/officeDocument/2006/relationships/slide" Target="slides/slide107.xml"/><Relationship Id="rId110" Type="http://schemas.openxmlformats.org/officeDocument/2006/relationships/slide" Target="slides/slide108.xml"/><Relationship Id="rId111" Type="http://schemas.openxmlformats.org/officeDocument/2006/relationships/slide" Target="slides/slide109.xml"/><Relationship Id="rId112" Type="http://schemas.openxmlformats.org/officeDocument/2006/relationships/slide" Target="slides/slide110.xml"/><Relationship Id="rId113" Type="http://schemas.openxmlformats.org/officeDocument/2006/relationships/slide" Target="slides/slide111.xml"/><Relationship Id="rId114" Type="http://schemas.openxmlformats.org/officeDocument/2006/relationships/slide" Target="slides/slide112.xml"/><Relationship Id="rId115" Type="http://schemas.openxmlformats.org/officeDocument/2006/relationships/slide" Target="slides/slide113.xml"/><Relationship Id="rId116" Type="http://schemas.openxmlformats.org/officeDocument/2006/relationships/slide" Target="slides/slide114.xml"/><Relationship Id="rId117" Type="http://schemas.openxmlformats.org/officeDocument/2006/relationships/slide" Target="slides/slide115.xml"/><Relationship Id="rId118" Type="http://schemas.openxmlformats.org/officeDocument/2006/relationships/slide" Target="slides/slide116.xml"/><Relationship Id="rId119" Type="http://schemas.openxmlformats.org/officeDocument/2006/relationships/slide" Target="slides/slide117.xml"/><Relationship Id="rId120" Type="http://schemas.openxmlformats.org/officeDocument/2006/relationships/slide" Target="slides/slide118.xml"/><Relationship Id="rId121" Type="http://schemas.openxmlformats.org/officeDocument/2006/relationships/slide" Target="slides/slide119.xml"/><Relationship Id="rId122" Type="http://schemas.openxmlformats.org/officeDocument/2006/relationships/slide" Target="slides/slide120.xml"/><Relationship Id="rId123" Type="http://schemas.openxmlformats.org/officeDocument/2006/relationships/slide" Target="slides/slide121.xml"/><Relationship Id="rId124" Type="http://schemas.openxmlformats.org/officeDocument/2006/relationships/slide" Target="slides/slide122.xml"/><Relationship Id="rId125" Type="http://schemas.openxmlformats.org/officeDocument/2006/relationships/slide" Target="slides/slide123.xml"/><Relationship Id="rId126" Type="http://schemas.openxmlformats.org/officeDocument/2006/relationships/slide" Target="slides/slide124.xml"/><Relationship Id="rId127" Type="http://schemas.openxmlformats.org/officeDocument/2006/relationships/slide" Target="slides/slide125.xml"/><Relationship Id="rId128" Type="http://schemas.openxmlformats.org/officeDocument/2006/relationships/slide" Target="slides/slide126.xml"/><Relationship Id="rId129" Type="http://schemas.openxmlformats.org/officeDocument/2006/relationships/slide" Target="slides/slide127.xml"/><Relationship Id="rId1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087F4-E5DD-44C0-A34B-E1AD525B6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CA438-241A-42BE-84B7-A815B6B0C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AB27A-E357-4B85-9B9A-E870EBA1F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EAD74-6601-4B2E-9C0E-EDEEE919B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9E863-7D76-4B85-A196-177914FB7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F4A74-E943-4B88-AFD0-49CC5E579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C14F7-40F7-404F-9F45-6E48FADFF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D77B3-E4F8-4A01-A033-B577621F9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C4883-F1B5-4E34-A36D-9E48AD474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98CCE-D2E7-4015-9064-2198523C5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3E797-47DD-4A9A-A86F-F8CB33144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9080F-AC0E-4A15-BBBB-1480DBFAB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771D9-4C5F-4306-B0FD-AAC2E55EDE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erilog HD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ópico do curso sobre projeto digital do BSTC/Motorola/Eldor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362320" y="4114800"/>
            <a:ext cx="4876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Elmar Melc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UFPB Campina Gran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elmar@dee.ufpb.b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Representação</a:t>
            </a:r>
            <a:br>
              <a:rPr sz="4400"/>
            </a:b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gráfica</a:t>
            </a: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vs.</a:t>
            </a: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textu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3505320"/>
            <a:ext cx="358164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00"/>
              </a:buClr>
              <a:buSzPct val="130000"/>
              <a:buFont typeface="Times New Roman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uitiv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Times New Roman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erarqu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balhoso de fazer bem fei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balhoso de modific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47960" y="3200040"/>
            <a:ext cx="38098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render a linguag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spcBef>
                <a:spcPts val="700"/>
              </a:spcBef>
              <a:buClr>
                <a:srgbClr val="000000"/>
              </a:buClr>
              <a:buSzPct val="130000"/>
              <a:buFont typeface="Times New Roman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erarqu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spcBef>
                <a:spcPts val="700"/>
              </a:spcBef>
              <a:buClr>
                <a:srgbClr val="000000"/>
              </a:buClr>
              <a:buFont typeface="Times New Roman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ápido de fazer, mas precisa de comentár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spcBef>
                <a:spcPts val="700"/>
              </a:spcBef>
              <a:buClr>
                <a:srgbClr val="000000"/>
              </a:buClr>
              <a:buSzPct val="130000"/>
              <a:buFont typeface="Times New Roman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ápido de modific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spcBef>
                <a:spcPts val="700"/>
              </a:spcBef>
              <a:buClr>
                <a:srgbClr val="000000"/>
              </a:buClr>
              <a:buSzPct val="130000"/>
              <a:buFont typeface="Times New Roman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ácil de processar automaticam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380880" y="1981080"/>
            <a:ext cx="4114800" cy="1374480"/>
            <a:chOff x="380880" y="1981080"/>
            <a:chExt cx="4114800" cy="1374480"/>
          </a:xfrm>
        </p:grpSpPr>
        <p:sp>
          <p:nvSpPr>
            <p:cNvPr id="128" name=""/>
            <p:cNvSpPr/>
            <p:nvPr/>
          </p:nvSpPr>
          <p:spPr>
            <a:xfrm>
              <a:off x="2361960" y="2896920"/>
              <a:ext cx="0" cy="455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984680" y="2898720"/>
              <a:ext cx="76104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55" y="0"/>
                  </a:moveTo>
                  <a:arcTo wR="10800" hR="10800" stAng="-5414323" swAng="541432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55" y="0"/>
                  </a:moveTo>
                  <a:arcTo wR="10800" hR="10800" stAng="-5414323" swAng="5414323"/>
                </a:path>
              </a:pathLst>
            </a:custGeom>
            <a:noFill/>
            <a:ln cap="rnd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980720" y="2895480"/>
              <a:ext cx="76212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flipH="1">
              <a:off x="1982520" y="2971800"/>
              <a:ext cx="3794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H="1">
              <a:off x="1982520" y="3276360"/>
              <a:ext cx="3794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flipH="1">
              <a:off x="2896560" y="3124080"/>
              <a:ext cx="227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755800" y="3060720"/>
              <a:ext cx="127080" cy="1267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361960" y="2058840"/>
              <a:ext cx="0" cy="455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984680" y="2060280"/>
              <a:ext cx="76104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55" y="0"/>
                  </a:moveTo>
                  <a:arcTo wR="10800" hR="10800" stAng="-5414323" swAng="541432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55" y="0"/>
                  </a:moveTo>
                  <a:arcTo wR="10800" hR="10800" stAng="-5414323" swAng="5414323"/>
                </a:path>
              </a:pathLst>
            </a:custGeom>
            <a:noFill/>
            <a:ln cap="rnd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980720" y="2057400"/>
              <a:ext cx="76212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>
              <a:off x="1982520" y="2133360"/>
              <a:ext cx="3794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 flipH="1">
              <a:off x="1982520" y="2438280"/>
              <a:ext cx="3794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2896560" y="2286000"/>
              <a:ext cx="227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755800" y="2222280"/>
              <a:ext cx="127080" cy="1270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504960" y="2439720"/>
              <a:ext cx="0" cy="455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127680" y="2441520"/>
              <a:ext cx="76104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55" y="0"/>
                  </a:moveTo>
                  <a:arcTo wR="10800" hR="10800" stAng="-5414323" swAng="541432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55" y="0"/>
                  </a:moveTo>
                  <a:arcTo wR="10800" hR="10800" stAng="-5414323" swAng="5414323"/>
                </a:path>
              </a:pathLst>
            </a:custGeom>
            <a:noFill/>
            <a:ln cap="rnd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123720" y="2438280"/>
              <a:ext cx="76212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flipH="1">
              <a:off x="3125520" y="2514600"/>
              <a:ext cx="3794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flipH="1">
              <a:off x="3125520" y="2819160"/>
              <a:ext cx="3794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H="1">
              <a:off x="4039560" y="2666880"/>
              <a:ext cx="227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898800" y="2603520"/>
              <a:ext cx="127080" cy="1267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218960" y="2592360"/>
              <a:ext cx="0" cy="303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220760" y="2592360"/>
              <a:ext cx="226800" cy="150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flipH="1">
              <a:off x="1220760" y="2744640"/>
              <a:ext cx="226800" cy="150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460520" y="2679480"/>
              <a:ext cx="126720" cy="1270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839520" y="2743200"/>
              <a:ext cx="3794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flipH="1">
              <a:off x="1601280" y="2743200"/>
              <a:ext cx="150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218960" y="1982520"/>
              <a:ext cx="0" cy="303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220760" y="1982520"/>
              <a:ext cx="226800" cy="150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>
              <a:off x="1220760" y="2135160"/>
              <a:ext cx="226800" cy="150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460520" y="2070000"/>
              <a:ext cx="126720" cy="1270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839520" y="2133360"/>
              <a:ext cx="3794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1601640" y="2133360"/>
              <a:ext cx="3794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066680" y="2438280"/>
              <a:ext cx="1068480" cy="306360"/>
            </a:xfrm>
            <a:custGeom>
              <a:avLst/>
              <a:gdLst/>
              <a:ahLst/>
              <a:rect l="l" t="t" r="r" b="b"/>
              <a:pathLst>
                <a:path w="673" h="193">
                  <a:moveTo>
                    <a:pt x="0" y="192"/>
                  </a:moveTo>
                  <a:lnTo>
                    <a:pt x="0" y="0"/>
                  </a:lnTo>
                  <a:lnTo>
                    <a:pt x="672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990360" y="2133360"/>
              <a:ext cx="992160" cy="839880"/>
            </a:xfrm>
            <a:custGeom>
              <a:avLst/>
              <a:gdLst/>
              <a:ahLst/>
              <a:rect l="l" t="t" r="r" b="b"/>
              <a:pathLst>
                <a:path w="625" h="529">
                  <a:moveTo>
                    <a:pt x="624" y="528"/>
                  </a:moveTo>
                  <a:lnTo>
                    <a:pt x="0" y="528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752480" y="2743200"/>
              <a:ext cx="306360" cy="534960"/>
            </a:xfrm>
            <a:custGeom>
              <a:avLst/>
              <a:gdLst/>
              <a:ahLst/>
              <a:rect l="l" t="t" r="r" b="b"/>
              <a:pathLst>
                <a:path w="193" h="337">
                  <a:moveTo>
                    <a:pt x="0" y="0"/>
                  </a:moveTo>
                  <a:lnTo>
                    <a:pt x="0" y="336"/>
                  </a:lnTo>
                  <a:lnTo>
                    <a:pt x="20" y="329"/>
                  </a:lnTo>
                  <a:lnTo>
                    <a:pt x="192" y="33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124080" y="2286000"/>
              <a:ext cx="230040" cy="230040"/>
            </a:xfrm>
            <a:custGeom>
              <a:avLst/>
              <a:gdLst/>
              <a:ahLst/>
              <a:rect l="l" t="t" r="r" b="b"/>
              <a:pathLst>
                <a:path w="145" h="145">
                  <a:moveTo>
                    <a:pt x="0" y="0"/>
                  </a:moveTo>
                  <a:lnTo>
                    <a:pt x="0" y="144"/>
                  </a:lnTo>
                  <a:lnTo>
                    <a:pt x="144" y="144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124080" y="2819160"/>
              <a:ext cx="154080" cy="306360"/>
            </a:xfrm>
            <a:custGeom>
              <a:avLst/>
              <a:gdLst/>
              <a:ahLst/>
              <a:rect l="l" t="t" r="r" b="b"/>
              <a:pathLst>
                <a:path w="97" h="193">
                  <a:moveTo>
                    <a:pt x="0" y="192"/>
                  </a:moveTo>
                  <a:lnTo>
                    <a:pt x="0" y="0"/>
                  </a:lnTo>
                  <a:lnTo>
                    <a:pt x="96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80880" y="1981080"/>
              <a:ext cx="5335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80880" y="2590560"/>
              <a:ext cx="5335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962160" y="2286000"/>
              <a:ext cx="5335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9" name=""/>
          <p:cNvSpPr/>
          <p:nvPr/>
        </p:nvSpPr>
        <p:spPr>
          <a:xfrm>
            <a:off x="5101560" y="1938240"/>
            <a:ext cx="310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Lucida Sans Typewriter"/>
              </a:rPr>
              <a:t>if (function=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Lucida Sans Typewriter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Lucida Sans Typewriter"/>
              </a:rPr>
              <a:t>y = a-b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Lucida Sans Typewriter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Lucida Sans Typewriter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Lucida Sans Typewriter"/>
              </a:rPr>
              <a:t>y = a+b;</a:t>
            </a: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572000" y="1600200"/>
            <a:ext cx="0" cy="4952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sumindo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Atribuições não bloquean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Na </a:t>
            </a: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totalidade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da descrição que esta sendo simul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todos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os lados direitos são avalia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antes que algum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lado esquerdo seja atualiza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Isso permite 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tratar eventos concorrentes em sistemas grande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simplificar a descrição (evitar </a:t>
            </a: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#1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)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sincronizar tudo num evento só (o clock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ercíc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3" name="comp3" descr=""/>
          <p:cNvPicPr/>
          <p:nvPr/>
        </p:nvPicPr>
        <p:blipFill>
          <a:blip r:embed=""/>
          <a:stretch/>
        </p:blipFill>
        <p:spPr>
          <a:xfrm>
            <a:off x="7010280" y="4876920"/>
            <a:ext cx="1752840" cy="1549440"/>
          </a:xfrm>
          <a:prstGeom prst="rect">
            <a:avLst/>
          </a:prstGeom>
          <a:ln w="0">
            <a:noFill/>
          </a:ln>
        </p:spPr>
      </p:pic>
      <p:sp>
        <p:nvSpPr>
          <p:cNvPr id="934" name=""/>
          <p:cNvSpPr/>
          <p:nvPr/>
        </p:nvSpPr>
        <p:spPr>
          <a:xfrm>
            <a:off x="228600" y="1600200"/>
            <a:ext cx="83059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1719360"/>
                <a:tab algn="l" pos="3624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mular relógio de duas fases não sobrepost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1719360"/>
                <a:tab algn="l" pos="3624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screver um contador sobe/desce de 4 bi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719360"/>
                <a:tab algn="l" pos="3624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contador conta com a subida da primeira fa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1719360"/>
                <a:tab algn="l" pos="3624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 contador começa em 0, suba até 15, depois desce até 0, depois suba de nov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719360"/>
                <a:tab algn="l" pos="3624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s sinais de controle sobe/desce são registrados na segunda fa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400" spc="-1" strike="noStrike">
                <a:solidFill>
                  <a:srgbClr val="000000"/>
                </a:solidFill>
                <a:latin typeface="Times New Roman"/>
              </a:rPr>
              <a:t>Task</a:t>
            </a: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 - taref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Uma </a:t>
            </a:r>
            <a:r>
              <a:rPr b="0" i="1" lang="pt-BR" sz="3200" spc="-1" strike="noStrike">
                <a:solidFill>
                  <a:srgbClr val="000000"/>
                </a:solidFill>
                <a:latin typeface="Times New Roman"/>
              </a:rPr>
              <a:t>task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 funciona como uma subrotin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argumentos de entrada/saí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um bloco de atribuições seqüencia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pode ser chamado de dentro de outro bloco de atribuições seqüencia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622440" y="3886200"/>
            <a:ext cx="347256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task somad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input [3:0] a,b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output [3:0] x,y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   </a:t>
            </a: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x = a + b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   </a:t>
            </a: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#5 y = a - b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endta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4726800" y="4056120"/>
            <a:ext cx="4021200" cy="239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reg [3:0] r,s,u,v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always 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   </a:t>
            </a: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. 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   </a:t>
            </a: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somadif (r,s,u,v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   </a:t>
            </a: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. 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"/>
          <p:cNvSpPr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unçã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685800" y="1219320"/>
            <a:ext cx="7772400" cy="23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Uma </a:t>
            </a:r>
            <a:r>
              <a:rPr b="0" i="1" lang="pt-BR" sz="3200" spc="-1" strike="noStrike">
                <a:solidFill>
                  <a:srgbClr val="000000"/>
                </a:solidFill>
                <a:latin typeface="Times New Roman"/>
              </a:rPr>
              <a:t>function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 funciona como uma funçã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argumentos de entrada som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uma única saída atribuída na cham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não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pode usar controle de temp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325080" y="3429000"/>
            <a:ext cx="5484240" cy="239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function [3:0] som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input [3:0] a,b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soma[1:0] = a[3:2] + b[1:0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soma[3:2] = a[1:0] + b[3:2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end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649120" y="5638680"/>
            <a:ext cx="27410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Typewriter"/>
              </a:rPr>
              <a:t>x = soma(r,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Instruções condicionais</a:t>
            </a:r>
            <a:br>
              <a:rPr sz="4400"/>
            </a:br>
            <a:r>
              <a:rPr b="0" lang="pt-BR" sz="4000" spc="-1" strike="noStrike">
                <a:solidFill>
                  <a:srgbClr val="000000"/>
                </a:solidFill>
                <a:latin typeface="Lucida Sans Typewriter"/>
              </a:rPr>
              <a:t>if</a:t>
            </a: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 </a:t>
            </a: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0" lang="pt-BR" sz="4000" spc="-1" strike="noStrike">
                <a:solidFill>
                  <a:srgbClr val="000000"/>
                </a:solidFill>
                <a:latin typeface="Lucida Sans Typewriter"/>
              </a:rPr>
              <a:t>ca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Sans Typewri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Lucida Sans Typewriter"/>
              </a:rPr>
              <a:t>i</a:t>
            </a: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f(switch) Y = 1; </a:t>
            </a:r>
            <a:r>
              <a:rPr b="1" lang="pt-BR" sz="2400" spc="-1" strike="noStrike">
                <a:solidFill>
                  <a:srgbClr val="000000"/>
                </a:solidFill>
                <a:latin typeface="Lucida Sans Typewriter"/>
              </a:rPr>
              <a:t>else </a:t>
            </a: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Y = 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Sans Typewri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Lucida Sans Typewriter"/>
              </a:rPr>
              <a:t>cas</a:t>
            </a: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e(mux_select)</a:t>
            </a:r>
            <a:br>
              <a:rPr sz="2400"/>
            </a:b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  0: mux_output = a;</a:t>
            </a:r>
            <a:br>
              <a:rPr sz="2400"/>
            </a:b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  1: mux_output = b;</a:t>
            </a:r>
            <a:br>
              <a:rPr sz="2400"/>
            </a:b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  // se select=x ou z faca resultado=x. </a:t>
            </a:r>
            <a:br>
              <a:rPr sz="2400"/>
            </a:b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  </a:t>
            </a:r>
            <a:r>
              <a:rPr b="1" lang="pt-BR" sz="2400" spc="-1" strike="noStrike">
                <a:solidFill>
                  <a:srgbClr val="000000"/>
                </a:solidFill>
                <a:latin typeface="Lucida Sans Typewriter"/>
              </a:rPr>
              <a:t>default </a:t>
            </a: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mux_output = 1'bx;</a:t>
            </a:r>
            <a:br>
              <a:rPr sz="2400"/>
            </a:br>
            <a:r>
              <a:rPr b="1" lang="pt-BR" sz="2400" spc="-1" strike="noStrike">
                <a:solidFill>
                  <a:srgbClr val="000000"/>
                </a:solidFill>
                <a:latin typeface="Lucida Sans Typewriter"/>
              </a:rPr>
              <a:t>endc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Laços</a:t>
            </a:r>
            <a:r>
              <a:rPr b="0" lang="pt-BR" sz="3600" spc="-1" strike="noStrike">
                <a:solidFill>
                  <a:srgbClr val="000000"/>
                </a:solidFill>
                <a:latin typeface="Lucida Sans Typewriter"/>
              </a:rPr>
              <a:t> for </a:t>
            </a: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pt-BR" sz="3600" spc="-1" strike="noStrike">
                <a:solidFill>
                  <a:srgbClr val="000000"/>
                </a:solidFill>
                <a:latin typeface="Lucida Sans Typewriter"/>
              </a:rPr>
              <a:t> whi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50000"/>
              <a:buFont typeface="Lucida Sans Typewri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Lucida Sans Typewriter"/>
              </a:rPr>
              <a:t>fo</a:t>
            </a: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r(i = 0; i &lt;= 15; i = i+1)</a:t>
            </a:r>
            <a:br>
              <a:rPr sz="2400"/>
            </a:b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DataBus[i] =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50000"/>
              <a:buFont typeface="Lucida Sans Typewri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i = 0;</a:t>
            </a:r>
            <a:br>
              <a:rPr sz="2400"/>
            </a:br>
            <a:r>
              <a:rPr b="1" lang="pt-BR" sz="2400" spc="-1" strike="noStrike">
                <a:solidFill>
                  <a:srgbClr val="000000"/>
                </a:solidFill>
                <a:latin typeface="Lucida Sans Typewriter"/>
              </a:rPr>
              <a:t>whil</a:t>
            </a: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e(i &lt;= 15) </a:t>
            </a:r>
            <a:r>
              <a:rPr b="1" lang="pt-BR" sz="2400" spc="-1" strike="noStrike">
                <a:solidFill>
                  <a:srgbClr val="000000"/>
                </a:solidFill>
                <a:latin typeface="Lucida Sans Typewriter"/>
              </a:rPr>
              <a:t>begin</a:t>
            </a:r>
            <a:br>
              <a:rPr sz="2400"/>
            </a:br>
            <a:r>
              <a:rPr b="1" lang="pt-BR" sz="2400" spc="-1" strike="noStrike">
                <a:solidFill>
                  <a:srgbClr val="000000"/>
                </a:solidFill>
                <a:latin typeface="Lucida Sans Typewriter"/>
              </a:rPr>
              <a:t>   </a:t>
            </a: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DataBus[i] = 1;</a:t>
            </a:r>
            <a:br>
              <a:rPr sz="2400"/>
            </a:b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   i = i+1;</a:t>
            </a:r>
            <a:br>
              <a:rPr sz="2400"/>
            </a:br>
            <a:r>
              <a:rPr b="1" lang="pt-BR" sz="2400" spc="-1" strike="noStrike">
                <a:solidFill>
                  <a:srgbClr val="000000"/>
                </a:solidFill>
                <a:latin typeface="Lucida Sans Typewriter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"/>
          <p:cNvSpPr/>
          <p:nvPr/>
        </p:nvSpPr>
        <p:spPr>
          <a:xfrm>
            <a:off x="685800" y="6858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Laço</a:t>
            </a:r>
            <a:r>
              <a:rPr b="0" lang="pt-BR" sz="3600" spc="-1" strike="noStrike">
                <a:solidFill>
                  <a:srgbClr val="000000"/>
                </a:solidFill>
                <a:latin typeface="Lucida Sans Typewriter"/>
              </a:rPr>
              <a:t> repe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838080" y="2286000"/>
            <a:ext cx="640080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i = 0;</a:t>
            </a:r>
            <a:br>
              <a:rPr sz="2400"/>
            </a:br>
            <a:r>
              <a:rPr b="1" lang="pt-BR" sz="2400" spc="-1" strike="noStrike">
                <a:solidFill>
                  <a:srgbClr val="000000"/>
                </a:solidFill>
                <a:latin typeface="Lucida Sans Typewriter"/>
              </a:rPr>
              <a:t>repea</a:t>
            </a: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t(16) </a:t>
            </a:r>
            <a:r>
              <a:rPr b="1" lang="pt-BR" sz="2400" spc="-1" strike="noStrike">
                <a:solidFill>
                  <a:srgbClr val="000000"/>
                </a:solidFill>
                <a:latin typeface="Lucida Sans Typewriter"/>
              </a:rPr>
              <a:t>begin</a:t>
            </a:r>
            <a:br>
              <a:rPr sz="2400"/>
            </a:br>
            <a:r>
              <a:rPr b="1" lang="pt-BR" sz="2400" spc="-1" strike="noStrike">
                <a:solidFill>
                  <a:srgbClr val="000000"/>
                </a:solidFill>
                <a:latin typeface="Lucida Sans Typewriter"/>
              </a:rPr>
              <a:t>   </a:t>
            </a: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DataBus[i] = 1;</a:t>
            </a:r>
            <a:br>
              <a:rPr sz="2400"/>
            </a:b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   i = i+1;</a:t>
            </a:r>
            <a:br>
              <a:rPr sz="2400"/>
            </a:br>
            <a:r>
              <a:rPr b="1" lang="pt-BR" sz="2400" spc="-1" strike="noStrike">
                <a:solidFill>
                  <a:srgbClr val="000000"/>
                </a:solidFill>
                <a:latin typeface="Lucida Sans Typewriter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Bloco pode ter no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685800" y="2133720"/>
            <a:ext cx="77724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700200" y="2381400"/>
            <a:ext cx="38383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initial begin: elm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reg clk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#10 clk = 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#10 clk 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disable elma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#10 clk = 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4939560" y="4724280"/>
            <a:ext cx="336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i do bloco antes do f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3" name=""/>
          <p:cNvCxnSpPr>
            <a:stCxn id="952" idx="0"/>
          </p:cNvCxnSpPr>
          <p:nvPr/>
        </p:nvCxnSpPr>
        <p:spPr>
          <a:xfrm flipV="1" rot="16200000">
            <a:off x="5026320" y="3125520"/>
            <a:ext cx="686520" cy="2510640"/>
          </a:xfrm>
          <a:prstGeom prst="curvedConnector2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"/>
          <p:cNvSpPr/>
          <p:nvPr/>
        </p:nvSpPr>
        <p:spPr>
          <a:xfrm>
            <a:off x="68580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Laço</a:t>
            </a:r>
            <a:r>
              <a:rPr b="0" lang="pt-BR" sz="3600" spc="-1" strike="noStrike">
                <a:solidFill>
                  <a:srgbClr val="000000"/>
                </a:solidFill>
                <a:latin typeface="Lucida Sans Typewriter"/>
              </a:rPr>
              <a:t> forev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762120" y="1600200"/>
            <a:ext cx="7391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i = 0;</a:t>
            </a:r>
            <a:br>
              <a:rPr sz="2400"/>
            </a:br>
            <a:r>
              <a:rPr b="1" lang="pt-BR" sz="2400" spc="-1" strike="noStrike">
                <a:solidFill>
                  <a:srgbClr val="000000"/>
                </a:solidFill>
                <a:latin typeface="Lucida Sans Typewriter"/>
              </a:rPr>
              <a:t>begin</a:t>
            </a: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: laco</a:t>
            </a:r>
            <a:br>
              <a:rPr sz="2400"/>
            </a:b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   </a:t>
            </a:r>
            <a:r>
              <a:rPr b="1" lang="pt-BR" sz="2400" spc="-1" strike="noStrike">
                <a:solidFill>
                  <a:srgbClr val="000000"/>
                </a:solidFill>
                <a:latin typeface="Lucida Sans Typewriter"/>
              </a:rPr>
              <a:t>forever </a:t>
            </a: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begin</a:t>
            </a:r>
            <a:br>
              <a:rPr sz="2400"/>
            </a:b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      DataBus[i] = 1;</a:t>
            </a:r>
            <a:br>
              <a:rPr sz="2400"/>
            </a:b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      </a:t>
            </a:r>
            <a:r>
              <a:rPr b="1" lang="pt-BR" sz="2400" spc="-1" strike="noStrike">
                <a:solidFill>
                  <a:srgbClr val="000000"/>
                </a:solidFill>
                <a:latin typeface="Lucida Sans Typewriter"/>
              </a:rPr>
              <a:t>if </a:t>
            </a: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(i == 15) </a:t>
            </a:r>
            <a:r>
              <a:rPr b="1" lang="pt-BR" sz="2400" spc="-1" strike="noStrike">
                <a:solidFill>
                  <a:srgbClr val="000000"/>
                </a:solidFill>
                <a:latin typeface="Lucida Sans Typewriter"/>
              </a:rPr>
              <a:t>disable </a:t>
            </a: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laco;</a:t>
            </a:r>
            <a:br>
              <a:rPr sz="2400"/>
            </a:b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      i = i+1;</a:t>
            </a:r>
            <a:br>
              <a:rPr sz="2400"/>
            </a:b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   end</a:t>
            </a:r>
            <a:br>
              <a:rPr sz="2400"/>
            </a:br>
            <a:r>
              <a:rPr b="1" lang="pt-BR" sz="2400" spc="-1" strike="noStrike">
                <a:solidFill>
                  <a:srgbClr val="000000"/>
                </a:solidFill>
                <a:latin typeface="Lucida Sans Typewriter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ercíc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228600" y="1600200"/>
            <a:ext cx="83059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1719360"/>
                <a:tab algn="l" pos="3624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Descreve uma contagem com 4 bi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719360"/>
                <a:tab algn="l" pos="3624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subindo de 0 até 15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719360"/>
                <a:tab algn="l" pos="3624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depois descendo de 15 para 0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719360"/>
                <a:tab algn="l" pos="3624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depois sobe de novo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719360"/>
                <a:tab algn="l" pos="3624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depois desce de novo . .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1719360"/>
                <a:tab algn="l" pos="3624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Não implemente nenhum controle de temp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719360"/>
                <a:tab algn="l" pos="3624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task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, não use </a:t>
            </a: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8" name="comp3" descr=""/>
          <p:cNvPicPr/>
          <p:nvPr/>
        </p:nvPicPr>
        <p:blipFill>
          <a:blip r:embed=""/>
          <a:stretch/>
        </p:blipFill>
        <p:spPr>
          <a:xfrm>
            <a:off x="7010280" y="4876920"/>
            <a:ext cx="1752840" cy="15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Representação </a:t>
            </a:r>
            <a:br>
              <a:rPr sz="4400"/>
            </a:b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gráfica</a:t>
            </a: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vs.</a:t>
            </a: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textu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esentação gráfica melhor para domínio estrutu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esentação textual melhor para domínio comportamental, atingindo um nível de abstração mai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164000" y="1066680"/>
            <a:ext cx="1531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ntinuaçã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Schoolbook"/>
              </a:rPr>
              <a:t>Testben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685800" y="2438280"/>
            <a:ext cx="77724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entury Schoolbook"/>
              </a:rPr>
              <a:t>Chamadas ao sist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entury Schoolbook"/>
              </a:rPr>
              <a:t>Diretivas para o compilad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entury Schoolbook"/>
              </a:rPr>
              <a:t>Validação funcional por comparação automát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1" name="comp3" descr=""/>
          <p:cNvPicPr/>
          <p:nvPr/>
        </p:nvPicPr>
        <p:blipFill>
          <a:blip r:embed=""/>
          <a:stretch/>
        </p:blipFill>
        <p:spPr>
          <a:xfrm>
            <a:off x="7010280" y="4876920"/>
            <a:ext cx="1752840" cy="1549440"/>
          </a:xfrm>
          <a:prstGeom prst="rect">
            <a:avLst/>
          </a:prstGeom>
          <a:ln w="0">
            <a:noFill/>
          </a:ln>
        </p:spPr>
      </p:pic>
      <p:grpSp>
        <p:nvGrpSpPr>
          <p:cNvPr id="962" name=""/>
          <p:cNvGrpSpPr/>
          <p:nvPr/>
        </p:nvGrpSpPr>
        <p:grpSpPr>
          <a:xfrm>
            <a:off x="7315200" y="1295280"/>
            <a:ext cx="1490400" cy="2133360"/>
            <a:chOff x="7315200" y="1295280"/>
            <a:chExt cx="1490400" cy="2133360"/>
          </a:xfrm>
        </p:grpSpPr>
        <p:grpSp>
          <p:nvGrpSpPr>
            <p:cNvPr id="963" name=""/>
            <p:cNvGrpSpPr/>
            <p:nvPr/>
          </p:nvGrpSpPr>
          <p:grpSpPr>
            <a:xfrm>
              <a:off x="7315200" y="1295280"/>
              <a:ext cx="809280" cy="1044360"/>
              <a:chOff x="7315200" y="1295280"/>
              <a:chExt cx="809280" cy="1044360"/>
            </a:xfrm>
          </p:grpSpPr>
          <p:sp>
            <p:nvSpPr>
              <p:cNvPr id="964" name=""/>
              <p:cNvSpPr/>
              <p:nvPr/>
            </p:nvSpPr>
            <p:spPr>
              <a:xfrm>
                <a:off x="7315200" y="1295280"/>
                <a:ext cx="809280" cy="1044360"/>
              </a:xfrm>
              <a:custGeom>
                <a:avLst/>
                <a:gdLst/>
                <a:ahLst/>
                <a:rect l="l" t="t" r="r" b="b"/>
                <a:pathLst>
                  <a:path w="674" h="870">
                    <a:moveTo>
                      <a:pt x="664" y="182"/>
                    </a:moveTo>
                    <a:lnTo>
                      <a:pt x="668" y="114"/>
                    </a:lnTo>
                    <a:lnTo>
                      <a:pt x="635" y="51"/>
                    </a:lnTo>
                    <a:lnTo>
                      <a:pt x="571" y="0"/>
                    </a:lnTo>
                    <a:lnTo>
                      <a:pt x="474" y="22"/>
                    </a:lnTo>
                    <a:lnTo>
                      <a:pt x="389" y="80"/>
                    </a:lnTo>
                    <a:lnTo>
                      <a:pt x="283" y="127"/>
                    </a:lnTo>
                    <a:lnTo>
                      <a:pt x="169" y="174"/>
                    </a:lnTo>
                    <a:lnTo>
                      <a:pt x="63" y="238"/>
                    </a:lnTo>
                    <a:lnTo>
                      <a:pt x="0" y="297"/>
                    </a:lnTo>
                    <a:lnTo>
                      <a:pt x="13" y="314"/>
                    </a:lnTo>
                    <a:lnTo>
                      <a:pt x="131" y="424"/>
                    </a:lnTo>
                    <a:lnTo>
                      <a:pt x="173" y="483"/>
                    </a:lnTo>
                    <a:lnTo>
                      <a:pt x="182" y="539"/>
                    </a:lnTo>
                    <a:lnTo>
                      <a:pt x="186" y="611"/>
                    </a:lnTo>
                    <a:lnTo>
                      <a:pt x="194" y="704"/>
                    </a:lnTo>
                    <a:lnTo>
                      <a:pt x="216" y="802"/>
                    </a:lnTo>
                    <a:lnTo>
                      <a:pt x="249" y="856"/>
                    </a:lnTo>
                    <a:lnTo>
                      <a:pt x="283" y="869"/>
                    </a:lnTo>
                    <a:lnTo>
                      <a:pt x="321" y="840"/>
                    </a:lnTo>
                    <a:lnTo>
                      <a:pt x="385" y="802"/>
                    </a:lnTo>
                    <a:lnTo>
                      <a:pt x="452" y="759"/>
                    </a:lnTo>
                    <a:lnTo>
                      <a:pt x="528" y="729"/>
                    </a:lnTo>
                    <a:lnTo>
                      <a:pt x="597" y="720"/>
                    </a:lnTo>
                    <a:lnTo>
                      <a:pt x="630" y="666"/>
                    </a:lnTo>
                    <a:lnTo>
                      <a:pt x="655" y="585"/>
                    </a:lnTo>
                    <a:lnTo>
                      <a:pt x="673" y="454"/>
                    </a:lnTo>
                    <a:lnTo>
                      <a:pt x="668" y="339"/>
                    </a:lnTo>
                    <a:lnTo>
                      <a:pt x="660" y="272"/>
                    </a:lnTo>
                    <a:lnTo>
                      <a:pt x="630" y="272"/>
                    </a:lnTo>
                    <a:lnTo>
                      <a:pt x="635" y="386"/>
                    </a:lnTo>
                    <a:lnTo>
                      <a:pt x="635" y="509"/>
                    </a:lnTo>
                    <a:lnTo>
                      <a:pt x="617" y="581"/>
                    </a:lnTo>
                    <a:lnTo>
                      <a:pt x="588" y="666"/>
                    </a:lnTo>
                    <a:lnTo>
                      <a:pt x="521" y="700"/>
                    </a:lnTo>
                    <a:lnTo>
                      <a:pt x="427" y="725"/>
                    </a:lnTo>
                    <a:lnTo>
                      <a:pt x="351" y="767"/>
                    </a:lnTo>
                    <a:lnTo>
                      <a:pt x="279" y="818"/>
                    </a:lnTo>
                    <a:lnTo>
                      <a:pt x="249" y="784"/>
                    </a:lnTo>
                    <a:lnTo>
                      <a:pt x="232" y="713"/>
                    </a:lnTo>
                    <a:lnTo>
                      <a:pt x="224" y="619"/>
                    </a:lnTo>
                    <a:lnTo>
                      <a:pt x="216" y="521"/>
                    </a:lnTo>
                    <a:lnTo>
                      <a:pt x="186" y="437"/>
                    </a:lnTo>
                    <a:lnTo>
                      <a:pt x="102" y="348"/>
                    </a:lnTo>
                    <a:lnTo>
                      <a:pt x="63" y="301"/>
                    </a:lnTo>
                    <a:lnTo>
                      <a:pt x="67" y="284"/>
                    </a:lnTo>
                    <a:lnTo>
                      <a:pt x="173" y="212"/>
                    </a:lnTo>
                    <a:lnTo>
                      <a:pt x="279" y="165"/>
                    </a:lnTo>
                    <a:lnTo>
                      <a:pt x="368" y="123"/>
                    </a:lnTo>
                    <a:lnTo>
                      <a:pt x="423" y="98"/>
                    </a:lnTo>
                    <a:lnTo>
                      <a:pt x="478" y="64"/>
                    </a:lnTo>
                    <a:lnTo>
                      <a:pt x="512" y="47"/>
                    </a:lnTo>
                    <a:lnTo>
                      <a:pt x="567" y="42"/>
                    </a:lnTo>
                    <a:lnTo>
                      <a:pt x="601" y="72"/>
                    </a:lnTo>
                    <a:lnTo>
                      <a:pt x="626" y="119"/>
                    </a:lnTo>
                    <a:lnTo>
                      <a:pt x="626" y="161"/>
                    </a:lnTo>
                    <a:lnTo>
                      <a:pt x="630" y="203"/>
                    </a:lnTo>
                    <a:lnTo>
                      <a:pt x="664" y="182"/>
                    </a:lnTo>
                  </a:path>
                </a:pathLst>
              </a:cu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7695720" y="1614600"/>
                <a:ext cx="255600" cy="374400"/>
              </a:xfrm>
              <a:custGeom>
                <a:avLst/>
                <a:gdLst/>
                <a:ahLst/>
                <a:rect l="l" t="t" r="r" b="b"/>
                <a:pathLst>
                  <a:path w="213" h="312">
                    <a:moveTo>
                      <a:pt x="187" y="86"/>
                    </a:moveTo>
                    <a:lnTo>
                      <a:pt x="140" y="35"/>
                    </a:lnTo>
                    <a:lnTo>
                      <a:pt x="64" y="0"/>
                    </a:lnTo>
                    <a:lnTo>
                      <a:pt x="26" y="69"/>
                    </a:lnTo>
                    <a:lnTo>
                      <a:pt x="0" y="158"/>
                    </a:lnTo>
                    <a:lnTo>
                      <a:pt x="60" y="311"/>
                    </a:lnTo>
                    <a:lnTo>
                      <a:pt x="136" y="306"/>
                    </a:lnTo>
                    <a:lnTo>
                      <a:pt x="212" y="255"/>
                    </a:lnTo>
                    <a:lnTo>
                      <a:pt x="212" y="124"/>
                    </a:lnTo>
                    <a:lnTo>
                      <a:pt x="191" y="120"/>
                    </a:lnTo>
                    <a:lnTo>
                      <a:pt x="174" y="141"/>
                    </a:lnTo>
                    <a:lnTo>
                      <a:pt x="178" y="243"/>
                    </a:lnTo>
                    <a:lnTo>
                      <a:pt x="127" y="281"/>
                    </a:lnTo>
                    <a:lnTo>
                      <a:pt x="69" y="272"/>
                    </a:lnTo>
                    <a:lnTo>
                      <a:pt x="35" y="162"/>
                    </a:lnTo>
                    <a:lnTo>
                      <a:pt x="82" y="162"/>
                    </a:lnTo>
                    <a:lnTo>
                      <a:pt x="140" y="133"/>
                    </a:lnTo>
                    <a:lnTo>
                      <a:pt x="136" y="124"/>
                    </a:lnTo>
                    <a:lnTo>
                      <a:pt x="64" y="141"/>
                    </a:lnTo>
                    <a:lnTo>
                      <a:pt x="26" y="136"/>
                    </a:lnTo>
                    <a:lnTo>
                      <a:pt x="73" y="31"/>
                    </a:lnTo>
                    <a:lnTo>
                      <a:pt x="124" y="64"/>
                    </a:lnTo>
                    <a:lnTo>
                      <a:pt x="170" y="115"/>
                    </a:lnTo>
                    <a:lnTo>
                      <a:pt x="187" y="86"/>
                    </a:lnTo>
                  </a:path>
                </a:pathLst>
              </a:cu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66" name=""/>
            <p:cNvGrpSpPr/>
            <p:nvPr/>
          </p:nvGrpSpPr>
          <p:grpSpPr>
            <a:xfrm>
              <a:off x="7442640" y="1412640"/>
              <a:ext cx="1362960" cy="2016000"/>
              <a:chOff x="7442640" y="1412640"/>
              <a:chExt cx="1362960" cy="2016000"/>
            </a:xfrm>
          </p:grpSpPr>
          <p:sp>
            <p:nvSpPr>
              <p:cNvPr id="967" name=""/>
              <p:cNvSpPr/>
              <p:nvPr/>
            </p:nvSpPr>
            <p:spPr>
              <a:xfrm>
                <a:off x="7442640" y="1758240"/>
                <a:ext cx="1099080" cy="371880"/>
              </a:xfrm>
              <a:custGeom>
                <a:avLst/>
                <a:gdLst/>
                <a:ahLst/>
                <a:rect l="l" t="t" r="r" b="b"/>
                <a:pathLst>
                  <a:path w="915" h="310">
                    <a:moveTo>
                      <a:pt x="914" y="241"/>
                    </a:moveTo>
                    <a:lnTo>
                      <a:pt x="893" y="216"/>
                    </a:lnTo>
                    <a:lnTo>
                      <a:pt x="846" y="207"/>
                    </a:lnTo>
                    <a:lnTo>
                      <a:pt x="698" y="237"/>
                    </a:lnTo>
                    <a:lnTo>
                      <a:pt x="554" y="263"/>
                    </a:lnTo>
                    <a:lnTo>
                      <a:pt x="376" y="258"/>
                    </a:lnTo>
                    <a:lnTo>
                      <a:pt x="211" y="224"/>
                    </a:lnTo>
                    <a:lnTo>
                      <a:pt x="110" y="165"/>
                    </a:lnTo>
                    <a:lnTo>
                      <a:pt x="123" y="118"/>
                    </a:lnTo>
                    <a:lnTo>
                      <a:pt x="105" y="54"/>
                    </a:lnTo>
                    <a:lnTo>
                      <a:pt x="67" y="21"/>
                    </a:lnTo>
                    <a:lnTo>
                      <a:pt x="25" y="0"/>
                    </a:lnTo>
                    <a:lnTo>
                      <a:pt x="8" y="46"/>
                    </a:lnTo>
                    <a:lnTo>
                      <a:pt x="0" y="92"/>
                    </a:lnTo>
                    <a:lnTo>
                      <a:pt x="17" y="181"/>
                    </a:lnTo>
                    <a:lnTo>
                      <a:pt x="59" y="207"/>
                    </a:lnTo>
                    <a:lnTo>
                      <a:pt x="161" y="241"/>
                    </a:lnTo>
                    <a:lnTo>
                      <a:pt x="270" y="270"/>
                    </a:lnTo>
                    <a:lnTo>
                      <a:pt x="453" y="305"/>
                    </a:lnTo>
                    <a:lnTo>
                      <a:pt x="622" y="309"/>
                    </a:lnTo>
                    <a:lnTo>
                      <a:pt x="851" y="288"/>
                    </a:lnTo>
                    <a:lnTo>
                      <a:pt x="914" y="241"/>
                    </a:lnTo>
                  </a:path>
                </a:pathLst>
              </a:cu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8032320" y="1492920"/>
                <a:ext cx="595440" cy="530640"/>
              </a:xfrm>
              <a:custGeom>
                <a:avLst/>
                <a:gdLst/>
                <a:ahLst/>
                <a:rect l="l" t="t" r="r" b="b"/>
                <a:pathLst>
                  <a:path w="496" h="442">
                    <a:moveTo>
                      <a:pt x="482" y="441"/>
                    </a:moveTo>
                    <a:lnTo>
                      <a:pt x="495" y="399"/>
                    </a:lnTo>
                    <a:lnTo>
                      <a:pt x="469" y="361"/>
                    </a:lnTo>
                    <a:lnTo>
                      <a:pt x="385" y="327"/>
                    </a:lnTo>
                    <a:lnTo>
                      <a:pt x="287" y="318"/>
                    </a:lnTo>
                    <a:lnTo>
                      <a:pt x="220" y="297"/>
                    </a:lnTo>
                    <a:lnTo>
                      <a:pt x="177" y="259"/>
                    </a:lnTo>
                    <a:lnTo>
                      <a:pt x="131" y="174"/>
                    </a:lnTo>
                    <a:lnTo>
                      <a:pt x="93" y="81"/>
                    </a:lnTo>
                    <a:lnTo>
                      <a:pt x="93" y="34"/>
                    </a:lnTo>
                    <a:lnTo>
                      <a:pt x="71" y="9"/>
                    </a:lnTo>
                    <a:lnTo>
                      <a:pt x="42" y="0"/>
                    </a:lnTo>
                    <a:lnTo>
                      <a:pt x="12" y="22"/>
                    </a:lnTo>
                    <a:lnTo>
                      <a:pt x="0" y="68"/>
                    </a:lnTo>
                    <a:lnTo>
                      <a:pt x="4" y="127"/>
                    </a:lnTo>
                    <a:lnTo>
                      <a:pt x="20" y="170"/>
                    </a:lnTo>
                    <a:lnTo>
                      <a:pt x="38" y="170"/>
                    </a:lnTo>
                    <a:lnTo>
                      <a:pt x="46" y="153"/>
                    </a:lnTo>
                    <a:lnTo>
                      <a:pt x="71" y="149"/>
                    </a:lnTo>
                    <a:lnTo>
                      <a:pt x="118" y="212"/>
                    </a:lnTo>
                    <a:lnTo>
                      <a:pt x="173" y="310"/>
                    </a:lnTo>
                    <a:lnTo>
                      <a:pt x="211" y="352"/>
                    </a:lnTo>
                    <a:lnTo>
                      <a:pt x="287" y="377"/>
                    </a:lnTo>
                    <a:lnTo>
                      <a:pt x="376" y="403"/>
                    </a:lnTo>
                    <a:lnTo>
                      <a:pt x="435" y="424"/>
                    </a:lnTo>
                    <a:lnTo>
                      <a:pt x="482" y="441"/>
                    </a:lnTo>
                  </a:path>
                </a:pathLst>
              </a:cu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8250840" y="1945440"/>
                <a:ext cx="452880" cy="784080"/>
              </a:xfrm>
              <a:custGeom>
                <a:avLst/>
                <a:gdLst/>
                <a:ahLst/>
                <a:rect l="l" t="t" r="r" b="b"/>
                <a:pathLst>
                  <a:path w="377" h="653">
                    <a:moveTo>
                      <a:pt x="376" y="85"/>
                    </a:moveTo>
                    <a:lnTo>
                      <a:pt x="356" y="34"/>
                    </a:lnTo>
                    <a:lnTo>
                      <a:pt x="326" y="0"/>
                    </a:lnTo>
                    <a:lnTo>
                      <a:pt x="250" y="0"/>
                    </a:lnTo>
                    <a:lnTo>
                      <a:pt x="173" y="34"/>
                    </a:lnTo>
                    <a:lnTo>
                      <a:pt x="84" y="131"/>
                    </a:lnTo>
                    <a:lnTo>
                      <a:pt x="38" y="208"/>
                    </a:lnTo>
                    <a:lnTo>
                      <a:pt x="8" y="313"/>
                    </a:lnTo>
                    <a:lnTo>
                      <a:pt x="0" y="436"/>
                    </a:lnTo>
                    <a:lnTo>
                      <a:pt x="17" y="568"/>
                    </a:lnTo>
                    <a:lnTo>
                      <a:pt x="59" y="632"/>
                    </a:lnTo>
                    <a:lnTo>
                      <a:pt x="135" y="652"/>
                    </a:lnTo>
                    <a:lnTo>
                      <a:pt x="182" y="649"/>
                    </a:lnTo>
                    <a:lnTo>
                      <a:pt x="220" y="627"/>
                    </a:lnTo>
                    <a:lnTo>
                      <a:pt x="254" y="598"/>
                    </a:lnTo>
                    <a:lnTo>
                      <a:pt x="267" y="547"/>
                    </a:lnTo>
                    <a:lnTo>
                      <a:pt x="258" y="496"/>
                    </a:lnTo>
                    <a:lnTo>
                      <a:pt x="229" y="466"/>
                    </a:lnTo>
                    <a:lnTo>
                      <a:pt x="208" y="433"/>
                    </a:lnTo>
                    <a:lnTo>
                      <a:pt x="199" y="390"/>
                    </a:lnTo>
                    <a:lnTo>
                      <a:pt x="199" y="352"/>
                    </a:lnTo>
                    <a:lnTo>
                      <a:pt x="216" y="318"/>
                    </a:lnTo>
                    <a:lnTo>
                      <a:pt x="275" y="259"/>
                    </a:lnTo>
                    <a:lnTo>
                      <a:pt x="347" y="191"/>
                    </a:lnTo>
                    <a:lnTo>
                      <a:pt x="373" y="135"/>
                    </a:lnTo>
                    <a:lnTo>
                      <a:pt x="376" y="85"/>
                    </a:lnTo>
                  </a:path>
                </a:pathLst>
              </a:cu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8342280" y="1412640"/>
                <a:ext cx="463320" cy="412920"/>
              </a:xfrm>
              <a:custGeom>
                <a:avLst/>
                <a:gdLst/>
                <a:ahLst/>
                <a:rect l="l" t="t" r="r" b="b"/>
                <a:pathLst>
                  <a:path w="386" h="344">
                    <a:moveTo>
                      <a:pt x="102" y="186"/>
                    </a:moveTo>
                    <a:lnTo>
                      <a:pt x="131" y="127"/>
                    </a:lnTo>
                    <a:lnTo>
                      <a:pt x="186" y="55"/>
                    </a:lnTo>
                    <a:lnTo>
                      <a:pt x="237" y="8"/>
                    </a:lnTo>
                    <a:lnTo>
                      <a:pt x="297" y="0"/>
                    </a:lnTo>
                    <a:lnTo>
                      <a:pt x="347" y="17"/>
                    </a:lnTo>
                    <a:lnTo>
                      <a:pt x="381" y="59"/>
                    </a:lnTo>
                    <a:lnTo>
                      <a:pt x="385" y="118"/>
                    </a:lnTo>
                    <a:lnTo>
                      <a:pt x="360" y="203"/>
                    </a:lnTo>
                    <a:lnTo>
                      <a:pt x="297" y="283"/>
                    </a:lnTo>
                    <a:lnTo>
                      <a:pt x="224" y="339"/>
                    </a:lnTo>
                    <a:lnTo>
                      <a:pt x="157" y="343"/>
                    </a:lnTo>
                    <a:lnTo>
                      <a:pt x="115" y="326"/>
                    </a:lnTo>
                    <a:lnTo>
                      <a:pt x="106" y="301"/>
                    </a:lnTo>
                    <a:lnTo>
                      <a:pt x="102" y="263"/>
                    </a:lnTo>
                    <a:lnTo>
                      <a:pt x="51" y="271"/>
                    </a:lnTo>
                    <a:lnTo>
                      <a:pt x="17" y="288"/>
                    </a:lnTo>
                    <a:lnTo>
                      <a:pt x="0" y="263"/>
                    </a:lnTo>
                    <a:lnTo>
                      <a:pt x="17" y="245"/>
                    </a:lnTo>
                    <a:lnTo>
                      <a:pt x="72" y="225"/>
                    </a:lnTo>
                    <a:lnTo>
                      <a:pt x="106" y="212"/>
                    </a:lnTo>
                    <a:lnTo>
                      <a:pt x="102" y="186"/>
                    </a:lnTo>
                  </a:path>
                </a:pathLst>
              </a:cu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8312040" y="2597760"/>
                <a:ext cx="284400" cy="774360"/>
              </a:xfrm>
              <a:custGeom>
                <a:avLst/>
                <a:gdLst/>
                <a:ahLst/>
                <a:rect l="l" t="t" r="r" b="b"/>
                <a:pathLst>
                  <a:path w="237" h="645">
                    <a:moveTo>
                      <a:pt x="178" y="0"/>
                    </a:moveTo>
                    <a:lnTo>
                      <a:pt x="135" y="4"/>
                    </a:lnTo>
                    <a:lnTo>
                      <a:pt x="105" y="59"/>
                    </a:lnTo>
                    <a:lnTo>
                      <a:pt x="114" y="115"/>
                    </a:lnTo>
                    <a:lnTo>
                      <a:pt x="127" y="229"/>
                    </a:lnTo>
                    <a:lnTo>
                      <a:pt x="122" y="301"/>
                    </a:lnTo>
                    <a:lnTo>
                      <a:pt x="127" y="373"/>
                    </a:lnTo>
                    <a:lnTo>
                      <a:pt x="160" y="521"/>
                    </a:lnTo>
                    <a:lnTo>
                      <a:pt x="169" y="559"/>
                    </a:lnTo>
                    <a:lnTo>
                      <a:pt x="160" y="568"/>
                    </a:lnTo>
                    <a:lnTo>
                      <a:pt x="114" y="543"/>
                    </a:lnTo>
                    <a:lnTo>
                      <a:pt x="38" y="530"/>
                    </a:lnTo>
                    <a:lnTo>
                      <a:pt x="0" y="547"/>
                    </a:lnTo>
                    <a:lnTo>
                      <a:pt x="4" y="576"/>
                    </a:lnTo>
                    <a:lnTo>
                      <a:pt x="55" y="589"/>
                    </a:lnTo>
                    <a:lnTo>
                      <a:pt x="114" y="594"/>
                    </a:lnTo>
                    <a:lnTo>
                      <a:pt x="173" y="619"/>
                    </a:lnTo>
                    <a:lnTo>
                      <a:pt x="219" y="644"/>
                    </a:lnTo>
                    <a:lnTo>
                      <a:pt x="236" y="632"/>
                    </a:lnTo>
                    <a:lnTo>
                      <a:pt x="236" y="589"/>
                    </a:lnTo>
                    <a:lnTo>
                      <a:pt x="203" y="509"/>
                    </a:lnTo>
                    <a:lnTo>
                      <a:pt x="185" y="415"/>
                    </a:lnTo>
                    <a:lnTo>
                      <a:pt x="178" y="284"/>
                    </a:lnTo>
                    <a:lnTo>
                      <a:pt x="194" y="166"/>
                    </a:lnTo>
                    <a:lnTo>
                      <a:pt x="211" y="72"/>
                    </a:lnTo>
                    <a:lnTo>
                      <a:pt x="194" y="0"/>
                    </a:lnTo>
                    <a:lnTo>
                      <a:pt x="178" y="0"/>
                    </a:lnTo>
                  </a:path>
                </a:pathLst>
              </a:cu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7981920" y="2526840"/>
                <a:ext cx="458640" cy="901800"/>
              </a:xfrm>
              <a:custGeom>
                <a:avLst/>
                <a:gdLst/>
                <a:ahLst/>
                <a:rect l="l" t="t" r="r" b="b"/>
                <a:pathLst>
                  <a:path w="382" h="751">
                    <a:moveTo>
                      <a:pt x="300" y="8"/>
                    </a:moveTo>
                    <a:lnTo>
                      <a:pt x="359" y="0"/>
                    </a:lnTo>
                    <a:lnTo>
                      <a:pt x="381" y="42"/>
                    </a:lnTo>
                    <a:lnTo>
                      <a:pt x="359" y="92"/>
                    </a:lnTo>
                    <a:lnTo>
                      <a:pt x="300" y="177"/>
                    </a:lnTo>
                    <a:lnTo>
                      <a:pt x="254" y="301"/>
                    </a:lnTo>
                    <a:lnTo>
                      <a:pt x="237" y="402"/>
                    </a:lnTo>
                    <a:lnTo>
                      <a:pt x="245" y="508"/>
                    </a:lnTo>
                    <a:lnTo>
                      <a:pt x="262" y="644"/>
                    </a:lnTo>
                    <a:lnTo>
                      <a:pt x="279" y="720"/>
                    </a:lnTo>
                    <a:lnTo>
                      <a:pt x="270" y="750"/>
                    </a:lnTo>
                    <a:lnTo>
                      <a:pt x="241" y="750"/>
                    </a:lnTo>
                    <a:lnTo>
                      <a:pt x="186" y="724"/>
                    </a:lnTo>
                    <a:lnTo>
                      <a:pt x="101" y="707"/>
                    </a:lnTo>
                    <a:lnTo>
                      <a:pt x="12" y="707"/>
                    </a:lnTo>
                    <a:lnTo>
                      <a:pt x="0" y="682"/>
                    </a:lnTo>
                    <a:lnTo>
                      <a:pt x="50" y="648"/>
                    </a:lnTo>
                    <a:lnTo>
                      <a:pt x="76" y="648"/>
                    </a:lnTo>
                    <a:lnTo>
                      <a:pt x="186" y="682"/>
                    </a:lnTo>
                    <a:lnTo>
                      <a:pt x="219" y="695"/>
                    </a:lnTo>
                    <a:lnTo>
                      <a:pt x="228" y="678"/>
                    </a:lnTo>
                    <a:lnTo>
                      <a:pt x="212" y="568"/>
                    </a:lnTo>
                    <a:lnTo>
                      <a:pt x="190" y="449"/>
                    </a:lnTo>
                    <a:lnTo>
                      <a:pt x="186" y="343"/>
                    </a:lnTo>
                    <a:lnTo>
                      <a:pt x="203" y="237"/>
                    </a:lnTo>
                    <a:lnTo>
                      <a:pt x="232" y="114"/>
                    </a:lnTo>
                    <a:lnTo>
                      <a:pt x="266" y="21"/>
                    </a:lnTo>
                    <a:lnTo>
                      <a:pt x="300" y="8"/>
                    </a:lnTo>
                  </a:path>
                </a:pathLst>
              </a:cu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stbench e DU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3657600" y="3733920"/>
            <a:ext cx="1981080" cy="1904760"/>
          </a:xfrm>
          <a:prstGeom prst="rect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14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Dev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U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1981080" y="3505320"/>
            <a:ext cx="137160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5943600" y="3505320"/>
            <a:ext cx="137160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1981080" y="2362320"/>
            <a:ext cx="5334120" cy="1143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estbenc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1828800" y="2209680"/>
            <a:ext cx="5638680" cy="388620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3352680" y="4343400"/>
            <a:ext cx="30492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3352680" y="4572000"/>
            <a:ext cx="30492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3352680" y="4800600"/>
            <a:ext cx="30492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3352680" y="5029200"/>
            <a:ext cx="30492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5638680" y="4343400"/>
            <a:ext cx="30492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5638680" y="4572000"/>
            <a:ext cx="30492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5638680" y="4800600"/>
            <a:ext cx="30492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5638680" y="5029200"/>
            <a:ext cx="30492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1764360" y="175248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module test_du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stben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Gerar sinais de entrada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instanciar o DUT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processar e apresentar sinais de saída em interface gráfica ou arquivo de text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Um testbench não tem entradas/saídas extern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Um testbench usa pelo menos um </a:t>
            </a: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initial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erarquia de módul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2440080" y="2978280"/>
            <a:ext cx="1227960" cy="366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trutu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2211480" y="4730760"/>
            <a:ext cx="1211040" cy="366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i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3579480" y="2063880"/>
            <a:ext cx="3288240" cy="366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testbench comportamen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1297080" y="3816360"/>
            <a:ext cx="1227960" cy="366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trutu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3276720" y="3816360"/>
            <a:ext cx="2058480" cy="366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rtamen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687240" y="4730760"/>
            <a:ext cx="1211040" cy="366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i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3886200" y="4730760"/>
            <a:ext cx="2058480" cy="366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rtamen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7164360" y="2978280"/>
            <a:ext cx="1211040" cy="366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i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4496040" y="2978280"/>
            <a:ext cx="2058480" cy="366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rtamen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6170760" y="4730760"/>
            <a:ext cx="2058480" cy="366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rtamen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1" name=""/>
          <p:cNvCxnSpPr>
            <a:stCxn id="993" idx="2"/>
            <a:endCxn id="991" idx="0"/>
          </p:cNvCxnSpPr>
          <p:nvPr/>
        </p:nvCxnSpPr>
        <p:spPr>
          <a:xfrm flipH="1">
            <a:off x="3053880" y="2438280"/>
            <a:ext cx="2170800" cy="540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2" name=""/>
          <p:cNvCxnSpPr>
            <a:stCxn id="991" idx="2"/>
            <a:endCxn id="994" idx="0"/>
          </p:cNvCxnSpPr>
          <p:nvPr/>
        </p:nvCxnSpPr>
        <p:spPr>
          <a:xfrm flipH="1">
            <a:off x="1910520" y="3352680"/>
            <a:ext cx="1143720" cy="464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3" name=""/>
          <p:cNvCxnSpPr>
            <a:endCxn id="995" idx="0"/>
          </p:cNvCxnSpPr>
          <p:nvPr/>
        </p:nvCxnSpPr>
        <p:spPr>
          <a:xfrm>
            <a:off x="3462480" y="3359160"/>
            <a:ext cx="8452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4" name=""/>
          <p:cNvCxnSpPr>
            <a:endCxn id="996" idx="0"/>
          </p:cNvCxnSpPr>
          <p:nvPr/>
        </p:nvCxnSpPr>
        <p:spPr>
          <a:xfrm flipH="1">
            <a:off x="1293120" y="4197240"/>
            <a:ext cx="687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5" name=""/>
          <p:cNvCxnSpPr>
            <a:stCxn id="995" idx="2"/>
            <a:endCxn id="997" idx="0"/>
          </p:cNvCxnSpPr>
          <p:nvPr/>
        </p:nvCxnSpPr>
        <p:spPr>
          <a:xfrm>
            <a:off x="4306680" y="4190760"/>
            <a:ext cx="610200" cy="540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6" name=""/>
          <p:cNvCxnSpPr>
            <a:stCxn id="995" idx="2"/>
            <a:endCxn id="992" idx="0"/>
          </p:cNvCxnSpPr>
          <p:nvPr/>
        </p:nvCxnSpPr>
        <p:spPr>
          <a:xfrm flipH="1">
            <a:off x="2817000" y="4190760"/>
            <a:ext cx="1490040" cy="540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7" name=""/>
          <p:cNvCxnSpPr>
            <a:stCxn id="994" idx="2"/>
            <a:endCxn id="997" idx="0"/>
          </p:cNvCxnSpPr>
          <p:nvPr/>
        </p:nvCxnSpPr>
        <p:spPr>
          <a:xfrm>
            <a:off x="1911240" y="4190760"/>
            <a:ext cx="3006000" cy="540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8" name=""/>
          <p:cNvCxnSpPr>
            <a:stCxn id="995" idx="2"/>
            <a:endCxn id="1000" idx="0"/>
          </p:cNvCxnSpPr>
          <p:nvPr/>
        </p:nvCxnSpPr>
        <p:spPr>
          <a:xfrm>
            <a:off x="4306680" y="4190760"/>
            <a:ext cx="2894760" cy="540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9" name=""/>
          <p:cNvCxnSpPr>
            <a:stCxn id="993" idx="2"/>
            <a:endCxn id="999" idx="0"/>
          </p:cNvCxnSpPr>
          <p:nvPr/>
        </p:nvCxnSpPr>
        <p:spPr>
          <a:xfrm>
            <a:off x="5224320" y="2438280"/>
            <a:ext cx="302400" cy="540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0" name=""/>
          <p:cNvCxnSpPr>
            <a:stCxn id="993" idx="2"/>
            <a:endCxn id="998" idx="0"/>
          </p:cNvCxnSpPr>
          <p:nvPr/>
        </p:nvCxnSpPr>
        <p:spPr>
          <a:xfrm>
            <a:off x="5224320" y="2438280"/>
            <a:ext cx="2547360" cy="540720"/>
          </a:xfrm>
          <a:prstGeom prst="straightConnector1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madas ao sist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madas ao simulad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rminar simulaç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ormar mudança de sin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rificar relações entre sina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madas ao sistema operac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brir arquiv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r/escrever arquiv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hamadas ao sistema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lacionadas ao tempo simulad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$time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$realtime</a:t>
            </a:r>
            <a:br>
              <a:rPr sz="2400"/>
            </a:b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funções sem argumento que retornam o tempo simulado como inteiro ou real</a:t>
            </a:r>
            <a:br>
              <a:rPr sz="3200"/>
            </a:b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hamadas ao sistema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lacionadas ao tempo simulad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$width(event, limit);</a:t>
            </a:r>
            <a:br>
              <a:rPr sz="3200"/>
            </a:b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verifica o tempo mínimo entre uma ocorrências</a:t>
            </a:r>
            <a:br>
              <a:rPr sz="2800"/>
            </a:b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de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event 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e da ocorrência de seu contrário</a:t>
            </a:r>
            <a:br>
              <a:rPr sz="3200"/>
            </a:b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$width(posedge clock, 20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$period(event, limit);</a:t>
            </a:r>
            <a:br>
              <a:rPr sz="3200"/>
            </a:b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verifica o tempo mínimo entre duas</a:t>
            </a:r>
            <a:br>
              <a:rPr sz="3200"/>
            </a:b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ocorrências de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event</a:t>
            </a:r>
            <a:br>
              <a:rPr sz="3000"/>
            </a:b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$period(posedge</a:t>
            </a:r>
            <a:r>
              <a:rPr b="1" lang="pt-BR" sz="2400" spc="-1" strike="noStrike">
                <a:solidFill>
                  <a:srgbClr val="000000"/>
                </a:solidFill>
                <a:latin typeface="Lucida Sans Typewriter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clock, 50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7" name=""/>
          <p:cNvGrpSpPr/>
          <p:nvPr/>
        </p:nvGrpSpPr>
        <p:grpSpPr>
          <a:xfrm>
            <a:off x="7647120" y="1981080"/>
            <a:ext cx="1219320" cy="463680"/>
            <a:chOff x="7647120" y="1981080"/>
            <a:chExt cx="1219320" cy="463680"/>
          </a:xfrm>
        </p:grpSpPr>
        <p:sp>
          <p:nvSpPr>
            <p:cNvPr id="1018" name=""/>
            <p:cNvSpPr/>
            <p:nvPr/>
          </p:nvSpPr>
          <p:spPr>
            <a:xfrm>
              <a:off x="7649280" y="1981080"/>
              <a:ext cx="1213200" cy="459720"/>
            </a:xfrm>
            <a:prstGeom prst="rect">
              <a:avLst/>
            </a:prstGeom>
            <a:noFill/>
            <a:ln w="63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imes New Roman"/>
                </a:rPr>
                <a:t>vlogcm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 flipV="1">
              <a:off x="7647120" y="1987560"/>
              <a:ext cx="1219320" cy="457200"/>
            </a:xfrm>
            <a:prstGeom prst="line">
              <a:avLst/>
            </a:prstGeom>
            <a:ln w="63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0" name=""/>
          <p:cNvGrpSpPr/>
          <p:nvPr/>
        </p:nvGrpSpPr>
        <p:grpSpPr>
          <a:xfrm>
            <a:off x="7647120" y="3809880"/>
            <a:ext cx="1219320" cy="463680"/>
            <a:chOff x="7647120" y="3809880"/>
            <a:chExt cx="1219320" cy="463680"/>
          </a:xfrm>
        </p:grpSpPr>
        <p:sp>
          <p:nvSpPr>
            <p:cNvPr id="1021" name=""/>
            <p:cNvSpPr/>
            <p:nvPr/>
          </p:nvSpPr>
          <p:spPr>
            <a:xfrm>
              <a:off x="7649280" y="3809880"/>
              <a:ext cx="1213200" cy="459720"/>
            </a:xfrm>
            <a:prstGeom prst="rect">
              <a:avLst/>
            </a:prstGeom>
            <a:noFill/>
            <a:ln w="63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imes New Roman"/>
                </a:rPr>
                <a:t>vlogcm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 flipV="1">
              <a:off x="7647120" y="3816360"/>
              <a:ext cx="1219320" cy="457200"/>
            </a:xfrm>
            <a:prstGeom prst="line">
              <a:avLst/>
            </a:prstGeom>
            <a:ln w="63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hamadas ao sistema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lacionadas ao tempo simulad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$setup(data_event, reference_event, limit);</a:t>
            </a:r>
            <a:br>
              <a:rPr sz="2400"/>
            </a:b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verifica o tempo mínimo entre</a:t>
            </a:r>
            <a:br>
              <a:rPr sz="2800"/>
            </a:b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data_event 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reference_event</a:t>
            </a:r>
            <a:br>
              <a:rPr sz="2800"/>
            </a:b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$setup(data, posedge</a:t>
            </a:r>
            <a:r>
              <a:rPr b="1" lang="pt-BR" sz="2400" spc="-1" strike="noStrike">
                <a:solidFill>
                  <a:srgbClr val="000000"/>
                </a:solidFill>
                <a:latin typeface="Lucida Sans Typewriter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clock, 5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$hold(reference_event, data_event, limit); 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verifica o tempo mínimo entre</a:t>
            </a:r>
            <a:br>
              <a:rPr sz="2800"/>
            </a:b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reference_event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data_event </a:t>
            </a:r>
            <a:br>
              <a:rPr sz="2800"/>
            </a:b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$hold(posedge</a:t>
            </a:r>
            <a:r>
              <a:rPr b="1" lang="pt-BR" sz="2400" spc="-1" strike="noStrike">
                <a:solidFill>
                  <a:srgbClr val="000000"/>
                </a:solidFill>
                <a:latin typeface="Lucida Sans Typewriter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clock, data, 5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5" name=""/>
          <p:cNvGrpSpPr/>
          <p:nvPr/>
        </p:nvGrpSpPr>
        <p:grpSpPr>
          <a:xfrm>
            <a:off x="7647120" y="2666880"/>
            <a:ext cx="1219320" cy="463680"/>
            <a:chOff x="7647120" y="2666880"/>
            <a:chExt cx="1219320" cy="463680"/>
          </a:xfrm>
        </p:grpSpPr>
        <p:sp>
          <p:nvSpPr>
            <p:cNvPr id="1026" name=""/>
            <p:cNvSpPr/>
            <p:nvPr/>
          </p:nvSpPr>
          <p:spPr>
            <a:xfrm>
              <a:off x="7649280" y="2666880"/>
              <a:ext cx="1213200" cy="459720"/>
            </a:xfrm>
            <a:prstGeom prst="rect">
              <a:avLst/>
            </a:prstGeom>
            <a:noFill/>
            <a:ln w="63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imes New Roman"/>
                </a:rPr>
                <a:t>vlogcm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 flipV="1">
              <a:off x="7647120" y="2673360"/>
              <a:ext cx="1219320" cy="457200"/>
            </a:xfrm>
            <a:prstGeom prst="line">
              <a:avLst/>
            </a:prstGeom>
            <a:ln w="63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8" name=""/>
          <p:cNvGrpSpPr/>
          <p:nvPr/>
        </p:nvGrpSpPr>
        <p:grpSpPr>
          <a:xfrm>
            <a:off x="7647120" y="4419720"/>
            <a:ext cx="1219320" cy="463680"/>
            <a:chOff x="7647120" y="4419720"/>
            <a:chExt cx="1219320" cy="463680"/>
          </a:xfrm>
        </p:grpSpPr>
        <p:sp>
          <p:nvSpPr>
            <p:cNvPr id="1029" name=""/>
            <p:cNvSpPr/>
            <p:nvPr/>
          </p:nvSpPr>
          <p:spPr>
            <a:xfrm>
              <a:off x="7649280" y="4419720"/>
              <a:ext cx="1213200" cy="459720"/>
            </a:xfrm>
            <a:prstGeom prst="rect">
              <a:avLst/>
            </a:prstGeom>
            <a:noFill/>
            <a:ln w="63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imes New Roman"/>
                </a:rPr>
                <a:t>vlogcm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 flipV="1">
              <a:off x="7647120" y="4426200"/>
              <a:ext cx="1219320" cy="457200"/>
            </a:xfrm>
            <a:prstGeom prst="line">
              <a:avLst/>
            </a:prstGeom>
            <a:ln w="63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hamadas ao sistema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ara apresentação de resultad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$monitor</a:t>
            </a:r>
            <a:br>
              <a:rPr sz="3200"/>
            </a:b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imprime a mensagem toda vez que ocorre um evento num dos argumen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$display, $write</a:t>
            </a:r>
            <a:br>
              <a:rPr sz="3200"/>
            </a:b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imprime a mensagem quando chamado;</a:t>
            </a:r>
            <a:br>
              <a:rPr sz="3200"/>
            </a:b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$display 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avança de uma linha, </a:t>
            </a: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$write 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não.</a:t>
            </a:r>
            <a:br>
              <a:rPr sz="3200"/>
            </a:b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$display(“tempo em“, $realtime, “ns”);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matação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o em 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34" name=""/>
          <p:cNvGraphicFramePr/>
          <p:nvPr/>
        </p:nvGraphicFramePr>
        <p:xfrm>
          <a:off x="828720" y="1905120"/>
          <a:ext cx="6105600" cy="4408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8720" y="1905120"/>
                    <a:ext cx="6105600" cy="440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6" name=""/>
          <p:cNvSpPr/>
          <p:nvPr/>
        </p:nvSpPr>
        <p:spPr>
          <a:xfrm>
            <a:off x="7232760" y="2778120"/>
            <a:ext cx="109512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Typewriter"/>
              </a:rPr>
              <a:t>%5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Lucida Sans Typewriter"/>
              </a:rPr>
              <a:t>%6.2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1143000" y="1980720"/>
            <a:ext cx="7315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pressar ações concorren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pressar tempo (atraso, clock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mitir descrição comportamental, estrutural e fís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mitir mesclar diferentes vistas de diferentes subsistem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mitir simulação, síntese e verificaçã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 fácil e seguro de us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priedades desejávei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 uma HD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hamadas ao sistema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ara apresentação de resultad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file_handle = $fopen(“filename”);</a:t>
            </a:r>
            <a:br>
              <a:rPr sz="3200"/>
            </a:b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abre um arquivo (se erro, file_handle=0)</a:t>
            </a:r>
            <a:br>
              <a:rPr sz="3200"/>
            </a:b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integer fh;</a:t>
            </a:r>
            <a:br>
              <a:rPr sz="2400"/>
            </a:b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fh = $fopen(“resultado.txt”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$fdisplay(file_handle, message)</a:t>
            </a:r>
            <a:br>
              <a:rPr sz="3200"/>
            </a:b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como $display, mas para arquivo aber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$fclose(file_handle);</a:t>
            </a:r>
            <a:br>
              <a:rPr sz="2400"/>
            </a:b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fecha arquiv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hamadas ao sistema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ara obter valores de entrad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304920" y="1981080"/>
            <a:ext cx="838188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$random</a:t>
            </a:r>
            <a:br>
              <a:rPr sz="3200"/>
            </a:b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retorna um número pseudo-aleatório</a:t>
            </a:r>
            <a:br>
              <a:rPr sz="3200"/>
            </a:b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jogar_dado = $random % 6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$readmem</a:t>
            </a:r>
            <a:r>
              <a:rPr b="1" lang="pt-BR" sz="2400" spc="-1" strike="noStrike">
                <a:solidFill>
                  <a:srgbClr val="000000"/>
                </a:solidFill>
                <a:latin typeface="Century Schoolbook"/>
              </a:rPr>
              <a:t>r</a:t>
            </a: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(”nome_arquivo", array);</a:t>
            </a:r>
            <a:br>
              <a:rPr sz="3200"/>
            </a:b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preenche array a partir de dados encontrados no arquivo; </a:t>
            </a:r>
            <a:r>
              <a:rPr b="1" lang="pt-BR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 pode ser </a:t>
            </a: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d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b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o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 ou </a:t>
            </a: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h</a:t>
            </a:r>
            <a:br>
              <a:rPr sz="3200"/>
            </a:b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reg [7:0] m [0:127];</a:t>
            </a:r>
            <a:br>
              <a:rPr sz="2400"/>
            </a:b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$readmemh(“memoria.dat”,m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1" name=""/>
          <p:cNvGrpSpPr/>
          <p:nvPr/>
        </p:nvGrpSpPr>
        <p:grpSpPr>
          <a:xfrm>
            <a:off x="5865480" y="4495680"/>
            <a:ext cx="3017880" cy="1572120"/>
            <a:chOff x="5865480" y="4495680"/>
            <a:chExt cx="3017880" cy="1572120"/>
          </a:xfrm>
        </p:grpSpPr>
        <p:sp>
          <p:nvSpPr>
            <p:cNvPr id="1042" name=""/>
            <p:cNvSpPr/>
            <p:nvPr/>
          </p:nvSpPr>
          <p:spPr>
            <a:xfrm>
              <a:off x="5959440" y="4876560"/>
              <a:ext cx="2923920" cy="1191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Sans Typewriter"/>
                </a:rPr>
                <a:t>@0 23 45 6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Sans Typewriter"/>
                </a:rPr>
                <a:t>A1 F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Sans Typewriter"/>
                </a:rPr>
                <a:t>@50 66 77 88 9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5865480" y="4495680"/>
              <a:ext cx="171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imes New Roman"/>
                </a:rPr>
                <a:t>memoria.da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hamadas ao sistema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ara terminar a simulaçã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$stop;</a:t>
            </a:r>
            <a:br>
              <a:rPr sz="3200"/>
            </a:b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suspende a simulação e dá acesso a interface de usuário simulad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$finish;</a:t>
            </a:r>
            <a:br>
              <a:rPr sz="3200"/>
            </a:b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termina a simulação  e sai do simulad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retivas ao compilad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`define</a:t>
            </a:r>
            <a:br>
              <a:rPr sz="2400"/>
            </a:b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define uma equivalência textual</a:t>
            </a:r>
            <a:br>
              <a:rPr sz="3200"/>
            </a:b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`define BUS32  wire [31:0]</a:t>
            </a:r>
            <a:br>
              <a:rPr sz="2400"/>
            </a:b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`BUS32 Amem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`include</a:t>
            </a:r>
            <a:br>
              <a:rPr sz="2400"/>
            </a:b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inclui textualmente o conteúdo de um arquivo</a:t>
            </a:r>
            <a:br>
              <a:rPr sz="3200"/>
            </a:b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`include “globals.inc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`timescale</a:t>
            </a:r>
            <a:br>
              <a:rPr sz="2400"/>
            </a:b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já vis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"/>
          <p:cNvSpPr/>
          <p:nvPr/>
        </p:nvSpPr>
        <p:spPr>
          <a:xfrm>
            <a:off x="4724280" y="762120"/>
            <a:ext cx="3505320" cy="9144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457200" y="2590920"/>
            <a:ext cx="4572000" cy="25905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luxo de projeto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ando Verilo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1625400" y="1981080"/>
            <a:ext cx="18770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pecifica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838080" y="2819520"/>
            <a:ext cx="34635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crição comportamen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1246680" y="4486320"/>
            <a:ext cx="26326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crição estrutu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2037240" y="5334120"/>
            <a:ext cx="10447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yo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5640120" y="243828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1536840" y="3657600"/>
            <a:ext cx="20523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crição 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5637600" y="4952880"/>
            <a:ext cx="236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Função &amp; Ti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8" name=""/>
          <p:cNvGrpSpPr/>
          <p:nvPr/>
        </p:nvGrpSpPr>
        <p:grpSpPr>
          <a:xfrm>
            <a:off x="4724280" y="2438280"/>
            <a:ext cx="533520" cy="533160"/>
            <a:chOff x="4724280" y="2438280"/>
            <a:chExt cx="533520" cy="533160"/>
          </a:xfrm>
        </p:grpSpPr>
        <p:sp>
          <p:nvSpPr>
            <p:cNvPr id="1059" name=""/>
            <p:cNvSpPr/>
            <p:nvPr/>
          </p:nvSpPr>
          <p:spPr>
            <a:xfrm>
              <a:off x="4724280" y="2438280"/>
              <a:ext cx="533520" cy="5331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4876920" y="266688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4876920" y="274284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2" name=""/>
          <p:cNvGrpSpPr/>
          <p:nvPr/>
        </p:nvGrpSpPr>
        <p:grpSpPr>
          <a:xfrm>
            <a:off x="4724280" y="3276720"/>
            <a:ext cx="533520" cy="533160"/>
            <a:chOff x="4724280" y="3276720"/>
            <a:chExt cx="533520" cy="533160"/>
          </a:xfrm>
        </p:grpSpPr>
        <p:sp>
          <p:nvSpPr>
            <p:cNvPr id="1063" name=""/>
            <p:cNvSpPr/>
            <p:nvPr/>
          </p:nvSpPr>
          <p:spPr>
            <a:xfrm>
              <a:off x="4724280" y="3276720"/>
              <a:ext cx="533520" cy="5331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4876920" y="35053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4876920" y="358128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6" name=""/>
          <p:cNvGrpSpPr/>
          <p:nvPr/>
        </p:nvGrpSpPr>
        <p:grpSpPr>
          <a:xfrm>
            <a:off x="4724280" y="4038480"/>
            <a:ext cx="533520" cy="533160"/>
            <a:chOff x="4724280" y="4038480"/>
            <a:chExt cx="533520" cy="533160"/>
          </a:xfrm>
        </p:grpSpPr>
        <p:sp>
          <p:nvSpPr>
            <p:cNvPr id="1067" name=""/>
            <p:cNvSpPr/>
            <p:nvPr/>
          </p:nvSpPr>
          <p:spPr>
            <a:xfrm>
              <a:off x="4724280" y="4038480"/>
              <a:ext cx="533520" cy="5331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4876920" y="426708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4876920" y="434304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0" name=""/>
          <p:cNvGrpSpPr/>
          <p:nvPr/>
        </p:nvGrpSpPr>
        <p:grpSpPr>
          <a:xfrm>
            <a:off x="4724280" y="4876920"/>
            <a:ext cx="533520" cy="533160"/>
            <a:chOff x="4724280" y="4876920"/>
            <a:chExt cx="533520" cy="533160"/>
          </a:xfrm>
        </p:grpSpPr>
        <p:sp>
          <p:nvSpPr>
            <p:cNvPr id="1071" name=""/>
            <p:cNvSpPr/>
            <p:nvPr/>
          </p:nvSpPr>
          <p:spPr>
            <a:xfrm>
              <a:off x="4724280" y="4876920"/>
              <a:ext cx="533520" cy="5331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4876920" y="51055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4876920" y="518148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4" name=""/>
          <p:cNvSpPr/>
          <p:nvPr/>
        </p:nvSpPr>
        <p:spPr>
          <a:xfrm>
            <a:off x="5638320" y="3352680"/>
            <a:ext cx="20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Função 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&amp; Tim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5607360" y="4114800"/>
            <a:ext cx="21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Função 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&amp;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76" name=""/>
          <p:cNvCxnSpPr>
            <a:stCxn id="1051" idx="2"/>
            <a:endCxn id="1052" idx="0"/>
          </p:cNvCxnSpPr>
          <p:nvPr/>
        </p:nvCxnSpPr>
        <p:spPr>
          <a:xfrm>
            <a:off x="2563560" y="2448000"/>
            <a:ext cx="6840" cy="372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077" name=""/>
          <p:cNvCxnSpPr>
            <a:stCxn id="1052" idx="2"/>
            <a:endCxn id="1056" idx="0"/>
          </p:cNvCxnSpPr>
          <p:nvPr/>
        </p:nvCxnSpPr>
        <p:spPr>
          <a:xfrm flipH="1">
            <a:off x="2563200" y="3286080"/>
            <a:ext cx="6840" cy="372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078" name=""/>
          <p:cNvCxnSpPr>
            <a:stCxn id="1056" idx="2"/>
            <a:endCxn id="1053" idx="0"/>
          </p:cNvCxnSpPr>
          <p:nvPr/>
        </p:nvCxnSpPr>
        <p:spPr>
          <a:xfrm>
            <a:off x="2563560" y="4124160"/>
            <a:ext cx="1080" cy="36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079" name=""/>
          <p:cNvCxnSpPr>
            <a:stCxn id="1053" idx="2"/>
            <a:endCxn id="1054" idx="0"/>
          </p:cNvCxnSpPr>
          <p:nvPr/>
        </p:nvCxnSpPr>
        <p:spPr>
          <a:xfrm flipH="1">
            <a:off x="2559960" y="4952520"/>
            <a:ext cx="3960" cy="3819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080" name=""/>
          <p:cNvCxnSpPr>
            <a:stCxn id="1051" idx="3"/>
            <a:endCxn id="1059" idx="1"/>
          </p:cNvCxnSpPr>
          <p:nvPr/>
        </p:nvCxnSpPr>
        <p:spPr>
          <a:xfrm>
            <a:off x="3505320" y="2214360"/>
            <a:ext cx="1297440" cy="30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1" name=""/>
          <p:cNvCxnSpPr>
            <a:stCxn id="1052" idx="3"/>
            <a:endCxn id="1059" idx="3"/>
          </p:cNvCxnSpPr>
          <p:nvPr/>
        </p:nvCxnSpPr>
        <p:spPr>
          <a:xfrm flipV="1">
            <a:off x="4301640" y="2893320"/>
            <a:ext cx="500760" cy="159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2" name=""/>
          <p:cNvCxnSpPr>
            <a:stCxn id="1052" idx="3"/>
            <a:endCxn id="1063" idx="1"/>
          </p:cNvCxnSpPr>
          <p:nvPr/>
        </p:nvCxnSpPr>
        <p:spPr>
          <a:xfrm>
            <a:off x="4301640" y="3052800"/>
            <a:ext cx="500760" cy="302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3" name=""/>
          <p:cNvCxnSpPr>
            <a:stCxn id="1056" idx="3"/>
            <a:endCxn id="1063" idx="3"/>
          </p:cNvCxnSpPr>
          <p:nvPr/>
        </p:nvCxnSpPr>
        <p:spPr>
          <a:xfrm flipV="1">
            <a:off x="3593880" y="3731400"/>
            <a:ext cx="1208520" cy="159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4" name=""/>
          <p:cNvCxnSpPr>
            <a:stCxn id="1053" idx="3"/>
            <a:endCxn id="1067" idx="3"/>
          </p:cNvCxnSpPr>
          <p:nvPr/>
        </p:nvCxnSpPr>
        <p:spPr>
          <a:xfrm flipV="1">
            <a:off x="3881160" y="4493880"/>
            <a:ext cx="921240" cy="226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5" name=""/>
          <p:cNvCxnSpPr>
            <a:stCxn id="1056" idx="3"/>
            <a:endCxn id="1067" idx="1"/>
          </p:cNvCxnSpPr>
          <p:nvPr/>
        </p:nvCxnSpPr>
        <p:spPr>
          <a:xfrm>
            <a:off x="3593880" y="3890880"/>
            <a:ext cx="1208520" cy="226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6" name=""/>
          <p:cNvCxnSpPr>
            <a:stCxn id="1053" idx="3"/>
            <a:endCxn id="1071" idx="1"/>
          </p:cNvCxnSpPr>
          <p:nvPr/>
        </p:nvCxnSpPr>
        <p:spPr>
          <a:xfrm>
            <a:off x="3881160" y="4719240"/>
            <a:ext cx="921240" cy="235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7" name=""/>
          <p:cNvCxnSpPr>
            <a:stCxn id="1054" idx="3"/>
            <a:endCxn id="1071" idx="3"/>
          </p:cNvCxnSpPr>
          <p:nvPr/>
        </p:nvCxnSpPr>
        <p:spPr>
          <a:xfrm flipV="1">
            <a:off x="3087720" y="5331600"/>
            <a:ext cx="1715040" cy="235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88" name=""/>
          <p:cNvSpPr/>
          <p:nvPr/>
        </p:nvSpPr>
        <p:spPr>
          <a:xfrm>
            <a:off x="5640120" y="5791320"/>
            <a:ext cx="25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consumo, área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231480" y="177840"/>
            <a:ext cx="214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Lembramos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alidação funcio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Supondo que existem descrições do mesmo projeto a nível de especificação, comportamental, estrutural, e layout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implementar testbenchs (idealmente somente um único testbench)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instanciar as descrições acima dentro do testbench, uma a uma, gravando o resultado de cada simulação 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comparar textualmente os resultad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2" name="euideia" descr=""/>
          <p:cNvPicPr/>
          <p:nvPr/>
        </p:nvPicPr>
        <p:blipFill>
          <a:blip r:embed=""/>
          <a:stretch/>
        </p:blipFill>
        <p:spPr>
          <a:xfrm>
            <a:off x="8229600" y="1447920"/>
            <a:ext cx="747720" cy="227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alidação funcional na práti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Os níveis de especificação e de layout fogem do escopo de Verilog</a:t>
            </a:r>
            <a:br>
              <a:rPr sz="3200"/>
            </a:b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mais testbenchs em outras linguage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Num projeto grande, descrições e testbenchs são implementadas por diferentes pessoas trabalhando em paralelo</a:t>
            </a:r>
            <a:br>
              <a:rPr sz="3200"/>
            </a:b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é preciso evitar confusã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1222560" y="2666880"/>
            <a:ext cx="298080" cy="9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Directions MT"/>
                <a:ea typeface="Directions MT"/>
              </a:rPr>
              <a:t>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1222560" y="4689360"/>
            <a:ext cx="298080" cy="9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Directions MT"/>
                <a:ea typeface="Directions MT"/>
              </a:rPr>
              <a:t>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ercíc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Use a descrição comportamental e a descrição a nível RTL do contador soube/des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Implemente um único testbench 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simule as duas descrições, gravando os resultados em arquiv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Compare os dois arquivos usando o comando </a:t>
            </a: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fc 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da janela de comando do Win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Exemplos de outros HD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VHDL (VLSI HDL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ry Large Scale Integration Hardware Description Language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)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Abel, Palasm, Cupl, OCCAM, Handle-C, EL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1143000" y="1980720"/>
            <a:ext cx="7315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pressar ações concorren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pressar tempo (atraso, clock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mitir descrição comportamental, estrutural e fís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mitir mesclar diferentes vistas de diferentes subsistem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mitir simulação, síntese e verificaçã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 fácil e seguro de us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priedad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 Verilo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20560" y="1992240"/>
            <a:ext cx="533520" cy="49392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6520" y="2630520"/>
            <a:ext cx="533160" cy="49356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09480" y="3352680"/>
            <a:ext cx="304920" cy="30492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09480" y="5410080"/>
            <a:ext cx="304920" cy="30492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33520" y="5943600"/>
            <a:ext cx="533160" cy="49356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4343400"/>
            <a:ext cx="304920" cy="30492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752800" y="5181480"/>
            <a:ext cx="4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37080" y="3048120"/>
            <a:ext cx="4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970000" y="3581280"/>
            <a:ext cx="4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493880" y="5181480"/>
            <a:ext cx="4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386240" y="3581280"/>
            <a:ext cx="29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irections MT"/>
                <a:ea typeface="Directions MT"/>
              </a:rPr>
              <a:t>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8123040" y="5181480"/>
            <a:ext cx="29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irections MT"/>
                <a:ea typeface="Directions MT"/>
              </a:rPr>
              <a:t>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4724280" y="762120"/>
            <a:ext cx="3505320" cy="9144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57200" y="2590920"/>
            <a:ext cx="4572000" cy="25905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luxo de projeto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ando Verilo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25400" y="1981080"/>
            <a:ext cx="18770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pecifica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38080" y="2819520"/>
            <a:ext cx="34635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crição comportamen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246680" y="4486320"/>
            <a:ext cx="26326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crição estrutu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037240" y="5334120"/>
            <a:ext cx="10447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yo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640120" y="243828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36840" y="3657600"/>
            <a:ext cx="20523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crição 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637600" y="4952880"/>
            <a:ext cx="236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Função &amp; Ti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4724280" y="2438280"/>
            <a:ext cx="533520" cy="533160"/>
            <a:chOff x="4724280" y="2438280"/>
            <a:chExt cx="533520" cy="533160"/>
          </a:xfrm>
        </p:grpSpPr>
        <p:sp>
          <p:nvSpPr>
            <p:cNvPr id="203" name=""/>
            <p:cNvSpPr/>
            <p:nvPr/>
          </p:nvSpPr>
          <p:spPr>
            <a:xfrm>
              <a:off x="4724280" y="2438280"/>
              <a:ext cx="533520" cy="5331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876920" y="266688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876920" y="274284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4724280" y="3276720"/>
            <a:ext cx="533520" cy="533160"/>
            <a:chOff x="4724280" y="3276720"/>
            <a:chExt cx="533520" cy="533160"/>
          </a:xfrm>
        </p:grpSpPr>
        <p:sp>
          <p:nvSpPr>
            <p:cNvPr id="207" name=""/>
            <p:cNvSpPr/>
            <p:nvPr/>
          </p:nvSpPr>
          <p:spPr>
            <a:xfrm>
              <a:off x="4724280" y="3276720"/>
              <a:ext cx="533520" cy="5331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876920" y="35053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876920" y="358128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4724280" y="4038480"/>
            <a:ext cx="533520" cy="533160"/>
            <a:chOff x="4724280" y="4038480"/>
            <a:chExt cx="533520" cy="533160"/>
          </a:xfrm>
        </p:grpSpPr>
        <p:sp>
          <p:nvSpPr>
            <p:cNvPr id="211" name=""/>
            <p:cNvSpPr/>
            <p:nvPr/>
          </p:nvSpPr>
          <p:spPr>
            <a:xfrm>
              <a:off x="4724280" y="4038480"/>
              <a:ext cx="533520" cy="5331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876920" y="426708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876920" y="434304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4724280" y="4876920"/>
            <a:ext cx="533520" cy="533160"/>
            <a:chOff x="4724280" y="4876920"/>
            <a:chExt cx="533520" cy="533160"/>
          </a:xfrm>
        </p:grpSpPr>
        <p:sp>
          <p:nvSpPr>
            <p:cNvPr id="215" name=""/>
            <p:cNvSpPr/>
            <p:nvPr/>
          </p:nvSpPr>
          <p:spPr>
            <a:xfrm>
              <a:off x="4724280" y="4876920"/>
              <a:ext cx="533520" cy="5331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876920" y="51055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876920" y="518148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>
            <a:off x="5638320" y="3352680"/>
            <a:ext cx="20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Função 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&amp; Tim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607360" y="4114800"/>
            <a:ext cx="21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Função 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&amp;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195" idx="2"/>
            <a:endCxn id="196" idx="0"/>
          </p:cNvCxnSpPr>
          <p:nvPr/>
        </p:nvCxnSpPr>
        <p:spPr>
          <a:xfrm>
            <a:off x="2563560" y="2448000"/>
            <a:ext cx="6840" cy="372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221" name=""/>
          <p:cNvCxnSpPr>
            <a:stCxn id="196" idx="2"/>
            <a:endCxn id="200" idx="0"/>
          </p:cNvCxnSpPr>
          <p:nvPr/>
        </p:nvCxnSpPr>
        <p:spPr>
          <a:xfrm flipH="1">
            <a:off x="2563200" y="3286080"/>
            <a:ext cx="6840" cy="372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222" name=""/>
          <p:cNvCxnSpPr>
            <a:stCxn id="200" idx="2"/>
            <a:endCxn id="197" idx="0"/>
          </p:cNvCxnSpPr>
          <p:nvPr/>
        </p:nvCxnSpPr>
        <p:spPr>
          <a:xfrm>
            <a:off x="2563560" y="4124160"/>
            <a:ext cx="1080" cy="36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223" name=""/>
          <p:cNvCxnSpPr>
            <a:stCxn id="197" idx="2"/>
            <a:endCxn id="198" idx="0"/>
          </p:cNvCxnSpPr>
          <p:nvPr/>
        </p:nvCxnSpPr>
        <p:spPr>
          <a:xfrm flipH="1">
            <a:off x="2559960" y="4952520"/>
            <a:ext cx="3960" cy="3819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224" name=""/>
          <p:cNvCxnSpPr>
            <a:stCxn id="195" idx="3"/>
            <a:endCxn id="203" idx="1"/>
          </p:cNvCxnSpPr>
          <p:nvPr/>
        </p:nvCxnSpPr>
        <p:spPr>
          <a:xfrm>
            <a:off x="3505320" y="2214360"/>
            <a:ext cx="1297440" cy="30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5" name=""/>
          <p:cNvCxnSpPr>
            <a:stCxn id="196" idx="3"/>
            <a:endCxn id="203" idx="3"/>
          </p:cNvCxnSpPr>
          <p:nvPr/>
        </p:nvCxnSpPr>
        <p:spPr>
          <a:xfrm flipV="1">
            <a:off x="4301640" y="2893320"/>
            <a:ext cx="500760" cy="159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6" name=""/>
          <p:cNvCxnSpPr>
            <a:stCxn id="196" idx="3"/>
            <a:endCxn id="207" idx="1"/>
          </p:cNvCxnSpPr>
          <p:nvPr/>
        </p:nvCxnSpPr>
        <p:spPr>
          <a:xfrm>
            <a:off x="4301640" y="3052800"/>
            <a:ext cx="500760" cy="302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00" idx="3"/>
            <a:endCxn id="207" idx="3"/>
          </p:cNvCxnSpPr>
          <p:nvPr/>
        </p:nvCxnSpPr>
        <p:spPr>
          <a:xfrm flipV="1">
            <a:off x="3593880" y="3731400"/>
            <a:ext cx="1208520" cy="159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197" idx="3"/>
            <a:endCxn id="211" idx="3"/>
          </p:cNvCxnSpPr>
          <p:nvPr/>
        </p:nvCxnSpPr>
        <p:spPr>
          <a:xfrm flipV="1">
            <a:off x="3881160" y="4493880"/>
            <a:ext cx="921240" cy="226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"/>
          <p:cNvCxnSpPr>
            <a:stCxn id="200" idx="3"/>
            <a:endCxn id="211" idx="1"/>
          </p:cNvCxnSpPr>
          <p:nvPr/>
        </p:nvCxnSpPr>
        <p:spPr>
          <a:xfrm>
            <a:off x="3593880" y="3890880"/>
            <a:ext cx="1208520" cy="226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"/>
          <p:cNvCxnSpPr>
            <a:stCxn id="197" idx="3"/>
            <a:endCxn id="215" idx="1"/>
          </p:cNvCxnSpPr>
          <p:nvPr/>
        </p:nvCxnSpPr>
        <p:spPr>
          <a:xfrm>
            <a:off x="3881160" y="4719240"/>
            <a:ext cx="921240" cy="235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198" idx="3"/>
            <a:endCxn id="215" idx="3"/>
          </p:cNvCxnSpPr>
          <p:nvPr/>
        </p:nvCxnSpPr>
        <p:spPr>
          <a:xfrm flipV="1">
            <a:off x="3087720" y="5331600"/>
            <a:ext cx="1715040" cy="235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2" name=""/>
          <p:cNvSpPr/>
          <p:nvPr/>
        </p:nvSpPr>
        <p:spPr>
          <a:xfrm>
            <a:off x="5640120" y="5791320"/>
            <a:ext cx="25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consumo, área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óric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Philip Moorby desenvolveu Verilog como linguagem de simulação em 198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propriedade de Gateway Design Auto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Cadence comprou Gateway em 1989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Open Verilog International (OVI) 199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padrão IEEE 1364 em 199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hoje maioria de projetos de ASICs em Verilo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emplo de Verilo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859320" y="1949400"/>
            <a:ext cx="5850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Lucida Sans Typewriter"/>
              </a:rPr>
              <a:t>module HALF_ADD(A,B,SUM,CARR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Lucida Sans Typewriter"/>
              </a:rPr>
              <a:t>output SUM, CARRY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Lucida Sans Typewriter"/>
              </a:rPr>
              <a:t>input A, B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Lucida Sans Typewriter"/>
              </a:rPr>
              <a:t>assign SUM = A ^ B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Lucida Sans Typewriter"/>
              </a:rPr>
              <a:t>assign CARRY = A &amp; B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Lucida Sans Typewriter"/>
              </a:rPr>
              <a:t>end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6643800" y="4135320"/>
            <a:ext cx="1142640" cy="460080"/>
            <a:chOff x="6643800" y="4135320"/>
            <a:chExt cx="1142640" cy="460080"/>
          </a:xfrm>
        </p:grpSpPr>
        <p:sp>
          <p:nvSpPr>
            <p:cNvPr id="238" name=""/>
            <p:cNvSpPr/>
            <p:nvPr/>
          </p:nvSpPr>
          <p:spPr>
            <a:xfrm>
              <a:off x="6646680" y="4138560"/>
              <a:ext cx="76176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55" y="0"/>
                  </a:moveTo>
                  <a:arcTo wR="10800" hR="10800" stAng="-5414323" swAng="541432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55" y="0"/>
                  </a:moveTo>
                  <a:arcTo wR="10800" hR="10800" stAng="-5414323" swAng="5414323"/>
                </a:path>
              </a:pathLst>
            </a:custGeom>
            <a:noFill/>
            <a:ln cap="rnd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643800" y="4135320"/>
              <a:ext cx="76140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872040" y="4138560"/>
              <a:ext cx="30456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688" y="1"/>
                  </a:moveTo>
                  <a:arcTo wR="10800" hR="10800" stAng="-5435809" swAng="532728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688" y="1"/>
                  </a:moveTo>
                  <a:arcTo wR="10800" hR="10800" stAng="-5435809" swAng="5327284"/>
                </a:path>
              </a:pathLst>
            </a:custGeom>
            <a:noFill/>
            <a:ln cap="rnd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872400" y="4141800"/>
              <a:ext cx="304200" cy="450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flipH="1" flipV="1">
              <a:off x="6645240" y="4211280"/>
              <a:ext cx="380880" cy="3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flipH="1" flipV="1">
              <a:off x="6645240" y="4516560"/>
              <a:ext cx="380880" cy="2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flipH="1">
              <a:off x="7407000" y="4363920"/>
              <a:ext cx="3794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797520" y="4138560"/>
              <a:ext cx="30456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688" y="1"/>
                  </a:moveTo>
                  <a:arcTo wR="10800" hR="10800" stAng="-5435809" swAng="532728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688" y="1"/>
                  </a:moveTo>
                  <a:arcTo wR="10800" hR="10800" stAng="-5435809" swAng="5327284"/>
                </a:path>
              </a:pathLst>
            </a:custGeom>
            <a:noFill/>
            <a:ln cap="rnd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797160" y="4141800"/>
              <a:ext cx="304920" cy="450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6643800" y="4746240"/>
            <a:ext cx="1142640" cy="460080"/>
            <a:chOff x="6643800" y="4746240"/>
            <a:chExt cx="1142640" cy="460080"/>
          </a:xfrm>
        </p:grpSpPr>
        <p:sp>
          <p:nvSpPr>
            <p:cNvPr id="248" name=""/>
            <p:cNvSpPr/>
            <p:nvPr/>
          </p:nvSpPr>
          <p:spPr>
            <a:xfrm>
              <a:off x="7024680" y="4748040"/>
              <a:ext cx="0" cy="455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646680" y="4749480"/>
              <a:ext cx="76176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55" y="0"/>
                  </a:moveTo>
                  <a:arcTo wR="10800" hR="10800" stAng="-5414323" swAng="541432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55" y="0"/>
                  </a:moveTo>
                  <a:arcTo wR="10800" hR="10800" stAng="-5414323" swAng="5414323"/>
                </a:path>
              </a:pathLst>
            </a:custGeom>
            <a:noFill/>
            <a:ln cap="rnd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643800" y="4746240"/>
              <a:ext cx="76140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H="1">
              <a:off x="6645240" y="4822560"/>
              <a:ext cx="3794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>
              <a:off x="6645240" y="5127480"/>
              <a:ext cx="3794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 flipH="1">
              <a:off x="7407000" y="4974840"/>
              <a:ext cx="3794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" name=""/>
          <p:cNvSpPr/>
          <p:nvPr/>
        </p:nvSpPr>
        <p:spPr>
          <a:xfrm flipH="1">
            <a:off x="5959080" y="4214880"/>
            <a:ext cx="6858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H="1">
            <a:off x="5959080" y="5129280"/>
            <a:ext cx="6858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340320" y="421488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340320" y="4824360"/>
            <a:ext cx="304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6492960" y="4519440"/>
            <a:ext cx="0" cy="609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92960" y="4519440"/>
            <a:ext cx="152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715360" y="4038120"/>
            <a:ext cx="1836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 Typewriter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731200" y="4944600"/>
            <a:ext cx="1836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 Typewriter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7866000" y="4182840"/>
            <a:ext cx="549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 Typewriter"/>
              </a:rPr>
              <a:t>S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867080" y="4824000"/>
            <a:ext cx="915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 Typewriter"/>
              </a:rPr>
              <a:t>CAR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ódigo </a:t>
            </a:r>
            <a:r>
              <a:rPr b="0" lang="en-US" sz="4400" spc="-1" strike="noStrike">
                <a:solidFill>
                  <a:srgbClr val="000000"/>
                </a:solidFill>
                <a:latin typeface="Lucida Handwriting"/>
              </a:rPr>
              <a:t>boni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0% é comentár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das as declarações tem comentár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m</a:t>
            </a:r>
            <a:r>
              <a:rPr b="0" lang="en-US" sz="3200" spc="-1" strike="noStrike">
                <a:solidFill>
                  <a:srgbClr val="000000"/>
                </a:solidFill>
                <a:latin typeface="Lucida Sans Typewriter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Sans Typewriter"/>
              </a:rPr>
              <a:t>modul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ultrapassa 40 linhas (uma página na tel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dentificadores refletem o que é o objeto identific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dentação consiste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/>
          </p:nvPr>
        </p:nvSpPr>
        <p:spPr>
          <a:xfrm>
            <a:off x="2282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Evite nomes longos demais.</a:t>
            </a:r>
            <a:br>
              <a:rPr sz="3200"/>
            </a:b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fpop_rs1 </a:t>
            </a:r>
            <a:r>
              <a:rPr b="0" lang="pt-BR" sz="2400" spc="-1" strike="noStrike">
                <a:solidFill>
                  <a:srgbClr val="000000"/>
                </a:solidFill>
                <a:latin typeface="Century Schoolbook"/>
              </a:rPr>
              <a:t>no lugar de </a:t>
            </a: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floating_point_opcode_rs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entury Schoolbook"/>
              </a:rPr>
              <a:t>Evite confusão entre ‘0’ e ‘O’, ‘1’ e ‘l’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Use capitalização consistente.</a:t>
            </a:r>
            <a:br>
              <a:rPr sz="3200"/>
            </a:b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Estilo C: </a:t>
            </a: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packet_addr, data_in</a:t>
            </a:r>
            <a:br>
              <a:rPr sz="2400"/>
            </a:b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Estilo Pascal: </a:t>
            </a: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PacketAddr, DataIn</a:t>
            </a:r>
            <a:br>
              <a:rPr sz="2400"/>
            </a:b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Estilo Modula: </a:t>
            </a: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packetAddr, dat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ódigo </a:t>
            </a:r>
            <a:r>
              <a:rPr b="0" lang="en-US" sz="4400" spc="-1" strike="noStrike">
                <a:solidFill>
                  <a:srgbClr val="000000"/>
                </a:solidFill>
                <a:latin typeface="Lucida Handwriting"/>
              </a:rPr>
              <a:t>bonito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identificado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o do tópico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íc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Century Schoolbook"/>
              </a:rPr>
              <a:t>Introdução – 4 hor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19000" indent="-2854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entury Schoolbook"/>
              </a:rPr>
              <a:t>Fluxo de proje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19000" indent="-2854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entury Schoolbook"/>
              </a:rPr>
              <a:t>Representação gráfica vs. textu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19000" indent="-2854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entury Schoolbook"/>
              </a:rPr>
              <a:t>Requisitos de uma linguagem de descrição de hardw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19000" indent="-2854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entury Schoolbook"/>
              </a:rPr>
              <a:t>Um exemplo de uma descrição Verilo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19000" indent="-2854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entury Schoolbook"/>
              </a:rPr>
              <a:t>Alguns dos elementos principais de uma descrição Verilo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19000" indent="-2854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entury Schoolbook"/>
              </a:rPr>
              <a:t>Simulação com Verilo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7086600" y="685800"/>
            <a:ext cx="1490400" cy="2133360"/>
            <a:chOff x="7086600" y="685800"/>
            <a:chExt cx="1490400" cy="2133360"/>
          </a:xfrm>
        </p:grpSpPr>
        <p:grpSp>
          <p:nvGrpSpPr>
            <p:cNvPr id="47" name=""/>
            <p:cNvGrpSpPr/>
            <p:nvPr/>
          </p:nvGrpSpPr>
          <p:grpSpPr>
            <a:xfrm>
              <a:off x="7086600" y="685800"/>
              <a:ext cx="809280" cy="1044360"/>
              <a:chOff x="7086600" y="685800"/>
              <a:chExt cx="809280" cy="1044360"/>
            </a:xfrm>
          </p:grpSpPr>
          <p:sp>
            <p:nvSpPr>
              <p:cNvPr id="48" name=""/>
              <p:cNvSpPr/>
              <p:nvPr/>
            </p:nvSpPr>
            <p:spPr>
              <a:xfrm>
                <a:off x="7086600" y="685800"/>
                <a:ext cx="809280" cy="1044360"/>
              </a:xfrm>
              <a:custGeom>
                <a:avLst/>
                <a:gdLst/>
                <a:ahLst/>
                <a:rect l="l" t="t" r="r" b="b"/>
                <a:pathLst>
                  <a:path w="674" h="870">
                    <a:moveTo>
                      <a:pt x="664" y="182"/>
                    </a:moveTo>
                    <a:lnTo>
                      <a:pt x="668" y="114"/>
                    </a:lnTo>
                    <a:lnTo>
                      <a:pt x="635" y="51"/>
                    </a:lnTo>
                    <a:lnTo>
                      <a:pt x="571" y="0"/>
                    </a:lnTo>
                    <a:lnTo>
                      <a:pt x="474" y="22"/>
                    </a:lnTo>
                    <a:lnTo>
                      <a:pt x="389" y="80"/>
                    </a:lnTo>
                    <a:lnTo>
                      <a:pt x="283" y="127"/>
                    </a:lnTo>
                    <a:lnTo>
                      <a:pt x="169" y="174"/>
                    </a:lnTo>
                    <a:lnTo>
                      <a:pt x="63" y="238"/>
                    </a:lnTo>
                    <a:lnTo>
                      <a:pt x="0" y="297"/>
                    </a:lnTo>
                    <a:lnTo>
                      <a:pt x="13" y="314"/>
                    </a:lnTo>
                    <a:lnTo>
                      <a:pt x="131" y="424"/>
                    </a:lnTo>
                    <a:lnTo>
                      <a:pt x="173" y="483"/>
                    </a:lnTo>
                    <a:lnTo>
                      <a:pt x="182" y="539"/>
                    </a:lnTo>
                    <a:lnTo>
                      <a:pt x="186" y="611"/>
                    </a:lnTo>
                    <a:lnTo>
                      <a:pt x="194" y="704"/>
                    </a:lnTo>
                    <a:lnTo>
                      <a:pt x="216" y="802"/>
                    </a:lnTo>
                    <a:lnTo>
                      <a:pt x="249" y="856"/>
                    </a:lnTo>
                    <a:lnTo>
                      <a:pt x="283" y="869"/>
                    </a:lnTo>
                    <a:lnTo>
                      <a:pt x="321" y="840"/>
                    </a:lnTo>
                    <a:lnTo>
                      <a:pt x="385" y="802"/>
                    </a:lnTo>
                    <a:lnTo>
                      <a:pt x="452" y="759"/>
                    </a:lnTo>
                    <a:lnTo>
                      <a:pt x="528" y="729"/>
                    </a:lnTo>
                    <a:lnTo>
                      <a:pt x="597" y="720"/>
                    </a:lnTo>
                    <a:lnTo>
                      <a:pt x="630" y="666"/>
                    </a:lnTo>
                    <a:lnTo>
                      <a:pt x="655" y="585"/>
                    </a:lnTo>
                    <a:lnTo>
                      <a:pt x="673" y="454"/>
                    </a:lnTo>
                    <a:lnTo>
                      <a:pt x="668" y="339"/>
                    </a:lnTo>
                    <a:lnTo>
                      <a:pt x="660" y="272"/>
                    </a:lnTo>
                    <a:lnTo>
                      <a:pt x="630" y="272"/>
                    </a:lnTo>
                    <a:lnTo>
                      <a:pt x="635" y="386"/>
                    </a:lnTo>
                    <a:lnTo>
                      <a:pt x="635" y="509"/>
                    </a:lnTo>
                    <a:lnTo>
                      <a:pt x="617" y="581"/>
                    </a:lnTo>
                    <a:lnTo>
                      <a:pt x="588" y="666"/>
                    </a:lnTo>
                    <a:lnTo>
                      <a:pt x="521" y="700"/>
                    </a:lnTo>
                    <a:lnTo>
                      <a:pt x="427" y="725"/>
                    </a:lnTo>
                    <a:lnTo>
                      <a:pt x="351" y="767"/>
                    </a:lnTo>
                    <a:lnTo>
                      <a:pt x="279" y="818"/>
                    </a:lnTo>
                    <a:lnTo>
                      <a:pt x="249" y="784"/>
                    </a:lnTo>
                    <a:lnTo>
                      <a:pt x="232" y="713"/>
                    </a:lnTo>
                    <a:lnTo>
                      <a:pt x="224" y="619"/>
                    </a:lnTo>
                    <a:lnTo>
                      <a:pt x="216" y="521"/>
                    </a:lnTo>
                    <a:lnTo>
                      <a:pt x="186" y="437"/>
                    </a:lnTo>
                    <a:lnTo>
                      <a:pt x="102" y="348"/>
                    </a:lnTo>
                    <a:lnTo>
                      <a:pt x="63" y="301"/>
                    </a:lnTo>
                    <a:lnTo>
                      <a:pt x="67" y="284"/>
                    </a:lnTo>
                    <a:lnTo>
                      <a:pt x="173" y="212"/>
                    </a:lnTo>
                    <a:lnTo>
                      <a:pt x="279" y="165"/>
                    </a:lnTo>
                    <a:lnTo>
                      <a:pt x="368" y="123"/>
                    </a:lnTo>
                    <a:lnTo>
                      <a:pt x="423" y="98"/>
                    </a:lnTo>
                    <a:lnTo>
                      <a:pt x="478" y="64"/>
                    </a:lnTo>
                    <a:lnTo>
                      <a:pt x="512" y="47"/>
                    </a:lnTo>
                    <a:lnTo>
                      <a:pt x="567" y="42"/>
                    </a:lnTo>
                    <a:lnTo>
                      <a:pt x="601" y="72"/>
                    </a:lnTo>
                    <a:lnTo>
                      <a:pt x="626" y="119"/>
                    </a:lnTo>
                    <a:lnTo>
                      <a:pt x="626" y="161"/>
                    </a:lnTo>
                    <a:lnTo>
                      <a:pt x="630" y="203"/>
                    </a:lnTo>
                    <a:lnTo>
                      <a:pt x="664" y="182"/>
                    </a:lnTo>
                  </a:path>
                </a:pathLst>
              </a:cu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467120" y="1005120"/>
                <a:ext cx="255600" cy="374400"/>
              </a:xfrm>
              <a:custGeom>
                <a:avLst/>
                <a:gdLst/>
                <a:ahLst/>
                <a:rect l="l" t="t" r="r" b="b"/>
                <a:pathLst>
                  <a:path w="213" h="312">
                    <a:moveTo>
                      <a:pt x="187" y="86"/>
                    </a:moveTo>
                    <a:lnTo>
                      <a:pt x="140" y="35"/>
                    </a:lnTo>
                    <a:lnTo>
                      <a:pt x="64" y="0"/>
                    </a:lnTo>
                    <a:lnTo>
                      <a:pt x="26" y="69"/>
                    </a:lnTo>
                    <a:lnTo>
                      <a:pt x="0" y="158"/>
                    </a:lnTo>
                    <a:lnTo>
                      <a:pt x="60" y="311"/>
                    </a:lnTo>
                    <a:lnTo>
                      <a:pt x="136" y="306"/>
                    </a:lnTo>
                    <a:lnTo>
                      <a:pt x="212" y="255"/>
                    </a:lnTo>
                    <a:lnTo>
                      <a:pt x="212" y="124"/>
                    </a:lnTo>
                    <a:lnTo>
                      <a:pt x="191" y="120"/>
                    </a:lnTo>
                    <a:lnTo>
                      <a:pt x="174" y="141"/>
                    </a:lnTo>
                    <a:lnTo>
                      <a:pt x="178" y="243"/>
                    </a:lnTo>
                    <a:lnTo>
                      <a:pt x="127" y="281"/>
                    </a:lnTo>
                    <a:lnTo>
                      <a:pt x="69" y="272"/>
                    </a:lnTo>
                    <a:lnTo>
                      <a:pt x="35" y="162"/>
                    </a:lnTo>
                    <a:lnTo>
                      <a:pt x="82" y="162"/>
                    </a:lnTo>
                    <a:lnTo>
                      <a:pt x="140" y="133"/>
                    </a:lnTo>
                    <a:lnTo>
                      <a:pt x="136" y="124"/>
                    </a:lnTo>
                    <a:lnTo>
                      <a:pt x="64" y="141"/>
                    </a:lnTo>
                    <a:lnTo>
                      <a:pt x="26" y="136"/>
                    </a:lnTo>
                    <a:lnTo>
                      <a:pt x="73" y="31"/>
                    </a:lnTo>
                    <a:lnTo>
                      <a:pt x="124" y="64"/>
                    </a:lnTo>
                    <a:lnTo>
                      <a:pt x="170" y="115"/>
                    </a:lnTo>
                    <a:lnTo>
                      <a:pt x="187" y="86"/>
                    </a:lnTo>
                  </a:path>
                </a:pathLst>
              </a:cu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" name=""/>
            <p:cNvGrpSpPr/>
            <p:nvPr/>
          </p:nvGrpSpPr>
          <p:grpSpPr>
            <a:xfrm>
              <a:off x="7214040" y="803160"/>
              <a:ext cx="1362960" cy="2016000"/>
              <a:chOff x="7214040" y="803160"/>
              <a:chExt cx="1362960" cy="2016000"/>
            </a:xfrm>
          </p:grpSpPr>
          <p:sp>
            <p:nvSpPr>
              <p:cNvPr id="51" name=""/>
              <p:cNvSpPr/>
              <p:nvPr/>
            </p:nvSpPr>
            <p:spPr>
              <a:xfrm>
                <a:off x="7214040" y="1148760"/>
                <a:ext cx="1099080" cy="371880"/>
              </a:xfrm>
              <a:custGeom>
                <a:avLst/>
                <a:gdLst/>
                <a:ahLst/>
                <a:rect l="l" t="t" r="r" b="b"/>
                <a:pathLst>
                  <a:path w="915" h="310">
                    <a:moveTo>
                      <a:pt x="914" y="241"/>
                    </a:moveTo>
                    <a:lnTo>
                      <a:pt x="893" y="216"/>
                    </a:lnTo>
                    <a:lnTo>
                      <a:pt x="846" y="207"/>
                    </a:lnTo>
                    <a:lnTo>
                      <a:pt x="698" y="237"/>
                    </a:lnTo>
                    <a:lnTo>
                      <a:pt x="554" y="263"/>
                    </a:lnTo>
                    <a:lnTo>
                      <a:pt x="376" y="258"/>
                    </a:lnTo>
                    <a:lnTo>
                      <a:pt x="211" y="224"/>
                    </a:lnTo>
                    <a:lnTo>
                      <a:pt x="110" y="165"/>
                    </a:lnTo>
                    <a:lnTo>
                      <a:pt x="123" y="118"/>
                    </a:lnTo>
                    <a:lnTo>
                      <a:pt x="105" y="54"/>
                    </a:lnTo>
                    <a:lnTo>
                      <a:pt x="67" y="21"/>
                    </a:lnTo>
                    <a:lnTo>
                      <a:pt x="25" y="0"/>
                    </a:lnTo>
                    <a:lnTo>
                      <a:pt x="8" y="46"/>
                    </a:lnTo>
                    <a:lnTo>
                      <a:pt x="0" y="92"/>
                    </a:lnTo>
                    <a:lnTo>
                      <a:pt x="17" y="181"/>
                    </a:lnTo>
                    <a:lnTo>
                      <a:pt x="59" y="207"/>
                    </a:lnTo>
                    <a:lnTo>
                      <a:pt x="161" y="241"/>
                    </a:lnTo>
                    <a:lnTo>
                      <a:pt x="270" y="270"/>
                    </a:lnTo>
                    <a:lnTo>
                      <a:pt x="453" y="305"/>
                    </a:lnTo>
                    <a:lnTo>
                      <a:pt x="622" y="309"/>
                    </a:lnTo>
                    <a:lnTo>
                      <a:pt x="851" y="288"/>
                    </a:lnTo>
                    <a:lnTo>
                      <a:pt x="914" y="241"/>
                    </a:lnTo>
                  </a:path>
                </a:pathLst>
              </a:cu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7803720" y="883440"/>
                <a:ext cx="595440" cy="530640"/>
              </a:xfrm>
              <a:custGeom>
                <a:avLst/>
                <a:gdLst/>
                <a:ahLst/>
                <a:rect l="l" t="t" r="r" b="b"/>
                <a:pathLst>
                  <a:path w="496" h="442">
                    <a:moveTo>
                      <a:pt x="482" y="441"/>
                    </a:moveTo>
                    <a:lnTo>
                      <a:pt x="495" y="399"/>
                    </a:lnTo>
                    <a:lnTo>
                      <a:pt x="469" y="361"/>
                    </a:lnTo>
                    <a:lnTo>
                      <a:pt x="385" y="327"/>
                    </a:lnTo>
                    <a:lnTo>
                      <a:pt x="287" y="318"/>
                    </a:lnTo>
                    <a:lnTo>
                      <a:pt x="220" y="297"/>
                    </a:lnTo>
                    <a:lnTo>
                      <a:pt x="177" y="259"/>
                    </a:lnTo>
                    <a:lnTo>
                      <a:pt x="131" y="174"/>
                    </a:lnTo>
                    <a:lnTo>
                      <a:pt x="93" y="81"/>
                    </a:lnTo>
                    <a:lnTo>
                      <a:pt x="93" y="34"/>
                    </a:lnTo>
                    <a:lnTo>
                      <a:pt x="71" y="9"/>
                    </a:lnTo>
                    <a:lnTo>
                      <a:pt x="42" y="0"/>
                    </a:lnTo>
                    <a:lnTo>
                      <a:pt x="12" y="22"/>
                    </a:lnTo>
                    <a:lnTo>
                      <a:pt x="0" y="68"/>
                    </a:lnTo>
                    <a:lnTo>
                      <a:pt x="4" y="127"/>
                    </a:lnTo>
                    <a:lnTo>
                      <a:pt x="20" y="170"/>
                    </a:lnTo>
                    <a:lnTo>
                      <a:pt x="38" y="170"/>
                    </a:lnTo>
                    <a:lnTo>
                      <a:pt x="46" y="153"/>
                    </a:lnTo>
                    <a:lnTo>
                      <a:pt x="71" y="149"/>
                    </a:lnTo>
                    <a:lnTo>
                      <a:pt x="118" y="212"/>
                    </a:lnTo>
                    <a:lnTo>
                      <a:pt x="173" y="310"/>
                    </a:lnTo>
                    <a:lnTo>
                      <a:pt x="211" y="352"/>
                    </a:lnTo>
                    <a:lnTo>
                      <a:pt x="287" y="377"/>
                    </a:lnTo>
                    <a:lnTo>
                      <a:pt x="376" y="403"/>
                    </a:lnTo>
                    <a:lnTo>
                      <a:pt x="435" y="424"/>
                    </a:lnTo>
                    <a:lnTo>
                      <a:pt x="482" y="441"/>
                    </a:lnTo>
                  </a:path>
                </a:pathLst>
              </a:cu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8022240" y="1335960"/>
                <a:ext cx="452880" cy="784080"/>
              </a:xfrm>
              <a:custGeom>
                <a:avLst/>
                <a:gdLst/>
                <a:ahLst/>
                <a:rect l="l" t="t" r="r" b="b"/>
                <a:pathLst>
                  <a:path w="377" h="653">
                    <a:moveTo>
                      <a:pt x="376" y="85"/>
                    </a:moveTo>
                    <a:lnTo>
                      <a:pt x="356" y="34"/>
                    </a:lnTo>
                    <a:lnTo>
                      <a:pt x="326" y="0"/>
                    </a:lnTo>
                    <a:lnTo>
                      <a:pt x="250" y="0"/>
                    </a:lnTo>
                    <a:lnTo>
                      <a:pt x="173" y="34"/>
                    </a:lnTo>
                    <a:lnTo>
                      <a:pt x="84" y="131"/>
                    </a:lnTo>
                    <a:lnTo>
                      <a:pt x="38" y="208"/>
                    </a:lnTo>
                    <a:lnTo>
                      <a:pt x="8" y="313"/>
                    </a:lnTo>
                    <a:lnTo>
                      <a:pt x="0" y="436"/>
                    </a:lnTo>
                    <a:lnTo>
                      <a:pt x="17" y="568"/>
                    </a:lnTo>
                    <a:lnTo>
                      <a:pt x="59" y="632"/>
                    </a:lnTo>
                    <a:lnTo>
                      <a:pt x="135" y="652"/>
                    </a:lnTo>
                    <a:lnTo>
                      <a:pt x="182" y="649"/>
                    </a:lnTo>
                    <a:lnTo>
                      <a:pt x="220" y="627"/>
                    </a:lnTo>
                    <a:lnTo>
                      <a:pt x="254" y="598"/>
                    </a:lnTo>
                    <a:lnTo>
                      <a:pt x="267" y="547"/>
                    </a:lnTo>
                    <a:lnTo>
                      <a:pt x="258" y="496"/>
                    </a:lnTo>
                    <a:lnTo>
                      <a:pt x="229" y="466"/>
                    </a:lnTo>
                    <a:lnTo>
                      <a:pt x="208" y="433"/>
                    </a:lnTo>
                    <a:lnTo>
                      <a:pt x="199" y="390"/>
                    </a:lnTo>
                    <a:lnTo>
                      <a:pt x="199" y="352"/>
                    </a:lnTo>
                    <a:lnTo>
                      <a:pt x="216" y="318"/>
                    </a:lnTo>
                    <a:lnTo>
                      <a:pt x="275" y="259"/>
                    </a:lnTo>
                    <a:lnTo>
                      <a:pt x="347" y="191"/>
                    </a:lnTo>
                    <a:lnTo>
                      <a:pt x="373" y="135"/>
                    </a:lnTo>
                    <a:lnTo>
                      <a:pt x="376" y="85"/>
                    </a:lnTo>
                  </a:path>
                </a:pathLst>
              </a:cu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113680" y="803160"/>
                <a:ext cx="463320" cy="412920"/>
              </a:xfrm>
              <a:custGeom>
                <a:avLst/>
                <a:gdLst/>
                <a:ahLst/>
                <a:rect l="l" t="t" r="r" b="b"/>
                <a:pathLst>
                  <a:path w="386" h="344">
                    <a:moveTo>
                      <a:pt x="102" y="186"/>
                    </a:moveTo>
                    <a:lnTo>
                      <a:pt x="131" y="127"/>
                    </a:lnTo>
                    <a:lnTo>
                      <a:pt x="186" y="55"/>
                    </a:lnTo>
                    <a:lnTo>
                      <a:pt x="237" y="8"/>
                    </a:lnTo>
                    <a:lnTo>
                      <a:pt x="297" y="0"/>
                    </a:lnTo>
                    <a:lnTo>
                      <a:pt x="347" y="17"/>
                    </a:lnTo>
                    <a:lnTo>
                      <a:pt x="381" y="59"/>
                    </a:lnTo>
                    <a:lnTo>
                      <a:pt x="385" y="118"/>
                    </a:lnTo>
                    <a:lnTo>
                      <a:pt x="360" y="203"/>
                    </a:lnTo>
                    <a:lnTo>
                      <a:pt x="297" y="283"/>
                    </a:lnTo>
                    <a:lnTo>
                      <a:pt x="224" y="339"/>
                    </a:lnTo>
                    <a:lnTo>
                      <a:pt x="157" y="343"/>
                    </a:lnTo>
                    <a:lnTo>
                      <a:pt x="115" y="326"/>
                    </a:lnTo>
                    <a:lnTo>
                      <a:pt x="106" y="301"/>
                    </a:lnTo>
                    <a:lnTo>
                      <a:pt x="102" y="263"/>
                    </a:lnTo>
                    <a:lnTo>
                      <a:pt x="51" y="271"/>
                    </a:lnTo>
                    <a:lnTo>
                      <a:pt x="17" y="288"/>
                    </a:lnTo>
                    <a:lnTo>
                      <a:pt x="0" y="263"/>
                    </a:lnTo>
                    <a:lnTo>
                      <a:pt x="17" y="245"/>
                    </a:lnTo>
                    <a:lnTo>
                      <a:pt x="72" y="225"/>
                    </a:lnTo>
                    <a:lnTo>
                      <a:pt x="106" y="212"/>
                    </a:lnTo>
                    <a:lnTo>
                      <a:pt x="102" y="186"/>
                    </a:lnTo>
                  </a:path>
                </a:pathLst>
              </a:cu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083440" y="1988280"/>
                <a:ext cx="284400" cy="774360"/>
              </a:xfrm>
              <a:custGeom>
                <a:avLst/>
                <a:gdLst/>
                <a:ahLst/>
                <a:rect l="l" t="t" r="r" b="b"/>
                <a:pathLst>
                  <a:path w="237" h="645">
                    <a:moveTo>
                      <a:pt x="178" y="0"/>
                    </a:moveTo>
                    <a:lnTo>
                      <a:pt x="135" y="4"/>
                    </a:lnTo>
                    <a:lnTo>
                      <a:pt x="105" y="59"/>
                    </a:lnTo>
                    <a:lnTo>
                      <a:pt x="114" y="115"/>
                    </a:lnTo>
                    <a:lnTo>
                      <a:pt x="127" y="229"/>
                    </a:lnTo>
                    <a:lnTo>
                      <a:pt x="122" y="301"/>
                    </a:lnTo>
                    <a:lnTo>
                      <a:pt x="127" y="373"/>
                    </a:lnTo>
                    <a:lnTo>
                      <a:pt x="160" y="521"/>
                    </a:lnTo>
                    <a:lnTo>
                      <a:pt x="169" y="559"/>
                    </a:lnTo>
                    <a:lnTo>
                      <a:pt x="160" y="568"/>
                    </a:lnTo>
                    <a:lnTo>
                      <a:pt x="114" y="543"/>
                    </a:lnTo>
                    <a:lnTo>
                      <a:pt x="38" y="530"/>
                    </a:lnTo>
                    <a:lnTo>
                      <a:pt x="0" y="547"/>
                    </a:lnTo>
                    <a:lnTo>
                      <a:pt x="4" y="576"/>
                    </a:lnTo>
                    <a:lnTo>
                      <a:pt x="55" y="589"/>
                    </a:lnTo>
                    <a:lnTo>
                      <a:pt x="114" y="594"/>
                    </a:lnTo>
                    <a:lnTo>
                      <a:pt x="173" y="619"/>
                    </a:lnTo>
                    <a:lnTo>
                      <a:pt x="219" y="644"/>
                    </a:lnTo>
                    <a:lnTo>
                      <a:pt x="236" y="632"/>
                    </a:lnTo>
                    <a:lnTo>
                      <a:pt x="236" y="589"/>
                    </a:lnTo>
                    <a:lnTo>
                      <a:pt x="203" y="509"/>
                    </a:lnTo>
                    <a:lnTo>
                      <a:pt x="185" y="415"/>
                    </a:lnTo>
                    <a:lnTo>
                      <a:pt x="178" y="284"/>
                    </a:lnTo>
                    <a:lnTo>
                      <a:pt x="194" y="166"/>
                    </a:lnTo>
                    <a:lnTo>
                      <a:pt x="211" y="72"/>
                    </a:lnTo>
                    <a:lnTo>
                      <a:pt x="194" y="0"/>
                    </a:lnTo>
                    <a:lnTo>
                      <a:pt x="178" y="0"/>
                    </a:lnTo>
                  </a:path>
                </a:pathLst>
              </a:cu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753320" y="1917360"/>
                <a:ext cx="458640" cy="901800"/>
              </a:xfrm>
              <a:custGeom>
                <a:avLst/>
                <a:gdLst/>
                <a:ahLst/>
                <a:rect l="l" t="t" r="r" b="b"/>
                <a:pathLst>
                  <a:path w="382" h="751">
                    <a:moveTo>
                      <a:pt x="300" y="8"/>
                    </a:moveTo>
                    <a:lnTo>
                      <a:pt x="359" y="0"/>
                    </a:lnTo>
                    <a:lnTo>
                      <a:pt x="381" y="42"/>
                    </a:lnTo>
                    <a:lnTo>
                      <a:pt x="359" y="92"/>
                    </a:lnTo>
                    <a:lnTo>
                      <a:pt x="300" y="177"/>
                    </a:lnTo>
                    <a:lnTo>
                      <a:pt x="254" y="301"/>
                    </a:lnTo>
                    <a:lnTo>
                      <a:pt x="237" y="402"/>
                    </a:lnTo>
                    <a:lnTo>
                      <a:pt x="245" y="508"/>
                    </a:lnTo>
                    <a:lnTo>
                      <a:pt x="262" y="644"/>
                    </a:lnTo>
                    <a:lnTo>
                      <a:pt x="279" y="720"/>
                    </a:lnTo>
                    <a:lnTo>
                      <a:pt x="270" y="750"/>
                    </a:lnTo>
                    <a:lnTo>
                      <a:pt x="241" y="750"/>
                    </a:lnTo>
                    <a:lnTo>
                      <a:pt x="186" y="724"/>
                    </a:lnTo>
                    <a:lnTo>
                      <a:pt x="101" y="707"/>
                    </a:lnTo>
                    <a:lnTo>
                      <a:pt x="12" y="707"/>
                    </a:lnTo>
                    <a:lnTo>
                      <a:pt x="0" y="682"/>
                    </a:lnTo>
                    <a:lnTo>
                      <a:pt x="50" y="648"/>
                    </a:lnTo>
                    <a:lnTo>
                      <a:pt x="76" y="648"/>
                    </a:lnTo>
                    <a:lnTo>
                      <a:pt x="186" y="682"/>
                    </a:lnTo>
                    <a:lnTo>
                      <a:pt x="219" y="695"/>
                    </a:lnTo>
                    <a:lnTo>
                      <a:pt x="228" y="678"/>
                    </a:lnTo>
                    <a:lnTo>
                      <a:pt x="212" y="568"/>
                    </a:lnTo>
                    <a:lnTo>
                      <a:pt x="190" y="449"/>
                    </a:lnTo>
                    <a:lnTo>
                      <a:pt x="186" y="343"/>
                    </a:lnTo>
                    <a:lnTo>
                      <a:pt x="203" y="237"/>
                    </a:lnTo>
                    <a:lnTo>
                      <a:pt x="232" y="114"/>
                    </a:lnTo>
                    <a:lnTo>
                      <a:pt x="266" y="21"/>
                    </a:lnTo>
                    <a:lnTo>
                      <a:pt x="300" y="8"/>
                    </a:lnTo>
                  </a:path>
                </a:pathLst>
              </a:cu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Sans Typewrit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*_clk</a:t>
            </a: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sinal de relóg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Sans Typewrit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*_next</a:t>
            </a: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sinal antes de registra-l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Sans Typewrit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*_l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sinal ativo nível baix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Sans Typewrit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*_xi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entrada do circui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Sans Typewrit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*_xo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saída do circui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ódigo </a:t>
            </a:r>
            <a:r>
              <a:rPr b="0" lang="en-US" sz="4400" spc="-1" strike="noStrike">
                <a:solidFill>
                  <a:srgbClr val="000000"/>
                </a:solidFill>
                <a:latin typeface="Lucida Handwriting"/>
              </a:rPr>
              <a:t>bonito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sufixos de</a:t>
            </a:r>
            <a:r>
              <a:rPr b="0" lang="en-US" sz="4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identificado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ntár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393560" y="1828800"/>
            <a:ext cx="6032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Typewriter"/>
              </a:rPr>
              <a:t>/* Comentário atravessan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Typewriter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 Typewriter"/>
              </a:rPr>
              <a:t>várias linhas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Typewriter"/>
              </a:rPr>
              <a:t>// Comentário até o fim da linh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563480" y="3936960"/>
            <a:ext cx="5529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Cuidado com acentos á é ô à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3" name="eudesast" descr=""/>
          <p:cNvPicPr/>
          <p:nvPr/>
        </p:nvPicPr>
        <p:blipFill>
          <a:blip r:embed="rId1"/>
          <a:stretch/>
        </p:blipFill>
        <p:spPr>
          <a:xfrm>
            <a:off x="3352680" y="4459320"/>
            <a:ext cx="2502000" cy="19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dentificado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00240" y="1936800"/>
            <a:ext cx="85932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Courier New"/>
              </a:rPr>
              <a:t>identifier ::= simple_identifier |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sz="2400" spc="-1" strike="noStrike">
                <a:solidFill>
                  <a:srgbClr val="000000"/>
                </a:solidFill>
                <a:latin typeface="Courier New"/>
              </a:rPr>
              <a:t>escaped_identif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Courier New"/>
              </a:rPr>
              <a:t>simple_identifier ::= [a-zA-Z][0-9a-zA-Z_$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Courier New"/>
              </a:rPr>
              <a:t>escaped_identifier ::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sz="2400" spc="-1" strike="noStrike">
                <a:solidFill>
                  <a:srgbClr val="000000"/>
                </a:solidFill>
                <a:latin typeface="Courier New"/>
              </a:rPr>
              <a:t>\{Any_ASCII_character_except_white_space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sz="2400" spc="-1" strike="noStrike">
                <a:solidFill>
                  <a:srgbClr val="000000"/>
                </a:solidFill>
                <a:latin typeface="Courier New"/>
              </a:rPr>
              <a:t>white_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Courier New"/>
              </a:rPr>
              <a:t>white_space ::= space | tab | new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dentificadores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- exempl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53360" y="2073240"/>
            <a:ext cx="8896320" cy="40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legal_identifier </a:t>
            </a: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Century Schoolbook"/>
              </a:rPr>
              <a:t>// </a:t>
            </a:r>
            <a:r>
              <a:rPr b="0" i="1" lang="pt-BR" sz="2400" spc="-1" strike="noStrike">
                <a:solidFill>
                  <a:srgbClr val="000000"/>
                </a:solidFill>
                <a:latin typeface="Century Schoolbook"/>
              </a:rPr>
              <a:t>underscores</a:t>
            </a:r>
            <a:r>
              <a:rPr b="0" lang="pt-BR" sz="2400" spc="-1" strike="noStrike">
                <a:solidFill>
                  <a:srgbClr val="000000"/>
                </a:solidFill>
                <a:latin typeface="Century Schoolbook"/>
              </a:rPr>
              <a:t> no meio pod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two__underscores </a:t>
            </a: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Century Schoolbook"/>
              </a:rPr>
              <a:t>// mesmo vários em seguid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_OK  </a:t>
            </a: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Century Schoolbook"/>
              </a:rPr>
              <a:t>// pode iniciar com </a:t>
            </a:r>
            <a:r>
              <a:rPr b="0" i="1" lang="pt-BR" sz="2400" spc="-1" strike="noStrike">
                <a:solidFill>
                  <a:srgbClr val="000000"/>
                </a:solidFill>
                <a:latin typeface="Century Schoolbook"/>
              </a:rPr>
              <a:t>unders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OK_  </a:t>
            </a: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Century Schoolbook"/>
              </a:rPr>
              <a:t>// e terminar també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OK$  </a:t>
            </a: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Century Schoolbook"/>
              </a:rPr>
              <a:t>// $ pode, mas não no iníc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OK_1 </a:t>
            </a: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Century Schoolbook"/>
              </a:rPr>
              <a:t>// dígitos no meio e no fim po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CASE_sensitive </a:t>
            </a:r>
            <a:r>
              <a:rPr b="0" lang="pt-BR" sz="2400" spc="-1" strike="noStrike">
                <a:solidFill>
                  <a:srgbClr val="000000"/>
                </a:solidFill>
                <a:latin typeface="Century Schoolbook"/>
              </a:rPr>
              <a:t>// Verilog diferencia maiúsculo/minúscu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\bit/s</a:t>
            </a: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Century Schoolbook"/>
              </a:rPr>
              <a:t>// com ‘</a:t>
            </a:r>
            <a:r>
              <a:rPr b="0" i="1" lang="pt-BR" sz="2400" spc="-1" strike="noStrike">
                <a:solidFill>
                  <a:srgbClr val="000000"/>
                </a:solidFill>
                <a:latin typeface="Century Schoolbook"/>
              </a:rPr>
              <a:t>escape</a:t>
            </a:r>
            <a:r>
              <a:rPr b="0" lang="pt-BR" sz="2400" spc="-1" strike="noStrike">
                <a:solidFill>
                  <a:srgbClr val="000000"/>
                </a:solidFill>
                <a:latin typeface="Century Schoolbook"/>
              </a:rPr>
              <a:t>’ no início, pode tudo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\a*b x</a:t>
            </a: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Century Schoolbook"/>
              </a:rPr>
              <a:t>//  mas observo o espaç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alores lógic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828360" y="1295280"/>
            <a:ext cx="744264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‘</a:t>
            </a: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0’ ‘1’ </a:t>
            </a: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Century Schoolbook"/>
              </a:rPr>
              <a:t>valores determina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‘</a:t>
            </a: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z’  </a:t>
            </a: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Century Schoolbook"/>
              </a:rPr>
              <a:t>alta impedância de uma porta </a:t>
            </a:r>
            <a:r>
              <a:rPr b="0" i="1" lang="pt-BR" sz="2400" spc="-1" strike="noStrike">
                <a:solidFill>
                  <a:srgbClr val="000000"/>
                </a:solidFill>
                <a:latin typeface="Century Schoolbook"/>
              </a:rPr>
              <a:t>tri-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‘</a:t>
            </a: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x’  </a:t>
            </a: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Century Schoolbook"/>
              </a:rPr>
              <a:t>indefinido ou em transi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85800" y="289548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 quê significa isso 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28600" y="3505320"/>
            <a:ext cx="8915400" cy="280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Typewriter"/>
              </a:rPr>
              <a:t>‘</a:t>
            </a:r>
            <a:r>
              <a:rPr b="0" lang="en-US" sz="2400" spc="-1" strike="noStrike">
                <a:solidFill>
                  <a:srgbClr val="000000"/>
                </a:solidFill>
                <a:latin typeface="Lucida Sans Typewriter"/>
              </a:rPr>
              <a:t>z’  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Determinadas portas lógicas podem forçar a saída para ‘0’ o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para ‘1’ ou ainda fazer força nenhum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Estas portas existem de verdade e o estado ‘z’ existe de verdade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apesar de que ele não pode ser detectado medindo a tensã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elétrica do fi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Typewriter"/>
              </a:rPr>
              <a:t>‘</a:t>
            </a:r>
            <a:r>
              <a:rPr b="0" lang="en-US" sz="2400" spc="-1" strike="noStrike">
                <a:solidFill>
                  <a:srgbClr val="000000"/>
                </a:solidFill>
                <a:latin typeface="Lucida Sans Typewriter"/>
              </a:rPr>
              <a:t>x’</a:t>
            </a:r>
            <a:r>
              <a:rPr b="0" lang="en-US" sz="2400" spc="-1" strike="noStrike">
                <a:solidFill>
                  <a:srgbClr val="000000"/>
                </a:solidFill>
                <a:latin typeface="Lucida Sans Typewriter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não é um valor real. Não existe porta que faz ‘x’. ‘x’ significa 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o simulador não tem como determinar o valor verdadeir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atro valores lógicos</a:t>
            </a: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o trabalhar com ele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048680" y="2251080"/>
            <a:ext cx="4822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bela de verdade de uma porta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 lógica de quatro val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7240680" y="382680"/>
            <a:ext cx="1031760" cy="2225520"/>
            <a:chOff x="7240680" y="382680"/>
            <a:chExt cx="1031760" cy="2225520"/>
          </a:xfrm>
        </p:grpSpPr>
        <p:grpSp>
          <p:nvGrpSpPr>
            <p:cNvPr id="285" name=""/>
            <p:cNvGrpSpPr/>
            <p:nvPr/>
          </p:nvGrpSpPr>
          <p:grpSpPr>
            <a:xfrm>
              <a:off x="7240680" y="554040"/>
              <a:ext cx="1031760" cy="2054160"/>
              <a:chOff x="7240680" y="554040"/>
              <a:chExt cx="1031760" cy="2054160"/>
            </a:xfrm>
          </p:grpSpPr>
          <p:sp>
            <p:nvSpPr>
              <p:cNvPr id="286" name=""/>
              <p:cNvSpPr/>
              <p:nvPr/>
            </p:nvSpPr>
            <p:spPr>
              <a:xfrm>
                <a:off x="7569360" y="668160"/>
                <a:ext cx="404640" cy="449280"/>
              </a:xfrm>
              <a:custGeom>
                <a:avLst/>
                <a:gdLst/>
                <a:ahLst/>
                <a:rect l="l" t="t" r="r" b="b"/>
                <a:pathLst>
                  <a:path w="509" h="566">
                    <a:moveTo>
                      <a:pt x="265" y="131"/>
                    </a:moveTo>
                    <a:lnTo>
                      <a:pt x="221" y="73"/>
                    </a:lnTo>
                    <a:lnTo>
                      <a:pt x="158" y="29"/>
                    </a:lnTo>
                    <a:lnTo>
                      <a:pt x="102" y="0"/>
                    </a:lnTo>
                    <a:lnTo>
                      <a:pt x="58" y="8"/>
                    </a:lnTo>
                    <a:lnTo>
                      <a:pt x="25" y="40"/>
                    </a:lnTo>
                    <a:lnTo>
                      <a:pt x="0" y="139"/>
                    </a:lnTo>
                    <a:lnTo>
                      <a:pt x="10" y="251"/>
                    </a:lnTo>
                    <a:lnTo>
                      <a:pt x="37" y="359"/>
                    </a:lnTo>
                    <a:lnTo>
                      <a:pt x="66" y="443"/>
                    </a:lnTo>
                    <a:lnTo>
                      <a:pt x="121" y="530"/>
                    </a:lnTo>
                    <a:lnTo>
                      <a:pt x="169" y="566"/>
                    </a:lnTo>
                    <a:lnTo>
                      <a:pt x="235" y="566"/>
                    </a:lnTo>
                    <a:lnTo>
                      <a:pt x="302" y="541"/>
                    </a:lnTo>
                    <a:lnTo>
                      <a:pt x="335" y="479"/>
                    </a:lnTo>
                    <a:lnTo>
                      <a:pt x="353" y="399"/>
                    </a:lnTo>
                    <a:lnTo>
                      <a:pt x="346" y="301"/>
                    </a:lnTo>
                    <a:lnTo>
                      <a:pt x="501" y="312"/>
                    </a:lnTo>
                    <a:lnTo>
                      <a:pt x="509" y="269"/>
                    </a:lnTo>
                    <a:lnTo>
                      <a:pt x="332" y="251"/>
                    </a:lnTo>
                    <a:lnTo>
                      <a:pt x="287" y="150"/>
                    </a:lnTo>
                    <a:lnTo>
                      <a:pt x="265" y="131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7240680" y="554040"/>
                <a:ext cx="465120" cy="719280"/>
              </a:xfrm>
              <a:custGeom>
                <a:avLst/>
                <a:gdLst/>
                <a:ahLst/>
                <a:rect l="l" t="t" r="r" b="b"/>
                <a:pathLst>
                  <a:path w="586" h="907">
                    <a:moveTo>
                      <a:pt x="342" y="22"/>
                    </a:moveTo>
                    <a:lnTo>
                      <a:pt x="416" y="0"/>
                    </a:lnTo>
                    <a:lnTo>
                      <a:pt x="475" y="4"/>
                    </a:lnTo>
                    <a:lnTo>
                      <a:pt x="520" y="36"/>
                    </a:lnTo>
                    <a:lnTo>
                      <a:pt x="550" y="87"/>
                    </a:lnTo>
                    <a:lnTo>
                      <a:pt x="539" y="141"/>
                    </a:lnTo>
                    <a:lnTo>
                      <a:pt x="497" y="141"/>
                    </a:lnTo>
                    <a:lnTo>
                      <a:pt x="508" y="97"/>
                    </a:lnTo>
                    <a:lnTo>
                      <a:pt x="475" y="58"/>
                    </a:lnTo>
                    <a:lnTo>
                      <a:pt x="443" y="44"/>
                    </a:lnTo>
                    <a:lnTo>
                      <a:pt x="387" y="58"/>
                    </a:lnTo>
                    <a:lnTo>
                      <a:pt x="409" y="102"/>
                    </a:lnTo>
                    <a:lnTo>
                      <a:pt x="416" y="141"/>
                    </a:lnTo>
                    <a:lnTo>
                      <a:pt x="409" y="174"/>
                    </a:lnTo>
                    <a:lnTo>
                      <a:pt x="354" y="189"/>
                    </a:lnTo>
                    <a:lnTo>
                      <a:pt x="294" y="178"/>
                    </a:lnTo>
                    <a:lnTo>
                      <a:pt x="283" y="152"/>
                    </a:lnTo>
                    <a:lnTo>
                      <a:pt x="221" y="221"/>
                    </a:lnTo>
                    <a:lnTo>
                      <a:pt x="184" y="297"/>
                    </a:lnTo>
                    <a:lnTo>
                      <a:pt x="133" y="395"/>
                    </a:lnTo>
                    <a:lnTo>
                      <a:pt x="99" y="482"/>
                    </a:lnTo>
                    <a:lnTo>
                      <a:pt x="85" y="566"/>
                    </a:lnTo>
                    <a:lnTo>
                      <a:pt x="96" y="609"/>
                    </a:lnTo>
                    <a:lnTo>
                      <a:pt x="155" y="664"/>
                    </a:lnTo>
                    <a:lnTo>
                      <a:pt x="277" y="711"/>
                    </a:lnTo>
                    <a:lnTo>
                      <a:pt x="342" y="732"/>
                    </a:lnTo>
                    <a:lnTo>
                      <a:pt x="409" y="743"/>
                    </a:lnTo>
                    <a:lnTo>
                      <a:pt x="508" y="783"/>
                    </a:lnTo>
                    <a:lnTo>
                      <a:pt x="582" y="809"/>
                    </a:lnTo>
                    <a:lnTo>
                      <a:pt x="586" y="859"/>
                    </a:lnTo>
                    <a:lnTo>
                      <a:pt x="550" y="896"/>
                    </a:lnTo>
                    <a:lnTo>
                      <a:pt x="505" y="907"/>
                    </a:lnTo>
                    <a:lnTo>
                      <a:pt x="438" y="873"/>
                    </a:lnTo>
                    <a:lnTo>
                      <a:pt x="283" y="794"/>
                    </a:lnTo>
                    <a:lnTo>
                      <a:pt x="155" y="740"/>
                    </a:lnTo>
                    <a:lnTo>
                      <a:pt x="66" y="678"/>
                    </a:lnTo>
                    <a:lnTo>
                      <a:pt x="7" y="624"/>
                    </a:lnTo>
                    <a:lnTo>
                      <a:pt x="0" y="558"/>
                    </a:lnTo>
                    <a:lnTo>
                      <a:pt x="33" y="471"/>
                    </a:lnTo>
                    <a:lnTo>
                      <a:pt x="99" y="340"/>
                    </a:lnTo>
                    <a:lnTo>
                      <a:pt x="162" y="232"/>
                    </a:lnTo>
                    <a:lnTo>
                      <a:pt x="240" y="120"/>
                    </a:lnTo>
                    <a:lnTo>
                      <a:pt x="299" y="54"/>
                    </a:lnTo>
                    <a:lnTo>
                      <a:pt x="372" y="22"/>
                    </a:lnTo>
                    <a:lnTo>
                      <a:pt x="342" y="22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7680240" y="1149480"/>
                <a:ext cx="243000" cy="676080"/>
              </a:xfrm>
              <a:custGeom>
                <a:avLst/>
                <a:gdLst/>
                <a:ahLst/>
                <a:rect l="l" t="t" r="r" b="b"/>
                <a:pathLst>
                  <a:path w="307" h="850">
                    <a:moveTo>
                      <a:pt x="19" y="66"/>
                    </a:moveTo>
                    <a:lnTo>
                      <a:pt x="30" y="22"/>
                    </a:lnTo>
                    <a:lnTo>
                      <a:pt x="78" y="0"/>
                    </a:lnTo>
                    <a:lnTo>
                      <a:pt x="122" y="0"/>
                    </a:lnTo>
                    <a:lnTo>
                      <a:pt x="177" y="32"/>
                    </a:lnTo>
                    <a:lnTo>
                      <a:pt x="230" y="109"/>
                    </a:lnTo>
                    <a:lnTo>
                      <a:pt x="266" y="188"/>
                    </a:lnTo>
                    <a:lnTo>
                      <a:pt x="284" y="296"/>
                    </a:lnTo>
                    <a:lnTo>
                      <a:pt x="300" y="423"/>
                    </a:lnTo>
                    <a:lnTo>
                      <a:pt x="307" y="546"/>
                    </a:lnTo>
                    <a:lnTo>
                      <a:pt x="307" y="705"/>
                    </a:lnTo>
                    <a:lnTo>
                      <a:pt x="284" y="804"/>
                    </a:lnTo>
                    <a:lnTo>
                      <a:pt x="244" y="839"/>
                    </a:lnTo>
                    <a:lnTo>
                      <a:pt x="174" y="850"/>
                    </a:lnTo>
                    <a:lnTo>
                      <a:pt x="100" y="847"/>
                    </a:lnTo>
                    <a:lnTo>
                      <a:pt x="62" y="804"/>
                    </a:lnTo>
                    <a:lnTo>
                      <a:pt x="41" y="728"/>
                    </a:lnTo>
                    <a:lnTo>
                      <a:pt x="22" y="652"/>
                    </a:lnTo>
                    <a:lnTo>
                      <a:pt x="8" y="514"/>
                    </a:lnTo>
                    <a:lnTo>
                      <a:pt x="0" y="359"/>
                    </a:lnTo>
                    <a:lnTo>
                      <a:pt x="0" y="177"/>
                    </a:lnTo>
                    <a:lnTo>
                      <a:pt x="19" y="98"/>
                    </a:lnTo>
                    <a:lnTo>
                      <a:pt x="19" y="66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7791480" y="1168560"/>
                <a:ext cx="371520" cy="519120"/>
              </a:xfrm>
              <a:custGeom>
                <a:avLst/>
                <a:gdLst/>
                <a:ahLst/>
                <a:rect l="l" t="t" r="r" b="b"/>
                <a:pathLst>
                  <a:path w="468" h="653">
                    <a:moveTo>
                      <a:pt x="25" y="0"/>
                    </a:moveTo>
                    <a:lnTo>
                      <a:pt x="121" y="11"/>
                    </a:lnTo>
                    <a:lnTo>
                      <a:pt x="220" y="29"/>
                    </a:lnTo>
                    <a:lnTo>
                      <a:pt x="324" y="87"/>
                    </a:lnTo>
                    <a:lnTo>
                      <a:pt x="397" y="131"/>
                    </a:lnTo>
                    <a:lnTo>
                      <a:pt x="445" y="193"/>
                    </a:lnTo>
                    <a:lnTo>
                      <a:pt x="468" y="229"/>
                    </a:lnTo>
                    <a:lnTo>
                      <a:pt x="423" y="335"/>
                    </a:lnTo>
                    <a:lnTo>
                      <a:pt x="353" y="399"/>
                    </a:lnTo>
                    <a:lnTo>
                      <a:pt x="268" y="446"/>
                    </a:lnTo>
                    <a:lnTo>
                      <a:pt x="224" y="475"/>
                    </a:lnTo>
                    <a:lnTo>
                      <a:pt x="147" y="490"/>
                    </a:lnTo>
                    <a:lnTo>
                      <a:pt x="143" y="519"/>
                    </a:lnTo>
                    <a:lnTo>
                      <a:pt x="202" y="544"/>
                    </a:lnTo>
                    <a:lnTo>
                      <a:pt x="287" y="567"/>
                    </a:lnTo>
                    <a:lnTo>
                      <a:pt x="367" y="610"/>
                    </a:lnTo>
                    <a:lnTo>
                      <a:pt x="335" y="642"/>
                    </a:lnTo>
                    <a:lnTo>
                      <a:pt x="302" y="653"/>
                    </a:lnTo>
                    <a:lnTo>
                      <a:pt x="254" y="606"/>
                    </a:lnTo>
                    <a:lnTo>
                      <a:pt x="180" y="577"/>
                    </a:lnTo>
                    <a:lnTo>
                      <a:pt x="121" y="555"/>
                    </a:lnTo>
                    <a:lnTo>
                      <a:pt x="121" y="512"/>
                    </a:lnTo>
                    <a:lnTo>
                      <a:pt x="132" y="465"/>
                    </a:lnTo>
                    <a:lnTo>
                      <a:pt x="169" y="446"/>
                    </a:lnTo>
                    <a:lnTo>
                      <a:pt x="287" y="399"/>
                    </a:lnTo>
                    <a:lnTo>
                      <a:pt x="353" y="327"/>
                    </a:lnTo>
                    <a:lnTo>
                      <a:pt x="401" y="251"/>
                    </a:lnTo>
                    <a:lnTo>
                      <a:pt x="390" y="214"/>
                    </a:lnTo>
                    <a:lnTo>
                      <a:pt x="353" y="171"/>
                    </a:lnTo>
                    <a:lnTo>
                      <a:pt x="265" y="109"/>
                    </a:lnTo>
                    <a:lnTo>
                      <a:pt x="158" y="87"/>
                    </a:lnTo>
                    <a:lnTo>
                      <a:pt x="88" y="84"/>
                    </a:lnTo>
                    <a:lnTo>
                      <a:pt x="25" y="84"/>
                    </a:lnTo>
                    <a:lnTo>
                      <a:pt x="0" y="44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7821720" y="1755720"/>
                <a:ext cx="450720" cy="838080"/>
              </a:xfrm>
              <a:custGeom>
                <a:avLst/>
                <a:gdLst/>
                <a:ahLst/>
                <a:rect l="l" t="t" r="r" b="b"/>
                <a:pathLst>
                  <a:path w="570" h="1056">
                    <a:moveTo>
                      <a:pt x="66" y="0"/>
                    </a:moveTo>
                    <a:lnTo>
                      <a:pt x="15" y="0"/>
                    </a:lnTo>
                    <a:lnTo>
                      <a:pt x="0" y="76"/>
                    </a:lnTo>
                    <a:lnTo>
                      <a:pt x="37" y="121"/>
                    </a:lnTo>
                    <a:lnTo>
                      <a:pt x="155" y="226"/>
                    </a:lnTo>
                    <a:lnTo>
                      <a:pt x="259" y="359"/>
                    </a:lnTo>
                    <a:lnTo>
                      <a:pt x="326" y="498"/>
                    </a:lnTo>
                    <a:lnTo>
                      <a:pt x="336" y="588"/>
                    </a:lnTo>
                    <a:lnTo>
                      <a:pt x="332" y="654"/>
                    </a:lnTo>
                    <a:lnTo>
                      <a:pt x="304" y="802"/>
                    </a:lnTo>
                    <a:lnTo>
                      <a:pt x="266" y="922"/>
                    </a:lnTo>
                    <a:lnTo>
                      <a:pt x="233" y="992"/>
                    </a:lnTo>
                    <a:lnTo>
                      <a:pt x="225" y="1035"/>
                    </a:lnTo>
                    <a:lnTo>
                      <a:pt x="259" y="1035"/>
                    </a:lnTo>
                    <a:lnTo>
                      <a:pt x="310" y="1020"/>
                    </a:lnTo>
                    <a:lnTo>
                      <a:pt x="326" y="1024"/>
                    </a:lnTo>
                    <a:lnTo>
                      <a:pt x="433" y="1031"/>
                    </a:lnTo>
                    <a:lnTo>
                      <a:pt x="514" y="1056"/>
                    </a:lnTo>
                    <a:lnTo>
                      <a:pt x="543" y="1042"/>
                    </a:lnTo>
                    <a:lnTo>
                      <a:pt x="570" y="987"/>
                    </a:lnTo>
                    <a:lnTo>
                      <a:pt x="543" y="958"/>
                    </a:lnTo>
                    <a:lnTo>
                      <a:pt x="422" y="955"/>
                    </a:lnTo>
                    <a:lnTo>
                      <a:pt x="336" y="966"/>
                    </a:lnTo>
                    <a:lnTo>
                      <a:pt x="292" y="987"/>
                    </a:lnTo>
                    <a:lnTo>
                      <a:pt x="299" y="937"/>
                    </a:lnTo>
                    <a:lnTo>
                      <a:pt x="344" y="860"/>
                    </a:lnTo>
                    <a:lnTo>
                      <a:pt x="380" y="741"/>
                    </a:lnTo>
                    <a:lnTo>
                      <a:pt x="411" y="639"/>
                    </a:lnTo>
                    <a:lnTo>
                      <a:pt x="388" y="523"/>
                    </a:lnTo>
                    <a:lnTo>
                      <a:pt x="355" y="400"/>
                    </a:lnTo>
                    <a:lnTo>
                      <a:pt x="288" y="258"/>
                    </a:lnTo>
                    <a:lnTo>
                      <a:pt x="192" y="128"/>
                    </a:lnTo>
                    <a:lnTo>
                      <a:pt x="111" y="33"/>
                    </a:lnTo>
                    <a:lnTo>
                      <a:pt x="66" y="0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7537320" y="1754280"/>
                <a:ext cx="303480" cy="853920"/>
              </a:xfrm>
              <a:custGeom>
                <a:avLst/>
                <a:gdLst/>
                <a:ahLst/>
                <a:rect l="l" t="t" r="r" b="b"/>
                <a:pathLst>
                  <a:path w="383" h="1076">
                    <a:moveTo>
                      <a:pt x="265" y="0"/>
                    </a:moveTo>
                    <a:lnTo>
                      <a:pt x="217" y="102"/>
                    </a:lnTo>
                    <a:lnTo>
                      <a:pt x="183" y="250"/>
                    </a:lnTo>
                    <a:lnTo>
                      <a:pt x="143" y="414"/>
                    </a:lnTo>
                    <a:lnTo>
                      <a:pt x="107" y="580"/>
                    </a:lnTo>
                    <a:lnTo>
                      <a:pt x="107" y="641"/>
                    </a:lnTo>
                    <a:lnTo>
                      <a:pt x="143" y="750"/>
                    </a:lnTo>
                    <a:lnTo>
                      <a:pt x="195" y="808"/>
                    </a:lnTo>
                    <a:lnTo>
                      <a:pt x="243" y="881"/>
                    </a:lnTo>
                    <a:lnTo>
                      <a:pt x="276" y="934"/>
                    </a:lnTo>
                    <a:lnTo>
                      <a:pt x="262" y="960"/>
                    </a:lnTo>
                    <a:lnTo>
                      <a:pt x="177" y="971"/>
                    </a:lnTo>
                    <a:lnTo>
                      <a:pt x="40" y="992"/>
                    </a:lnTo>
                    <a:lnTo>
                      <a:pt x="0" y="1026"/>
                    </a:lnTo>
                    <a:lnTo>
                      <a:pt x="33" y="1055"/>
                    </a:lnTo>
                    <a:lnTo>
                      <a:pt x="110" y="1076"/>
                    </a:lnTo>
                    <a:lnTo>
                      <a:pt x="199" y="1033"/>
                    </a:lnTo>
                    <a:lnTo>
                      <a:pt x="265" y="1004"/>
                    </a:lnTo>
                    <a:lnTo>
                      <a:pt x="350" y="992"/>
                    </a:lnTo>
                    <a:lnTo>
                      <a:pt x="383" y="982"/>
                    </a:lnTo>
                    <a:lnTo>
                      <a:pt x="372" y="946"/>
                    </a:lnTo>
                    <a:lnTo>
                      <a:pt x="276" y="852"/>
                    </a:lnTo>
                    <a:lnTo>
                      <a:pt x="220" y="754"/>
                    </a:lnTo>
                    <a:lnTo>
                      <a:pt x="172" y="688"/>
                    </a:lnTo>
                    <a:lnTo>
                      <a:pt x="166" y="623"/>
                    </a:lnTo>
                    <a:lnTo>
                      <a:pt x="188" y="515"/>
                    </a:lnTo>
                    <a:lnTo>
                      <a:pt x="239" y="403"/>
                    </a:lnTo>
                    <a:lnTo>
                      <a:pt x="295" y="211"/>
                    </a:lnTo>
                    <a:lnTo>
                      <a:pt x="343" y="98"/>
                    </a:lnTo>
                    <a:lnTo>
                      <a:pt x="338" y="33"/>
                    </a:lnTo>
                    <a:lnTo>
                      <a:pt x="295" y="0"/>
                    </a:lnTo>
                    <a:lnTo>
                      <a:pt x="265" y="0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2" name=""/>
            <p:cNvGrpSpPr/>
            <p:nvPr/>
          </p:nvGrpSpPr>
          <p:grpSpPr>
            <a:xfrm>
              <a:off x="7862760" y="382680"/>
              <a:ext cx="185760" cy="252360"/>
              <a:chOff x="7862760" y="382680"/>
              <a:chExt cx="185760" cy="252360"/>
            </a:xfrm>
          </p:grpSpPr>
          <p:sp>
            <p:nvSpPr>
              <p:cNvPr id="293" name=""/>
              <p:cNvSpPr/>
              <p:nvPr/>
            </p:nvSpPr>
            <p:spPr>
              <a:xfrm>
                <a:off x="7899480" y="382680"/>
                <a:ext cx="149040" cy="174600"/>
              </a:xfrm>
              <a:custGeom>
                <a:avLst/>
                <a:gdLst/>
                <a:ahLst/>
                <a:rect l="l" t="t" r="r" b="b"/>
                <a:pathLst>
                  <a:path w="190" h="221">
                    <a:moveTo>
                      <a:pt x="23" y="10"/>
                    </a:moveTo>
                    <a:lnTo>
                      <a:pt x="74" y="0"/>
                    </a:lnTo>
                    <a:lnTo>
                      <a:pt x="123" y="4"/>
                    </a:lnTo>
                    <a:lnTo>
                      <a:pt x="168" y="25"/>
                    </a:lnTo>
                    <a:lnTo>
                      <a:pt x="190" y="65"/>
                    </a:lnTo>
                    <a:lnTo>
                      <a:pt x="190" y="97"/>
                    </a:lnTo>
                    <a:lnTo>
                      <a:pt x="168" y="141"/>
                    </a:lnTo>
                    <a:lnTo>
                      <a:pt x="130" y="166"/>
                    </a:lnTo>
                    <a:lnTo>
                      <a:pt x="74" y="166"/>
                    </a:lnTo>
                    <a:lnTo>
                      <a:pt x="41" y="188"/>
                    </a:lnTo>
                    <a:lnTo>
                      <a:pt x="29" y="221"/>
                    </a:lnTo>
                    <a:lnTo>
                      <a:pt x="0" y="210"/>
                    </a:lnTo>
                    <a:lnTo>
                      <a:pt x="12" y="166"/>
                    </a:lnTo>
                    <a:lnTo>
                      <a:pt x="52" y="141"/>
                    </a:lnTo>
                    <a:lnTo>
                      <a:pt x="119" y="134"/>
                    </a:lnTo>
                    <a:lnTo>
                      <a:pt x="145" y="108"/>
                    </a:lnTo>
                    <a:lnTo>
                      <a:pt x="152" y="68"/>
                    </a:lnTo>
                    <a:lnTo>
                      <a:pt x="123" y="33"/>
                    </a:lnTo>
                    <a:lnTo>
                      <a:pt x="78" y="33"/>
                    </a:lnTo>
                    <a:lnTo>
                      <a:pt x="29" y="44"/>
                    </a:lnTo>
                    <a:lnTo>
                      <a:pt x="12" y="33"/>
                    </a:lnTo>
                    <a:lnTo>
                      <a:pt x="23" y="10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7862760" y="587520"/>
                <a:ext cx="46080" cy="47520"/>
              </a:xfrm>
              <a:custGeom>
                <a:avLst/>
                <a:gdLst/>
                <a:ahLst/>
                <a:rect l="l" t="t" r="r" b="b"/>
                <a:pathLst>
                  <a:path w="59" h="60">
                    <a:moveTo>
                      <a:pt x="59" y="3"/>
                    </a:moveTo>
                    <a:lnTo>
                      <a:pt x="29" y="0"/>
                    </a:lnTo>
                    <a:lnTo>
                      <a:pt x="9" y="22"/>
                    </a:lnTo>
                    <a:lnTo>
                      <a:pt x="0" y="57"/>
                    </a:lnTo>
                    <a:lnTo>
                      <a:pt x="29" y="60"/>
                    </a:lnTo>
                    <a:lnTo>
                      <a:pt x="53" y="44"/>
                    </a:lnTo>
                    <a:lnTo>
                      <a:pt x="59" y="3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295" name=""/>
          <p:cNvGraphicFramePr/>
          <p:nvPr/>
        </p:nvGraphicFramePr>
        <p:xfrm>
          <a:off x="2819520" y="3657600"/>
          <a:ext cx="4356000" cy="2717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19520" y="3657600"/>
                    <a:ext cx="4356000" cy="271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7682400" y="351792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Typewriter"/>
              </a:rPr>
              <a:t>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alores lógicos num barramen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914400" y="3886200"/>
            <a:ext cx="64771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7698240" y="3581280"/>
            <a:ext cx="42444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Typewriter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1662840" y="3884760"/>
            <a:ext cx="363600" cy="1562760"/>
            <a:chOff x="1662840" y="3884760"/>
            <a:chExt cx="363600" cy="1562760"/>
          </a:xfrm>
        </p:grpSpPr>
        <p:sp>
          <p:nvSpPr>
            <p:cNvPr id="302" name=""/>
            <p:cNvSpPr/>
            <p:nvPr/>
          </p:nvSpPr>
          <p:spPr>
            <a:xfrm>
              <a:off x="1674720" y="4648320"/>
              <a:ext cx="3034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1674720" y="4417560"/>
              <a:ext cx="150840" cy="227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826640" y="4417920"/>
              <a:ext cx="150840" cy="227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825560" y="4646520"/>
              <a:ext cx="0" cy="379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1825560" y="3884760"/>
              <a:ext cx="0" cy="531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1662840" y="49878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Sans Typewriter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8" name=""/>
          <p:cNvGrpSpPr/>
          <p:nvPr/>
        </p:nvGrpSpPr>
        <p:grpSpPr>
          <a:xfrm>
            <a:off x="1905120" y="4267080"/>
            <a:ext cx="822960" cy="459720"/>
            <a:chOff x="1905120" y="4267080"/>
            <a:chExt cx="822960" cy="459720"/>
          </a:xfrm>
        </p:grpSpPr>
        <p:sp>
          <p:nvSpPr>
            <p:cNvPr id="309" name=""/>
            <p:cNvSpPr/>
            <p:nvPr/>
          </p:nvSpPr>
          <p:spPr>
            <a:xfrm>
              <a:off x="1905120" y="44956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364480" y="42670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Sans Typewriter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1" name=""/>
          <p:cNvSpPr/>
          <p:nvPr/>
        </p:nvSpPr>
        <p:spPr>
          <a:xfrm>
            <a:off x="7698240" y="3581280"/>
            <a:ext cx="42444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Typewriter"/>
              </a:rPr>
              <a:t>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2808720" y="2286000"/>
            <a:ext cx="363600" cy="1598760"/>
            <a:chOff x="2808720" y="2286000"/>
            <a:chExt cx="363600" cy="1598760"/>
          </a:xfrm>
        </p:grpSpPr>
        <p:sp>
          <p:nvSpPr>
            <p:cNvPr id="313" name=""/>
            <p:cNvSpPr/>
            <p:nvPr/>
          </p:nvSpPr>
          <p:spPr>
            <a:xfrm flipH="1" flipV="1">
              <a:off x="2819520" y="3121920"/>
              <a:ext cx="30312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2970720" y="3124440"/>
              <a:ext cx="152280" cy="226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H="1" flipV="1">
              <a:off x="2819880" y="3121920"/>
              <a:ext cx="149400" cy="227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flipV="1">
              <a:off x="2973960" y="2743200"/>
              <a:ext cx="2160" cy="379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2968920" y="3352680"/>
              <a:ext cx="2880" cy="532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808720" y="22860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Sans Typewriter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9" name=""/>
          <p:cNvGrpSpPr/>
          <p:nvPr/>
        </p:nvGrpSpPr>
        <p:grpSpPr>
          <a:xfrm>
            <a:off x="3964680" y="3886200"/>
            <a:ext cx="363600" cy="1562760"/>
            <a:chOff x="3964680" y="3886200"/>
            <a:chExt cx="363600" cy="1562760"/>
          </a:xfrm>
        </p:grpSpPr>
        <p:sp>
          <p:nvSpPr>
            <p:cNvPr id="320" name=""/>
            <p:cNvSpPr/>
            <p:nvPr/>
          </p:nvSpPr>
          <p:spPr>
            <a:xfrm>
              <a:off x="3976560" y="4649760"/>
              <a:ext cx="3034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976560" y="4419000"/>
              <a:ext cx="150840" cy="227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4128480" y="4419360"/>
              <a:ext cx="150840" cy="227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4127400" y="4647960"/>
              <a:ext cx="0" cy="379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127400" y="3886200"/>
              <a:ext cx="0" cy="531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964680" y="49892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Sans Typewriter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6" name=""/>
          <p:cNvSpPr/>
          <p:nvPr/>
        </p:nvSpPr>
        <p:spPr>
          <a:xfrm>
            <a:off x="7698240" y="3581280"/>
            <a:ext cx="42444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Typewriter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7698240" y="3581280"/>
            <a:ext cx="42444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Typewriter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ulação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definiç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o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scrição de aspeto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nteressant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de um sistema re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mulação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do um modelo de condições de contorno (sinais de entrada), fornece a reação do sistema com respeito ao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spetos modelado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sinais de saíd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ulação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quê ela fa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SzPct val="80000"/>
              <a:buFont typeface="Web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Processamento concorrente,</a:t>
            </a:r>
            <a:br>
              <a:rPr sz="3200"/>
            </a:b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faz de conta que diferentes ações acontecem no mesmo temp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SzPct val="80000"/>
              <a:buFont typeface="Web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Obedece a especificações temporais,</a:t>
            </a:r>
            <a:br>
              <a:rPr sz="3200"/>
            </a:b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como atrasos.</a:t>
            </a:r>
            <a:br>
              <a:rPr sz="3200"/>
            </a:b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“tempo de simulação”</a:t>
            </a:r>
            <a:br>
              <a:rPr sz="3200"/>
            </a:b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Directions MT"/>
                <a:ea typeface="Directions MT"/>
              </a:rPr>
              <a:t></a:t>
            </a:r>
            <a:br>
              <a:rPr sz="3200"/>
            </a:b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“tempo simulado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ulação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o funcio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t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vento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m evento é uma mudança de estado associado a um tempo simula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m evento ocorre devido a outro event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ários eventos podem ocorrer ao mesmo temp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Directions MT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uidado com a causalida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4" name="euideia" descr=""/>
          <p:cNvPicPr/>
          <p:nvPr/>
        </p:nvPicPr>
        <p:blipFill>
          <a:blip r:embed=""/>
          <a:stretch/>
        </p:blipFill>
        <p:spPr>
          <a:xfrm>
            <a:off x="7010280" y="228600"/>
            <a:ext cx="747720" cy="22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o do tópico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inuaç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Century Schoolbook"/>
              </a:rPr>
              <a:t>Descrição estrutural em Verilog – 8 hor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entury Schoolbook"/>
              </a:rPr>
              <a:t>Instanciar módulos predefini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entury Schoolbook"/>
              </a:rPr>
              <a:t>Representação de funções lógicas e funções seqüenciais em tabel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entury Schoolbook"/>
              </a:rPr>
              <a:t>Modelamento do atraso em portas lógic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entury Schoolbook"/>
              </a:rPr>
              <a:t>Hierarquia de módul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comp3" descr=""/>
          <p:cNvPicPr/>
          <p:nvPr/>
        </p:nvPicPr>
        <p:blipFill>
          <a:blip r:embed=""/>
          <a:stretch/>
        </p:blipFill>
        <p:spPr>
          <a:xfrm>
            <a:off x="7010280" y="4876920"/>
            <a:ext cx="1752840" cy="15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ulação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 exempl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ída de </a:t>
            </a:r>
            <a:r>
              <a:rPr b="0" lang="en-US" sz="3200" spc="-1" strike="noStrike">
                <a:solidFill>
                  <a:srgbClr val="000000"/>
                </a:solidFill>
                <a:latin typeface="Lucida Sans Typewriter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uda; isso leva </a:t>
            </a:r>
            <a:r>
              <a:rPr b="0" lang="en-US" sz="3200" spc="-1" strike="noStrike">
                <a:solidFill>
                  <a:srgbClr val="000000"/>
                </a:solidFill>
                <a:latin typeface="Lucida Sans Typewriter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 </a:t>
            </a:r>
            <a:r>
              <a:rPr b="0" lang="en-US" sz="3200" spc="-1" strike="noStrike">
                <a:solidFill>
                  <a:srgbClr val="000000"/>
                </a:solidFill>
                <a:latin typeface="Lucida Sans Typewriter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 serem executad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ito embora, </a:t>
            </a:r>
            <a:r>
              <a:rPr b="0" lang="en-US" sz="2800" spc="-1" strike="noStrike">
                <a:solidFill>
                  <a:srgbClr val="000000"/>
                </a:solidFill>
                <a:latin typeface="Lucida Sans Typewriter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não chama </a:t>
            </a:r>
            <a:r>
              <a:rPr b="0" lang="en-US" sz="2800" spc="-1" strike="noStrike">
                <a:solidFill>
                  <a:srgbClr val="000000"/>
                </a:solidFill>
                <a:latin typeface="Lucida Sans Typewriter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nem </a:t>
            </a:r>
            <a:r>
              <a:rPr b="0" lang="en-US" sz="2800" spc="-1" strike="noStrike">
                <a:solidFill>
                  <a:srgbClr val="000000"/>
                </a:solidFill>
                <a:latin typeface="Lucida Sans Typewriter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omo numa chamada de função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Sans Typewrit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Typewriter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 </a:t>
            </a:r>
            <a:r>
              <a:rPr b="0" lang="en-US" sz="2800" spc="-1" strike="noStrike">
                <a:solidFill>
                  <a:srgbClr val="000000"/>
                </a:solidFill>
                <a:latin typeface="Lucida Sans Typewriter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xecutam porque são conectadas a saída de </a:t>
            </a:r>
            <a:r>
              <a:rPr b="0" lang="en-US" sz="2800" spc="-1" strike="noStrike">
                <a:solidFill>
                  <a:srgbClr val="000000"/>
                </a:solidFill>
                <a:latin typeface="Lucida Sans Typewriter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6172200" y="2894040"/>
            <a:ext cx="2286000" cy="1374120"/>
            <a:chOff x="6172200" y="2894040"/>
            <a:chExt cx="2286000" cy="1374120"/>
          </a:xfrm>
        </p:grpSpPr>
        <p:sp>
          <p:nvSpPr>
            <p:cNvPr id="338" name=""/>
            <p:cNvSpPr/>
            <p:nvPr/>
          </p:nvSpPr>
          <p:spPr>
            <a:xfrm>
              <a:off x="7696080" y="2895480"/>
              <a:ext cx="0" cy="455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318080" y="2896920"/>
              <a:ext cx="76176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55" y="0"/>
                  </a:moveTo>
                  <a:arcTo wR="10800" hR="10800" stAng="-5414323" swAng="541432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55" y="0"/>
                  </a:moveTo>
                  <a:arcTo wR="10800" hR="10800" stAng="-5414323" swAng="5414323"/>
                </a:path>
              </a:pathLst>
            </a:custGeom>
            <a:noFill/>
            <a:ln cap="rnd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315200" y="2894040"/>
              <a:ext cx="76140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H="1">
              <a:off x="7316640" y="2970000"/>
              <a:ext cx="37944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 flipH="1">
              <a:off x="7316640" y="3274920"/>
              <a:ext cx="3794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H="1">
              <a:off x="8078760" y="3122640"/>
              <a:ext cx="3794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696080" y="3809880"/>
              <a:ext cx="0" cy="455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318080" y="3811320"/>
              <a:ext cx="76176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55" y="0"/>
                  </a:moveTo>
                  <a:arcTo wR="10800" hR="10800" stAng="-5414323" swAng="541432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55" y="0"/>
                  </a:moveTo>
                  <a:arcTo wR="10800" hR="10800" stAng="-5414323" swAng="5414323"/>
                </a:path>
              </a:pathLst>
            </a:custGeom>
            <a:noFill/>
            <a:ln cap="rnd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315200" y="3808440"/>
              <a:ext cx="76140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 flipH="1">
              <a:off x="7316640" y="3884400"/>
              <a:ext cx="3794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 flipH="1">
              <a:off x="7316640" y="4189320"/>
              <a:ext cx="37944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 flipH="1">
              <a:off x="8078760" y="4037040"/>
              <a:ext cx="3794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553080" y="3352680"/>
              <a:ext cx="0" cy="455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6175080" y="3354120"/>
              <a:ext cx="76176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55" y="0"/>
                  </a:moveTo>
                  <a:arcTo wR="10800" hR="10800" stAng="-5414323" swAng="541432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55" y="0"/>
                  </a:moveTo>
                  <a:arcTo wR="10800" hR="10800" stAng="-5414323" swAng="5414323"/>
                </a:path>
              </a:pathLst>
            </a:custGeom>
            <a:noFill/>
            <a:ln cap="rnd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6172200" y="3351240"/>
              <a:ext cx="76140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flipH="1">
              <a:off x="6935760" y="3579840"/>
              <a:ext cx="3794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315200" y="3274920"/>
              <a:ext cx="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616800" y="3402000"/>
              <a:ext cx="1836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Sans Typewriter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772400" y="2932200"/>
              <a:ext cx="1836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Sans Typewriter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772400" y="3846600"/>
              <a:ext cx="1836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Sans Typewriter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Schoolbook"/>
              </a:rPr>
              <a:t>Descrição estrutur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entury Schoolbook"/>
              </a:rPr>
              <a:t>Instanciar módulos predefini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entury Schoolbook"/>
              </a:rPr>
              <a:t>Representação de funções lógicas e funções seqüenciais em tabel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entury Schoolbook"/>
              </a:rPr>
              <a:t>Modelamento do atraso em portas lógic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entury Schoolbook"/>
              </a:rPr>
              <a:t>Hierarquia de módul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0" name="comp3" descr=""/>
          <p:cNvPicPr/>
          <p:nvPr/>
        </p:nvPicPr>
        <p:blipFill>
          <a:blip r:embed=""/>
          <a:stretch/>
        </p:blipFill>
        <p:spPr>
          <a:xfrm>
            <a:off x="7010280" y="4876920"/>
            <a:ext cx="1752840" cy="1549440"/>
          </a:xfrm>
          <a:prstGeom prst="rect">
            <a:avLst/>
          </a:prstGeom>
          <a:ln w="0">
            <a:noFill/>
          </a:ln>
        </p:spPr>
      </p:pic>
      <p:grpSp>
        <p:nvGrpSpPr>
          <p:cNvPr id="361" name=""/>
          <p:cNvGrpSpPr/>
          <p:nvPr/>
        </p:nvGrpSpPr>
        <p:grpSpPr>
          <a:xfrm>
            <a:off x="7348680" y="457200"/>
            <a:ext cx="1490040" cy="2133360"/>
            <a:chOff x="7348680" y="457200"/>
            <a:chExt cx="1490040" cy="2133360"/>
          </a:xfrm>
        </p:grpSpPr>
        <p:grpSp>
          <p:nvGrpSpPr>
            <p:cNvPr id="362" name=""/>
            <p:cNvGrpSpPr/>
            <p:nvPr/>
          </p:nvGrpSpPr>
          <p:grpSpPr>
            <a:xfrm>
              <a:off x="7348680" y="457200"/>
              <a:ext cx="809280" cy="1044360"/>
              <a:chOff x="7348680" y="457200"/>
              <a:chExt cx="809280" cy="1044360"/>
            </a:xfrm>
          </p:grpSpPr>
          <p:sp>
            <p:nvSpPr>
              <p:cNvPr id="363" name=""/>
              <p:cNvSpPr/>
              <p:nvPr/>
            </p:nvSpPr>
            <p:spPr>
              <a:xfrm>
                <a:off x="7348680" y="457200"/>
                <a:ext cx="809280" cy="1044360"/>
              </a:xfrm>
              <a:custGeom>
                <a:avLst/>
                <a:gdLst/>
                <a:ahLst/>
                <a:rect l="l" t="t" r="r" b="b"/>
                <a:pathLst>
                  <a:path w="674" h="870">
                    <a:moveTo>
                      <a:pt x="664" y="182"/>
                    </a:moveTo>
                    <a:lnTo>
                      <a:pt x="668" y="114"/>
                    </a:lnTo>
                    <a:lnTo>
                      <a:pt x="635" y="51"/>
                    </a:lnTo>
                    <a:lnTo>
                      <a:pt x="571" y="0"/>
                    </a:lnTo>
                    <a:lnTo>
                      <a:pt x="474" y="22"/>
                    </a:lnTo>
                    <a:lnTo>
                      <a:pt x="389" y="80"/>
                    </a:lnTo>
                    <a:lnTo>
                      <a:pt x="283" y="127"/>
                    </a:lnTo>
                    <a:lnTo>
                      <a:pt x="169" y="174"/>
                    </a:lnTo>
                    <a:lnTo>
                      <a:pt x="63" y="238"/>
                    </a:lnTo>
                    <a:lnTo>
                      <a:pt x="0" y="297"/>
                    </a:lnTo>
                    <a:lnTo>
                      <a:pt x="13" y="314"/>
                    </a:lnTo>
                    <a:lnTo>
                      <a:pt x="131" y="424"/>
                    </a:lnTo>
                    <a:lnTo>
                      <a:pt x="173" y="483"/>
                    </a:lnTo>
                    <a:lnTo>
                      <a:pt x="182" y="539"/>
                    </a:lnTo>
                    <a:lnTo>
                      <a:pt x="186" y="611"/>
                    </a:lnTo>
                    <a:lnTo>
                      <a:pt x="194" y="704"/>
                    </a:lnTo>
                    <a:lnTo>
                      <a:pt x="216" y="802"/>
                    </a:lnTo>
                    <a:lnTo>
                      <a:pt x="249" y="856"/>
                    </a:lnTo>
                    <a:lnTo>
                      <a:pt x="283" y="869"/>
                    </a:lnTo>
                    <a:lnTo>
                      <a:pt x="321" y="840"/>
                    </a:lnTo>
                    <a:lnTo>
                      <a:pt x="385" y="802"/>
                    </a:lnTo>
                    <a:lnTo>
                      <a:pt x="452" y="759"/>
                    </a:lnTo>
                    <a:lnTo>
                      <a:pt x="528" y="729"/>
                    </a:lnTo>
                    <a:lnTo>
                      <a:pt x="597" y="720"/>
                    </a:lnTo>
                    <a:lnTo>
                      <a:pt x="630" y="666"/>
                    </a:lnTo>
                    <a:lnTo>
                      <a:pt x="655" y="585"/>
                    </a:lnTo>
                    <a:lnTo>
                      <a:pt x="673" y="454"/>
                    </a:lnTo>
                    <a:lnTo>
                      <a:pt x="668" y="339"/>
                    </a:lnTo>
                    <a:lnTo>
                      <a:pt x="660" y="272"/>
                    </a:lnTo>
                    <a:lnTo>
                      <a:pt x="630" y="272"/>
                    </a:lnTo>
                    <a:lnTo>
                      <a:pt x="635" y="386"/>
                    </a:lnTo>
                    <a:lnTo>
                      <a:pt x="635" y="509"/>
                    </a:lnTo>
                    <a:lnTo>
                      <a:pt x="617" y="581"/>
                    </a:lnTo>
                    <a:lnTo>
                      <a:pt x="588" y="666"/>
                    </a:lnTo>
                    <a:lnTo>
                      <a:pt x="521" y="700"/>
                    </a:lnTo>
                    <a:lnTo>
                      <a:pt x="427" y="725"/>
                    </a:lnTo>
                    <a:lnTo>
                      <a:pt x="351" y="767"/>
                    </a:lnTo>
                    <a:lnTo>
                      <a:pt x="279" y="818"/>
                    </a:lnTo>
                    <a:lnTo>
                      <a:pt x="249" y="784"/>
                    </a:lnTo>
                    <a:lnTo>
                      <a:pt x="232" y="713"/>
                    </a:lnTo>
                    <a:lnTo>
                      <a:pt x="224" y="619"/>
                    </a:lnTo>
                    <a:lnTo>
                      <a:pt x="216" y="521"/>
                    </a:lnTo>
                    <a:lnTo>
                      <a:pt x="186" y="437"/>
                    </a:lnTo>
                    <a:lnTo>
                      <a:pt x="102" y="348"/>
                    </a:lnTo>
                    <a:lnTo>
                      <a:pt x="63" y="301"/>
                    </a:lnTo>
                    <a:lnTo>
                      <a:pt x="67" y="284"/>
                    </a:lnTo>
                    <a:lnTo>
                      <a:pt x="173" y="212"/>
                    </a:lnTo>
                    <a:lnTo>
                      <a:pt x="279" y="165"/>
                    </a:lnTo>
                    <a:lnTo>
                      <a:pt x="368" y="123"/>
                    </a:lnTo>
                    <a:lnTo>
                      <a:pt x="423" y="98"/>
                    </a:lnTo>
                    <a:lnTo>
                      <a:pt x="478" y="64"/>
                    </a:lnTo>
                    <a:lnTo>
                      <a:pt x="512" y="47"/>
                    </a:lnTo>
                    <a:lnTo>
                      <a:pt x="567" y="42"/>
                    </a:lnTo>
                    <a:lnTo>
                      <a:pt x="601" y="72"/>
                    </a:lnTo>
                    <a:lnTo>
                      <a:pt x="626" y="119"/>
                    </a:lnTo>
                    <a:lnTo>
                      <a:pt x="626" y="161"/>
                    </a:lnTo>
                    <a:lnTo>
                      <a:pt x="630" y="203"/>
                    </a:lnTo>
                    <a:lnTo>
                      <a:pt x="664" y="182"/>
                    </a:lnTo>
                  </a:path>
                </a:pathLst>
              </a:cu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7729200" y="776520"/>
                <a:ext cx="255600" cy="374400"/>
              </a:xfrm>
              <a:custGeom>
                <a:avLst/>
                <a:gdLst/>
                <a:ahLst/>
                <a:rect l="l" t="t" r="r" b="b"/>
                <a:pathLst>
                  <a:path w="213" h="312">
                    <a:moveTo>
                      <a:pt x="187" y="86"/>
                    </a:moveTo>
                    <a:lnTo>
                      <a:pt x="140" y="35"/>
                    </a:lnTo>
                    <a:lnTo>
                      <a:pt x="64" y="0"/>
                    </a:lnTo>
                    <a:lnTo>
                      <a:pt x="26" y="69"/>
                    </a:lnTo>
                    <a:lnTo>
                      <a:pt x="0" y="158"/>
                    </a:lnTo>
                    <a:lnTo>
                      <a:pt x="60" y="311"/>
                    </a:lnTo>
                    <a:lnTo>
                      <a:pt x="136" y="306"/>
                    </a:lnTo>
                    <a:lnTo>
                      <a:pt x="212" y="255"/>
                    </a:lnTo>
                    <a:lnTo>
                      <a:pt x="212" y="124"/>
                    </a:lnTo>
                    <a:lnTo>
                      <a:pt x="191" y="120"/>
                    </a:lnTo>
                    <a:lnTo>
                      <a:pt x="174" y="141"/>
                    </a:lnTo>
                    <a:lnTo>
                      <a:pt x="178" y="243"/>
                    </a:lnTo>
                    <a:lnTo>
                      <a:pt x="127" y="281"/>
                    </a:lnTo>
                    <a:lnTo>
                      <a:pt x="69" y="272"/>
                    </a:lnTo>
                    <a:lnTo>
                      <a:pt x="35" y="162"/>
                    </a:lnTo>
                    <a:lnTo>
                      <a:pt x="82" y="162"/>
                    </a:lnTo>
                    <a:lnTo>
                      <a:pt x="140" y="133"/>
                    </a:lnTo>
                    <a:lnTo>
                      <a:pt x="136" y="124"/>
                    </a:lnTo>
                    <a:lnTo>
                      <a:pt x="64" y="141"/>
                    </a:lnTo>
                    <a:lnTo>
                      <a:pt x="26" y="136"/>
                    </a:lnTo>
                    <a:lnTo>
                      <a:pt x="73" y="31"/>
                    </a:lnTo>
                    <a:lnTo>
                      <a:pt x="124" y="64"/>
                    </a:lnTo>
                    <a:lnTo>
                      <a:pt x="170" y="115"/>
                    </a:lnTo>
                    <a:lnTo>
                      <a:pt x="187" y="86"/>
                    </a:lnTo>
                  </a:path>
                </a:pathLst>
              </a:cu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5" name=""/>
            <p:cNvGrpSpPr/>
            <p:nvPr/>
          </p:nvGrpSpPr>
          <p:grpSpPr>
            <a:xfrm>
              <a:off x="7476120" y="574560"/>
              <a:ext cx="1362600" cy="2016000"/>
              <a:chOff x="7476120" y="574560"/>
              <a:chExt cx="1362600" cy="2016000"/>
            </a:xfrm>
          </p:grpSpPr>
          <p:sp>
            <p:nvSpPr>
              <p:cNvPr id="366" name=""/>
              <p:cNvSpPr/>
              <p:nvPr/>
            </p:nvSpPr>
            <p:spPr>
              <a:xfrm>
                <a:off x="7476120" y="920160"/>
                <a:ext cx="1098720" cy="371880"/>
              </a:xfrm>
              <a:custGeom>
                <a:avLst/>
                <a:gdLst/>
                <a:ahLst/>
                <a:rect l="l" t="t" r="r" b="b"/>
                <a:pathLst>
                  <a:path w="915" h="310">
                    <a:moveTo>
                      <a:pt x="914" y="241"/>
                    </a:moveTo>
                    <a:lnTo>
                      <a:pt x="893" y="216"/>
                    </a:lnTo>
                    <a:lnTo>
                      <a:pt x="846" y="207"/>
                    </a:lnTo>
                    <a:lnTo>
                      <a:pt x="698" y="237"/>
                    </a:lnTo>
                    <a:lnTo>
                      <a:pt x="554" y="263"/>
                    </a:lnTo>
                    <a:lnTo>
                      <a:pt x="376" y="258"/>
                    </a:lnTo>
                    <a:lnTo>
                      <a:pt x="211" y="224"/>
                    </a:lnTo>
                    <a:lnTo>
                      <a:pt x="110" y="165"/>
                    </a:lnTo>
                    <a:lnTo>
                      <a:pt x="123" y="118"/>
                    </a:lnTo>
                    <a:lnTo>
                      <a:pt x="105" y="54"/>
                    </a:lnTo>
                    <a:lnTo>
                      <a:pt x="67" y="21"/>
                    </a:lnTo>
                    <a:lnTo>
                      <a:pt x="25" y="0"/>
                    </a:lnTo>
                    <a:lnTo>
                      <a:pt x="8" y="46"/>
                    </a:lnTo>
                    <a:lnTo>
                      <a:pt x="0" y="92"/>
                    </a:lnTo>
                    <a:lnTo>
                      <a:pt x="17" y="181"/>
                    </a:lnTo>
                    <a:lnTo>
                      <a:pt x="59" y="207"/>
                    </a:lnTo>
                    <a:lnTo>
                      <a:pt x="161" y="241"/>
                    </a:lnTo>
                    <a:lnTo>
                      <a:pt x="270" y="270"/>
                    </a:lnTo>
                    <a:lnTo>
                      <a:pt x="453" y="305"/>
                    </a:lnTo>
                    <a:lnTo>
                      <a:pt x="622" y="309"/>
                    </a:lnTo>
                    <a:lnTo>
                      <a:pt x="851" y="288"/>
                    </a:lnTo>
                    <a:lnTo>
                      <a:pt x="914" y="241"/>
                    </a:lnTo>
                  </a:path>
                </a:pathLst>
              </a:cu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8065440" y="654840"/>
                <a:ext cx="595440" cy="530640"/>
              </a:xfrm>
              <a:custGeom>
                <a:avLst/>
                <a:gdLst/>
                <a:ahLst/>
                <a:rect l="l" t="t" r="r" b="b"/>
                <a:pathLst>
                  <a:path w="496" h="442">
                    <a:moveTo>
                      <a:pt x="482" y="441"/>
                    </a:moveTo>
                    <a:lnTo>
                      <a:pt x="495" y="399"/>
                    </a:lnTo>
                    <a:lnTo>
                      <a:pt x="469" y="361"/>
                    </a:lnTo>
                    <a:lnTo>
                      <a:pt x="385" y="327"/>
                    </a:lnTo>
                    <a:lnTo>
                      <a:pt x="287" y="318"/>
                    </a:lnTo>
                    <a:lnTo>
                      <a:pt x="220" y="297"/>
                    </a:lnTo>
                    <a:lnTo>
                      <a:pt x="177" y="259"/>
                    </a:lnTo>
                    <a:lnTo>
                      <a:pt x="131" y="174"/>
                    </a:lnTo>
                    <a:lnTo>
                      <a:pt x="93" y="81"/>
                    </a:lnTo>
                    <a:lnTo>
                      <a:pt x="93" y="34"/>
                    </a:lnTo>
                    <a:lnTo>
                      <a:pt x="71" y="9"/>
                    </a:lnTo>
                    <a:lnTo>
                      <a:pt x="42" y="0"/>
                    </a:lnTo>
                    <a:lnTo>
                      <a:pt x="12" y="22"/>
                    </a:lnTo>
                    <a:lnTo>
                      <a:pt x="0" y="68"/>
                    </a:lnTo>
                    <a:lnTo>
                      <a:pt x="4" y="127"/>
                    </a:lnTo>
                    <a:lnTo>
                      <a:pt x="20" y="170"/>
                    </a:lnTo>
                    <a:lnTo>
                      <a:pt x="38" y="170"/>
                    </a:lnTo>
                    <a:lnTo>
                      <a:pt x="46" y="153"/>
                    </a:lnTo>
                    <a:lnTo>
                      <a:pt x="71" y="149"/>
                    </a:lnTo>
                    <a:lnTo>
                      <a:pt x="118" y="212"/>
                    </a:lnTo>
                    <a:lnTo>
                      <a:pt x="173" y="310"/>
                    </a:lnTo>
                    <a:lnTo>
                      <a:pt x="211" y="352"/>
                    </a:lnTo>
                    <a:lnTo>
                      <a:pt x="287" y="377"/>
                    </a:lnTo>
                    <a:lnTo>
                      <a:pt x="376" y="403"/>
                    </a:lnTo>
                    <a:lnTo>
                      <a:pt x="435" y="424"/>
                    </a:lnTo>
                    <a:lnTo>
                      <a:pt x="482" y="441"/>
                    </a:lnTo>
                  </a:path>
                </a:pathLst>
              </a:cu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8283960" y="1107360"/>
                <a:ext cx="452880" cy="784080"/>
              </a:xfrm>
              <a:custGeom>
                <a:avLst/>
                <a:gdLst/>
                <a:ahLst/>
                <a:rect l="l" t="t" r="r" b="b"/>
                <a:pathLst>
                  <a:path w="377" h="653">
                    <a:moveTo>
                      <a:pt x="376" y="85"/>
                    </a:moveTo>
                    <a:lnTo>
                      <a:pt x="356" y="34"/>
                    </a:lnTo>
                    <a:lnTo>
                      <a:pt x="326" y="0"/>
                    </a:lnTo>
                    <a:lnTo>
                      <a:pt x="250" y="0"/>
                    </a:lnTo>
                    <a:lnTo>
                      <a:pt x="173" y="34"/>
                    </a:lnTo>
                    <a:lnTo>
                      <a:pt x="84" y="131"/>
                    </a:lnTo>
                    <a:lnTo>
                      <a:pt x="38" y="208"/>
                    </a:lnTo>
                    <a:lnTo>
                      <a:pt x="8" y="313"/>
                    </a:lnTo>
                    <a:lnTo>
                      <a:pt x="0" y="436"/>
                    </a:lnTo>
                    <a:lnTo>
                      <a:pt x="17" y="568"/>
                    </a:lnTo>
                    <a:lnTo>
                      <a:pt x="59" y="632"/>
                    </a:lnTo>
                    <a:lnTo>
                      <a:pt x="135" y="652"/>
                    </a:lnTo>
                    <a:lnTo>
                      <a:pt x="182" y="649"/>
                    </a:lnTo>
                    <a:lnTo>
                      <a:pt x="220" y="627"/>
                    </a:lnTo>
                    <a:lnTo>
                      <a:pt x="254" y="598"/>
                    </a:lnTo>
                    <a:lnTo>
                      <a:pt x="267" y="547"/>
                    </a:lnTo>
                    <a:lnTo>
                      <a:pt x="258" y="496"/>
                    </a:lnTo>
                    <a:lnTo>
                      <a:pt x="229" y="466"/>
                    </a:lnTo>
                    <a:lnTo>
                      <a:pt x="208" y="433"/>
                    </a:lnTo>
                    <a:lnTo>
                      <a:pt x="199" y="390"/>
                    </a:lnTo>
                    <a:lnTo>
                      <a:pt x="199" y="352"/>
                    </a:lnTo>
                    <a:lnTo>
                      <a:pt x="216" y="318"/>
                    </a:lnTo>
                    <a:lnTo>
                      <a:pt x="275" y="259"/>
                    </a:lnTo>
                    <a:lnTo>
                      <a:pt x="347" y="191"/>
                    </a:lnTo>
                    <a:lnTo>
                      <a:pt x="373" y="135"/>
                    </a:lnTo>
                    <a:lnTo>
                      <a:pt x="376" y="85"/>
                    </a:lnTo>
                  </a:path>
                </a:pathLst>
              </a:cu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8375400" y="574560"/>
                <a:ext cx="463320" cy="412920"/>
              </a:xfrm>
              <a:custGeom>
                <a:avLst/>
                <a:gdLst/>
                <a:ahLst/>
                <a:rect l="l" t="t" r="r" b="b"/>
                <a:pathLst>
                  <a:path w="386" h="344">
                    <a:moveTo>
                      <a:pt x="102" y="186"/>
                    </a:moveTo>
                    <a:lnTo>
                      <a:pt x="131" y="127"/>
                    </a:lnTo>
                    <a:lnTo>
                      <a:pt x="186" y="55"/>
                    </a:lnTo>
                    <a:lnTo>
                      <a:pt x="237" y="8"/>
                    </a:lnTo>
                    <a:lnTo>
                      <a:pt x="297" y="0"/>
                    </a:lnTo>
                    <a:lnTo>
                      <a:pt x="347" y="17"/>
                    </a:lnTo>
                    <a:lnTo>
                      <a:pt x="381" y="59"/>
                    </a:lnTo>
                    <a:lnTo>
                      <a:pt x="385" y="118"/>
                    </a:lnTo>
                    <a:lnTo>
                      <a:pt x="360" y="203"/>
                    </a:lnTo>
                    <a:lnTo>
                      <a:pt x="297" y="283"/>
                    </a:lnTo>
                    <a:lnTo>
                      <a:pt x="224" y="339"/>
                    </a:lnTo>
                    <a:lnTo>
                      <a:pt x="157" y="343"/>
                    </a:lnTo>
                    <a:lnTo>
                      <a:pt x="115" y="326"/>
                    </a:lnTo>
                    <a:lnTo>
                      <a:pt x="106" y="301"/>
                    </a:lnTo>
                    <a:lnTo>
                      <a:pt x="102" y="263"/>
                    </a:lnTo>
                    <a:lnTo>
                      <a:pt x="51" y="271"/>
                    </a:lnTo>
                    <a:lnTo>
                      <a:pt x="17" y="288"/>
                    </a:lnTo>
                    <a:lnTo>
                      <a:pt x="0" y="263"/>
                    </a:lnTo>
                    <a:lnTo>
                      <a:pt x="17" y="245"/>
                    </a:lnTo>
                    <a:lnTo>
                      <a:pt x="72" y="225"/>
                    </a:lnTo>
                    <a:lnTo>
                      <a:pt x="106" y="212"/>
                    </a:lnTo>
                    <a:lnTo>
                      <a:pt x="102" y="186"/>
                    </a:lnTo>
                  </a:path>
                </a:pathLst>
              </a:cu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8345160" y="1759680"/>
                <a:ext cx="284400" cy="774360"/>
              </a:xfrm>
              <a:custGeom>
                <a:avLst/>
                <a:gdLst/>
                <a:ahLst/>
                <a:rect l="l" t="t" r="r" b="b"/>
                <a:pathLst>
                  <a:path w="237" h="645">
                    <a:moveTo>
                      <a:pt x="178" y="0"/>
                    </a:moveTo>
                    <a:lnTo>
                      <a:pt x="135" y="4"/>
                    </a:lnTo>
                    <a:lnTo>
                      <a:pt x="105" y="59"/>
                    </a:lnTo>
                    <a:lnTo>
                      <a:pt x="114" y="115"/>
                    </a:lnTo>
                    <a:lnTo>
                      <a:pt x="127" y="229"/>
                    </a:lnTo>
                    <a:lnTo>
                      <a:pt x="122" y="301"/>
                    </a:lnTo>
                    <a:lnTo>
                      <a:pt x="127" y="373"/>
                    </a:lnTo>
                    <a:lnTo>
                      <a:pt x="160" y="521"/>
                    </a:lnTo>
                    <a:lnTo>
                      <a:pt x="169" y="559"/>
                    </a:lnTo>
                    <a:lnTo>
                      <a:pt x="160" y="568"/>
                    </a:lnTo>
                    <a:lnTo>
                      <a:pt x="114" y="543"/>
                    </a:lnTo>
                    <a:lnTo>
                      <a:pt x="38" y="530"/>
                    </a:lnTo>
                    <a:lnTo>
                      <a:pt x="0" y="547"/>
                    </a:lnTo>
                    <a:lnTo>
                      <a:pt x="4" y="576"/>
                    </a:lnTo>
                    <a:lnTo>
                      <a:pt x="55" y="589"/>
                    </a:lnTo>
                    <a:lnTo>
                      <a:pt x="114" y="594"/>
                    </a:lnTo>
                    <a:lnTo>
                      <a:pt x="173" y="619"/>
                    </a:lnTo>
                    <a:lnTo>
                      <a:pt x="219" y="644"/>
                    </a:lnTo>
                    <a:lnTo>
                      <a:pt x="236" y="632"/>
                    </a:lnTo>
                    <a:lnTo>
                      <a:pt x="236" y="589"/>
                    </a:lnTo>
                    <a:lnTo>
                      <a:pt x="203" y="509"/>
                    </a:lnTo>
                    <a:lnTo>
                      <a:pt x="185" y="415"/>
                    </a:lnTo>
                    <a:lnTo>
                      <a:pt x="178" y="284"/>
                    </a:lnTo>
                    <a:lnTo>
                      <a:pt x="194" y="166"/>
                    </a:lnTo>
                    <a:lnTo>
                      <a:pt x="211" y="72"/>
                    </a:lnTo>
                    <a:lnTo>
                      <a:pt x="194" y="0"/>
                    </a:lnTo>
                    <a:lnTo>
                      <a:pt x="178" y="0"/>
                    </a:lnTo>
                  </a:path>
                </a:pathLst>
              </a:cu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8015040" y="1688760"/>
                <a:ext cx="458280" cy="901800"/>
              </a:xfrm>
              <a:custGeom>
                <a:avLst/>
                <a:gdLst/>
                <a:ahLst/>
                <a:rect l="l" t="t" r="r" b="b"/>
                <a:pathLst>
                  <a:path w="382" h="751">
                    <a:moveTo>
                      <a:pt x="300" y="8"/>
                    </a:moveTo>
                    <a:lnTo>
                      <a:pt x="359" y="0"/>
                    </a:lnTo>
                    <a:lnTo>
                      <a:pt x="381" y="42"/>
                    </a:lnTo>
                    <a:lnTo>
                      <a:pt x="359" y="92"/>
                    </a:lnTo>
                    <a:lnTo>
                      <a:pt x="300" y="177"/>
                    </a:lnTo>
                    <a:lnTo>
                      <a:pt x="254" y="301"/>
                    </a:lnTo>
                    <a:lnTo>
                      <a:pt x="237" y="402"/>
                    </a:lnTo>
                    <a:lnTo>
                      <a:pt x="245" y="508"/>
                    </a:lnTo>
                    <a:lnTo>
                      <a:pt x="262" y="644"/>
                    </a:lnTo>
                    <a:lnTo>
                      <a:pt x="279" y="720"/>
                    </a:lnTo>
                    <a:lnTo>
                      <a:pt x="270" y="750"/>
                    </a:lnTo>
                    <a:lnTo>
                      <a:pt x="241" y="750"/>
                    </a:lnTo>
                    <a:lnTo>
                      <a:pt x="186" y="724"/>
                    </a:lnTo>
                    <a:lnTo>
                      <a:pt x="101" y="707"/>
                    </a:lnTo>
                    <a:lnTo>
                      <a:pt x="12" y="707"/>
                    </a:lnTo>
                    <a:lnTo>
                      <a:pt x="0" y="682"/>
                    </a:lnTo>
                    <a:lnTo>
                      <a:pt x="50" y="648"/>
                    </a:lnTo>
                    <a:lnTo>
                      <a:pt x="76" y="648"/>
                    </a:lnTo>
                    <a:lnTo>
                      <a:pt x="186" y="682"/>
                    </a:lnTo>
                    <a:lnTo>
                      <a:pt x="219" y="695"/>
                    </a:lnTo>
                    <a:lnTo>
                      <a:pt x="228" y="678"/>
                    </a:lnTo>
                    <a:lnTo>
                      <a:pt x="212" y="568"/>
                    </a:lnTo>
                    <a:lnTo>
                      <a:pt x="190" y="449"/>
                    </a:lnTo>
                    <a:lnTo>
                      <a:pt x="186" y="343"/>
                    </a:lnTo>
                    <a:lnTo>
                      <a:pt x="203" y="237"/>
                    </a:lnTo>
                    <a:lnTo>
                      <a:pt x="232" y="114"/>
                    </a:lnTo>
                    <a:lnTo>
                      <a:pt x="266" y="21"/>
                    </a:lnTo>
                    <a:lnTo>
                      <a:pt x="300" y="8"/>
                    </a:lnTo>
                  </a:path>
                </a:pathLst>
              </a:cu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scrição estrutur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sta de instancias de port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648320" y="2895480"/>
            <a:ext cx="4114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200" spc="-1" strike="noStrike">
                <a:solidFill>
                  <a:srgbClr val="000000"/>
                </a:solidFill>
                <a:latin typeface="Lucida Sans Typewriter"/>
              </a:rPr>
              <a:t>and</a:t>
            </a:r>
            <a:r>
              <a:rPr b="1" sz="2200" spc="-1" strike="noStrike">
                <a:solidFill>
                  <a:srgbClr val="000000"/>
                </a:solidFill>
                <a:latin typeface="Lucida Sans Typewriter"/>
              </a:rPr>
              <a:t>	</a:t>
            </a:r>
            <a:r>
              <a:rPr b="1" sz="2200" spc="-1" strike="noStrike">
                <a:solidFill>
                  <a:srgbClr val="000000"/>
                </a:solidFill>
                <a:latin typeface="Lucida Sans Typewriter"/>
              </a:rPr>
              <a:t>g1 (f1, a, nsel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200" spc="-1" strike="noStrike">
                <a:solidFill>
                  <a:srgbClr val="000000"/>
                </a:solidFill>
                <a:latin typeface="Lucida Sans Typewriter"/>
              </a:rPr>
              <a:t>and</a:t>
            </a:r>
            <a:r>
              <a:rPr b="1" sz="2200" spc="-1" strike="noStrike">
                <a:solidFill>
                  <a:srgbClr val="000000"/>
                </a:solidFill>
                <a:latin typeface="Lucida Sans Typewriter"/>
              </a:rPr>
              <a:t>	</a:t>
            </a:r>
            <a:r>
              <a:rPr b="1" sz="2200" spc="-1" strike="noStrike">
                <a:solidFill>
                  <a:srgbClr val="000000"/>
                </a:solidFill>
                <a:latin typeface="Lucida Sans Typewriter"/>
              </a:rPr>
              <a:t>g2 (f2, b, sel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200" spc="-1" strike="noStrike">
                <a:solidFill>
                  <a:srgbClr val="000000"/>
                </a:solidFill>
                <a:latin typeface="Lucida Sans Typewriter"/>
              </a:rPr>
              <a:t>or</a:t>
            </a:r>
            <a:r>
              <a:rPr b="1" sz="2200" spc="-1" strike="noStrike">
                <a:solidFill>
                  <a:srgbClr val="000000"/>
                </a:solidFill>
                <a:latin typeface="Lucida Sans Typewriter"/>
              </a:rPr>
              <a:t>	</a:t>
            </a:r>
            <a:r>
              <a:rPr b="1" sz="2200" spc="-1" strike="noStrike">
                <a:solidFill>
                  <a:srgbClr val="000000"/>
                </a:solidFill>
                <a:latin typeface="Lucida Sans Typewriter"/>
              </a:rPr>
              <a:t>g3 (f, f1, f2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200" spc="-1" strike="noStrike">
                <a:solidFill>
                  <a:srgbClr val="000000"/>
                </a:solidFill>
                <a:latin typeface="Lucida Sans Typewriter"/>
              </a:rPr>
              <a:t>not</a:t>
            </a:r>
            <a:r>
              <a:rPr b="1" sz="2200" spc="-1" strike="noStrike">
                <a:solidFill>
                  <a:srgbClr val="000000"/>
                </a:solidFill>
                <a:latin typeface="Lucida Sans Typewriter"/>
              </a:rPr>
              <a:t>	</a:t>
            </a:r>
            <a:r>
              <a:rPr b="1" sz="2200" spc="-1" strike="noStrike">
                <a:solidFill>
                  <a:srgbClr val="000000"/>
                </a:solidFill>
                <a:latin typeface="Lucida Sans Typewriter"/>
              </a:rPr>
              <a:t>g4 (nsel, sel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2075040" y="3336840"/>
            <a:ext cx="0" cy="4557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697040" y="3338640"/>
            <a:ext cx="76176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55" y="0"/>
                </a:moveTo>
                <a:arcTo wR="10800" hR="10800" stAng="-5414323" swAng="5414323"/>
                <a:lnTo>
                  <a:pt x="10800" y="10800"/>
                </a:lnTo>
                <a:close/>
              </a:path>
              <a:path fill="none" w="21600" h="21600">
                <a:moveTo>
                  <a:pt x="10755" y="0"/>
                </a:moveTo>
                <a:arcTo wR="10800" hR="10800" stAng="-5414323" swAng="5414323"/>
              </a:path>
            </a:pathLst>
          </a:custGeom>
          <a:noFill/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1694160" y="3335400"/>
            <a:ext cx="76140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 flipH="1">
            <a:off x="1085760" y="3413160"/>
            <a:ext cx="990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 flipH="1">
            <a:off x="1390320" y="3716280"/>
            <a:ext cx="6843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457360" y="3564000"/>
            <a:ext cx="3794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2075040" y="4479840"/>
            <a:ext cx="0" cy="4557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697040" y="4481640"/>
            <a:ext cx="76176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55" y="0"/>
                </a:moveTo>
                <a:arcTo wR="10800" hR="10800" stAng="-5414323" swAng="5414323"/>
                <a:lnTo>
                  <a:pt x="10800" y="10800"/>
                </a:lnTo>
                <a:close/>
              </a:path>
              <a:path fill="none" w="21600" h="21600">
                <a:moveTo>
                  <a:pt x="10755" y="0"/>
                </a:moveTo>
                <a:arcTo wR="10800" hR="10800" stAng="-5414323" swAng="5414323"/>
              </a:path>
            </a:pathLst>
          </a:custGeom>
          <a:noFill/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694160" y="4478400"/>
            <a:ext cx="76140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1085760" y="4554360"/>
            <a:ext cx="9892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 flipH="1">
            <a:off x="1085760" y="4861080"/>
            <a:ext cx="990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 flipH="1">
            <a:off x="2457360" y="4707000"/>
            <a:ext cx="3794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840040" y="3946680"/>
            <a:ext cx="76176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55" y="0"/>
                </a:moveTo>
                <a:arcTo wR="10800" hR="10800" stAng="-5414323" swAng="5414323"/>
                <a:lnTo>
                  <a:pt x="10800" y="10800"/>
                </a:lnTo>
                <a:close/>
              </a:path>
              <a:path fill="none" w="21600" h="21600">
                <a:moveTo>
                  <a:pt x="10755" y="0"/>
                </a:moveTo>
                <a:arcTo wR="10800" hR="10800" stAng="-5414323" swAng="5414323"/>
              </a:path>
            </a:pathLst>
          </a:custGeom>
          <a:noFill/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2837160" y="3943440"/>
            <a:ext cx="76140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3065400" y="3946680"/>
            <a:ext cx="304560" cy="608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688" y="1"/>
                </a:moveTo>
                <a:arcTo wR="10800" hR="10800" stAng="-5435809" swAng="5327284"/>
                <a:lnTo>
                  <a:pt x="10800" y="10800"/>
                </a:lnTo>
                <a:close/>
              </a:path>
              <a:path fill="none" w="21600" h="21600">
                <a:moveTo>
                  <a:pt x="10688" y="1"/>
                </a:moveTo>
                <a:arcTo wR="10800" hR="10800" stAng="-5435809" swAng="5327284"/>
              </a:path>
            </a:pathLst>
          </a:custGeom>
          <a:noFill/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065760" y="3943440"/>
            <a:ext cx="30420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 flipH="1">
            <a:off x="2838240" y="4019400"/>
            <a:ext cx="45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 flipH="1">
            <a:off x="2838240" y="4324320"/>
            <a:ext cx="45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 flipH="1">
            <a:off x="3600360" y="4172040"/>
            <a:ext cx="3794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1243080" y="4314960"/>
            <a:ext cx="3031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 flipV="1">
            <a:off x="1243080" y="4084200"/>
            <a:ext cx="150840" cy="227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1394640" y="4084560"/>
            <a:ext cx="150840" cy="227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 rot="16200000">
            <a:off x="1330200" y="3946320"/>
            <a:ext cx="126720" cy="1270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1393200" y="4313160"/>
            <a:ext cx="6120" cy="519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1389960" y="3714840"/>
            <a:ext cx="3240" cy="215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838600" y="356544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838600" y="432756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314360" y="4784760"/>
            <a:ext cx="152640" cy="152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793800" y="3200400"/>
            <a:ext cx="1836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Typewriter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857520" y="4632480"/>
            <a:ext cx="1836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Typewriter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534960" y="4327560"/>
            <a:ext cx="549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013280" y="3946680"/>
            <a:ext cx="1836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Typewriter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2058120" y="2895480"/>
            <a:ext cx="366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Typewriter"/>
              </a:rPr>
              <a:t>g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2058120" y="4038480"/>
            <a:ext cx="366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Typewriter"/>
              </a:rPr>
              <a:t>g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201120" y="3505320"/>
            <a:ext cx="366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Typewriter"/>
              </a:rPr>
              <a:t>g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537560" y="3886200"/>
            <a:ext cx="366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Typewriter"/>
              </a:rPr>
              <a:t>g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680560" y="3200400"/>
            <a:ext cx="366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Typewriter"/>
              </a:rPr>
              <a:t>f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667600" y="4740120"/>
            <a:ext cx="366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Typewriter"/>
              </a:rPr>
              <a:t>f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3" name="comp3" descr=""/>
          <p:cNvPicPr/>
          <p:nvPr/>
        </p:nvPicPr>
        <p:blipFill>
          <a:blip r:embed=""/>
          <a:stretch/>
        </p:blipFill>
        <p:spPr>
          <a:xfrm>
            <a:off x="1447920" y="5410080"/>
            <a:ext cx="1143000" cy="101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Lucida Sans Typewriter"/>
              </a:rPr>
              <a:t>Vlogcmd</a:t>
            </a: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 </a:t>
            </a: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- receita de bol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module tes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reg a,b; wire y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initial begin $monitorb(a,b,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Lucida Sans Typewriter"/>
              </a:rPr>
              <a:t>a=0; b=0; #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Lucida Sans Typewriter"/>
              </a:rPr>
              <a:t>a=1; #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Lucida Sans Typewriter"/>
              </a:rPr>
              <a:t>b=1; #1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Lucida Sans Typewriter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Lucida Sans Typewriter"/>
              </a:rPr>
              <a:t>and (y,a,b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end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imitivas de entrada múltipl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pt-BR" sz="3000" spc="-1" strike="noStrike">
                <a:solidFill>
                  <a:srgbClr val="000000"/>
                </a:solidFill>
                <a:latin typeface="Lucida Sans Typewriter"/>
              </a:rPr>
              <a:t>and, nand, nor, or, xor, xno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entury Schoolbook"/>
              </a:rPr>
              <a:t>o primeiro argumento é sempre a saíd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entury Schoolbook"/>
              </a:rPr>
              <a:t>os outros são portas de entrad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600200" y="4457880"/>
            <a:ext cx="1920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entury Schoolbook"/>
              </a:rPr>
              <a:t>Tabela de verdade de uma porta </a:t>
            </a: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19" name=""/>
          <p:cNvGraphicFramePr/>
          <p:nvPr/>
        </p:nvGraphicFramePr>
        <p:xfrm>
          <a:off x="4419720" y="4305240"/>
          <a:ext cx="2730240" cy="1866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19720" y="4305240"/>
                    <a:ext cx="2730240" cy="186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1" name=""/>
          <p:cNvSpPr/>
          <p:nvPr/>
        </p:nvSpPr>
        <p:spPr>
          <a:xfrm>
            <a:off x="1380960" y="3848040"/>
            <a:ext cx="237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and (y,a,b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019920" y="3848040"/>
            <a:ext cx="1836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Typewriter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239240" y="5524560"/>
            <a:ext cx="1836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Typewriter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4115160" y="5067360"/>
            <a:ext cx="1836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Typewriter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imitivas de saída múltipl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685800" y="1752480"/>
            <a:ext cx="777240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pt-BR" sz="3000" spc="-1" strike="noStrike">
                <a:solidFill>
                  <a:srgbClr val="000000"/>
                </a:solidFill>
                <a:latin typeface="Lucida Sans Typewriter"/>
              </a:rPr>
              <a:t>not, buff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entury Schoolbook"/>
              </a:rPr>
              <a:t>o último argumento é sempre a entrad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entury Schoolbook"/>
              </a:rPr>
              <a:t>os outros são portas de saíd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153440" y="373392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not (x,y,z,a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Primitivas tri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685800" y="1752480"/>
            <a:ext cx="777240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Lucida Sans Typewriter"/>
              </a:rPr>
              <a:t>notif0, notif1, bufif0, bufif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sempre 3 argumentos: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(saída, entrada, controle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1154160" y="3733920"/>
            <a:ext cx="292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Typewriter"/>
              </a:rPr>
              <a:t>bufif1 (y,a,c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stanciação de primitiv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990360" y="213372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Lucida Sans Typewriter"/>
              </a:rPr>
              <a:t>not (y,a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Lucida Sans Typewriter"/>
              </a:rPr>
              <a:t>or grande (y,a,b,c,d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100" spc="-1" strike="noStrike">
                <a:solidFill>
                  <a:srgbClr val="000000"/>
                </a:solidFill>
                <a:latin typeface="Lucida Sans Typewriter"/>
              </a:rPr>
              <a:t>and</a:t>
            </a:r>
            <a:r>
              <a:rPr b="0" sz="3100" spc="-1" strike="noStrike">
                <a:solidFill>
                  <a:srgbClr val="000000"/>
                </a:solidFill>
                <a:latin typeface="Lucida Sans Typewriter"/>
              </a:rPr>
              <a:t>	</a:t>
            </a:r>
            <a:r>
              <a:rPr b="0" sz="3100" spc="-1" strike="noStrike">
                <a:solidFill>
                  <a:srgbClr val="000000"/>
                </a:solidFill>
                <a:latin typeface="Lucida Sans Typewriter"/>
              </a:rPr>
              <a:t>porta1 (f1, a, nsel),</a:t>
            </a:r>
            <a:br>
              <a:rPr sz="3100"/>
            </a:br>
            <a:r>
              <a:rPr b="0" sz="3100" spc="-1" strike="noStrike">
                <a:solidFill>
                  <a:srgbClr val="000000"/>
                </a:solidFill>
                <a:latin typeface="Lucida Sans Typewriter"/>
              </a:rPr>
              <a:t>	</a:t>
            </a:r>
            <a:r>
              <a:rPr b="0" sz="3100" spc="-1" strike="noStrike">
                <a:solidFill>
                  <a:srgbClr val="000000"/>
                </a:solidFill>
                <a:latin typeface="Lucida Sans Typewriter"/>
              </a:rPr>
              <a:t>porta2 (f2, b, sel);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-304920" y="609120"/>
            <a:ext cx="967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imitivas definidos pelo usuário (UDP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1242360" y="1905120"/>
            <a:ext cx="63986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Lucida Sans Typewriter"/>
              </a:rPr>
              <a:t>primitive </a:t>
            </a: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somador(Sum, InA, InB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Lucida Sans Typewriter"/>
              </a:rPr>
              <a:t>output </a:t>
            </a: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Sum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Lucida Sans Typewriter"/>
              </a:rPr>
              <a:t>input </a:t>
            </a: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InA, InB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Lucida Sans Typewriter"/>
              </a:rPr>
              <a:t>table </a:t>
            </a: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// tabela de verda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// inputs : 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00 : 0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01 : 1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10 : 1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11 : 0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Lucida Sans Typewriter"/>
              </a:rPr>
              <a:t>end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Lucida Sans Typewriter"/>
              </a:rPr>
              <a:t>endprimi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DP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ntinuaçã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Primeiro argumento é saída, os outros são entrad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Ainda assim é preciso declara-las com t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Entradas na tabela de verdade podem ser </a:t>
            </a: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‘0’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‘1’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‘x’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, ou </a:t>
            </a: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’?’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‘</a:t>
            </a: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?’ 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significa “don’t care”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Por default, a saída fica em </a:t>
            </a: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‘x’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o do tópico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inuaç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205740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Century Schoolbook"/>
              </a:rPr>
              <a:t>Tipos de dados e operadores em Verilog – 4 hor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entury Schoolbook"/>
              </a:rPr>
              <a:t>bit, inteiro, real, vetores, constantes, cadeias de caracte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entury Schoolbook"/>
              </a:rPr>
              <a:t>Operadores lógicos e aritmét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comp3" descr=""/>
          <p:cNvPicPr/>
          <p:nvPr/>
        </p:nvPicPr>
        <p:blipFill>
          <a:blip r:embed=""/>
          <a:stretch/>
        </p:blipFill>
        <p:spPr>
          <a:xfrm>
            <a:off x="7010280" y="4876920"/>
            <a:ext cx="1752840" cy="15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DP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empl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1235520" y="1905120"/>
            <a:ext cx="43869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Lucida Sans Typewriter"/>
              </a:rPr>
              <a:t>primitive </a:t>
            </a: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ou(y, a, b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Lucida Sans Typewriter"/>
              </a:rPr>
              <a:t>output </a:t>
            </a: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y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Lucida Sans Typewriter"/>
              </a:rPr>
              <a:t>input </a:t>
            </a: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a, b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Lucida Sans Typewriter"/>
              </a:rPr>
              <a:t>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// inputs : 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1? : 1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?1 : 1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00 : 0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Lucida Sans Typewriter"/>
              </a:rPr>
              <a:t>end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Lucida Sans Typewriter"/>
              </a:rPr>
              <a:t>endprimi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UDP latch e flip-flo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ma nova coluna na tabela de verdade para o “estado atual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vos símbolos para transições: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Lucida Sans Typewriter"/>
              </a:rPr>
              <a:t>(01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ssagem de 0 para 1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Lucida Sans Typewriter"/>
              </a:rPr>
              <a:t>(?1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bida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Lucida Sans Typewriter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bida também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Lucida Sans Typewriter"/>
              </a:rPr>
              <a:t>(?0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scida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Lucida Sans Typewriter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scida também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lquer transiçã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UDP </a:t>
            </a:r>
            <a:r>
              <a:rPr b="0" lang="pt-BR" sz="2200" spc="-1" strike="noStrike">
                <a:solidFill>
                  <a:srgbClr val="000000"/>
                </a:solidFill>
                <a:latin typeface="Times New Roman"/>
              </a:rPr>
              <a:t>exemplo latch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83240" y="1905120"/>
            <a:ext cx="85932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Lucida Sans Typewriter"/>
              </a:rPr>
              <a:t>primitive </a:t>
            </a: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DLatch(Q, Clock, Data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Lucida Sans Typewriter"/>
              </a:rPr>
              <a:t>output </a:t>
            </a: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Q; </a:t>
            </a:r>
            <a:r>
              <a:rPr b="1" lang="pt-BR" sz="2400" spc="-1" strike="noStrike">
                <a:solidFill>
                  <a:srgbClr val="000000"/>
                </a:solidFill>
                <a:latin typeface="Lucida Sans Typewriter"/>
              </a:rPr>
              <a:t>reg </a:t>
            </a: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Q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Lucida Sans Typewriter"/>
              </a:rPr>
              <a:t>input </a:t>
            </a: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Clock, Dat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Lucida Sans Typewriter"/>
              </a:rPr>
              <a:t>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//inputs : present state : output (next sta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1 0 : ? : 0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1 1 : ? : 1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0 ? : ? : -; // - represents no change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// an outpu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Lucida Sans Typewriter"/>
              </a:rPr>
              <a:t>end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Lucida Sans Typewriter"/>
              </a:rPr>
              <a:t>endprimi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DP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emplo DFF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83240" y="1905120"/>
            <a:ext cx="85932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Lucida Sans Typewriter"/>
              </a:rPr>
              <a:t>primitive </a:t>
            </a: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DFlipFlop(Q, Clock, Data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Lucida Sans Typewriter"/>
              </a:rPr>
              <a:t>output </a:t>
            </a: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Q; </a:t>
            </a:r>
            <a:r>
              <a:rPr b="1" lang="pt-BR" sz="2400" spc="-1" strike="noStrike">
                <a:solidFill>
                  <a:srgbClr val="000000"/>
                </a:solidFill>
                <a:latin typeface="Lucida Sans Typewriter"/>
              </a:rPr>
              <a:t>reg </a:t>
            </a: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Q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Lucida Sans Typewriter"/>
              </a:rPr>
              <a:t>input </a:t>
            </a: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Clock, Dat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Lucida Sans Typewriter"/>
              </a:rPr>
              <a:t>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//inputs : present state : output (next sta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r    0   : ? : 0 ; // subida do Clo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r    1   : ? : 1 ; // subida do Clo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(?0)  ?   : ? : - ; // descida do Clo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?   (??) : ? : - ; // sem mudança do Clo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Lucida Sans Typewriter"/>
              </a:rPr>
              <a:t>end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Lucida Sans Typewriter"/>
              </a:rPr>
              <a:t>endprimi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DP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emplo JKFF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183240" y="1523880"/>
            <a:ext cx="85932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Lucida Sans Typewriter"/>
              </a:rPr>
              <a:t>primitive </a:t>
            </a: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JKFlipFlop(Q, Clock, J, K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Lucida Sans Typewriter"/>
              </a:rPr>
              <a:t>output </a:t>
            </a: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Q; </a:t>
            </a:r>
            <a:r>
              <a:rPr b="1" lang="pt-BR" sz="2400" spc="-1" strike="noStrike">
                <a:solidFill>
                  <a:srgbClr val="000000"/>
                </a:solidFill>
                <a:latin typeface="Lucida Sans Typewriter"/>
              </a:rPr>
              <a:t>reg </a:t>
            </a: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Q; </a:t>
            </a:r>
            <a:r>
              <a:rPr b="1" lang="pt-BR" sz="2400" spc="-1" strike="noStrike">
                <a:solidFill>
                  <a:srgbClr val="000000"/>
                </a:solidFill>
                <a:latin typeface="Lucida Sans Typewriter"/>
              </a:rPr>
              <a:t>input </a:t>
            </a: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Clock, J, K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Lucida Sans Typewriter"/>
              </a:rPr>
              <a:t>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//inputs : present state : output (next sta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r  0  0 : ? : - ; // Q=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r  0  1 : ? : 0 ; // Q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r  1  0 : ? : 1 ; // Q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r  1  1 : 0 : 1 ; // Q=not(q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r  1  1 : 1 : 0 ; // 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f  ?  ? : ? : - ; // descida do Clo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?  *  ? : ? : - ; // sem mudança do Clo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?  ?  * : ? : - ; // 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Lucida Sans Typewriter"/>
              </a:rPr>
              <a:t>end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Lucida Sans Typewriter"/>
              </a:rPr>
              <a:t>endprimi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módul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e ser definido a partir de primitiv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u a partir de outros módul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lquer número de entradas e saíd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2064600" y="3276720"/>
            <a:ext cx="485928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200" spc="-1" strike="noStrike">
                <a:solidFill>
                  <a:srgbClr val="000000"/>
                </a:solidFill>
                <a:latin typeface="Lucida Sans Typewriter"/>
              </a:rPr>
              <a:t>module mux (f, a, b, sel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200" spc="-1" strike="noStrike">
                <a:solidFill>
                  <a:srgbClr val="000000"/>
                </a:solidFill>
                <a:latin typeface="Lucida Sans Typewriter"/>
              </a:rPr>
              <a:t>	</a:t>
            </a:r>
            <a:r>
              <a:rPr b="1" sz="2200" spc="-1" strike="noStrike">
                <a:solidFill>
                  <a:srgbClr val="000000"/>
                </a:solidFill>
                <a:latin typeface="Lucida Sans Typewriter"/>
              </a:rPr>
              <a:t>output f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200" spc="-1" strike="noStrike">
                <a:solidFill>
                  <a:srgbClr val="000000"/>
                </a:solidFill>
                <a:latin typeface="Lucida Sans Typewriter"/>
              </a:rPr>
              <a:t>	</a:t>
            </a:r>
            <a:r>
              <a:rPr b="1" sz="2200" spc="-1" strike="noStrike">
                <a:solidFill>
                  <a:srgbClr val="000000"/>
                </a:solidFill>
                <a:latin typeface="Lucida Sans Typewriter"/>
              </a:rPr>
              <a:t>input a, b, sel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200" spc="-1" strike="noStrike">
                <a:solidFill>
                  <a:srgbClr val="000000"/>
                </a:solidFill>
                <a:latin typeface="Lucida Sans Typewriter"/>
              </a:rPr>
              <a:t>	</a:t>
            </a:r>
            <a:r>
              <a:rPr b="1" sz="2200" spc="-1" strike="noStrike">
                <a:solidFill>
                  <a:srgbClr val="000000"/>
                </a:solidFill>
                <a:latin typeface="Lucida Sans Typewriter"/>
              </a:rPr>
              <a:t>and</a:t>
            </a:r>
            <a:r>
              <a:rPr b="1" sz="2200" spc="-1" strike="noStrike">
                <a:solidFill>
                  <a:srgbClr val="000000"/>
                </a:solidFill>
                <a:latin typeface="Lucida Sans Typewriter"/>
              </a:rPr>
              <a:t>	</a:t>
            </a:r>
            <a:r>
              <a:rPr b="1" sz="2200" spc="-1" strike="noStrike">
                <a:solidFill>
                  <a:srgbClr val="000000"/>
                </a:solidFill>
                <a:latin typeface="Lucida Sans Typewriter"/>
              </a:rPr>
              <a:t>g1 (f1, a, nsel)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200" spc="-1" strike="noStrike">
                <a:solidFill>
                  <a:srgbClr val="000000"/>
                </a:solidFill>
                <a:latin typeface="Lucida Sans Typewriter"/>
              </a:rPr>
              <a:t>	</a:t>
            </a:r>
            <a:r>
              <a:rPr b="1" sz="2200" spc="-1" strike="noStrike">
                <a:solidFill>
                  <a:srgbClr val="000000"/>
                </a:solidFill>
                <a:latin typeface="Lucida Sans Typewriter"/>
              </a:rPr>
              <a:t>	</a:t>
            </a:r>
            <a:r>
              <a:rPr b="1" sz="2200" spc="-1" strike="noStrike">
                <a:solidFill>
                  <a:srgbClr val="000000"/>
                </a:solidFill>
                <a:latin typeface="Lucida Sans Typewriter"/>
              </a:rPr>
              <a:t>g2 (f2, b, sel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200" spc="-1" strike="noStrike">
                <a:solidFill>
                  <a:srgbClr val="000000"/>
                </a:solidFill>
                <a:latin typeface="Lucida Sans Typewriter"/>
              </a:rPr>
              <a:t>	</a:t>
            </a:r>
            <a:r>
              <a:rPr b="1" sz="2200" spc="-1" strike="noStrike">
                <a:solidFill>
                  <a:srgbClr val="000000"/>
                </a:solidFill>
                <a:latin typeface="Lucida Sans Typewriter"/>
              </a:rPr>
              <a:t>or</a:t>
            </a:r>
            <a:r>
              <a:rPr b="1" sz="2200" spc="-1" strike="noStrike">
                <a:solidFill>
                  <a:srgbClr val="000000"/>
                </a:solidFill>
                <a:latin typeface="Lucida Sans Typewriter"/>
              </a:rPr>
              <a:t>	</a:t>
            </a:r>
            <a:r>
              <a:rPr b="1" sz="2200" spc="-1" strike="noStrike">
                <a:solidFill>
                  <a:srgbClr val="000000"/>
                </a:solidFill>
                <a:latin typeface="Lucida Sans Typewriter"/>
              </a:rPr>
              <a:t>g3 (f, f1, f2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200" spc="-1" strike="noStrike">
                <a:solidFill>
                  <a:srgbClr val="000000"/>
                </a:solidFill>
                <a:latin typeface="Lucida Sans Typewriter"/>
              </a:rPr>
              <a:t>	</a:t>
            </a:r>
            <a:r>
              <a:rPr b="1" sz="2200" spc="-1" strike="noStrike">
                <a:solidFill>
                  <a:srgbClr val="000000"/>
                </a:solidFill>
                <a:latin typeface="Lucida Sans Typewriter"/>
              </a:rPr>
              <a:t>not</a:t>
            </a:r>
            <a:r>
              <a:rPr b="1" sz="2200" spc="-1" strike="noStrike">
                <a:solidFill>
                  <a:srgbClr val="000000"/>
                </a:solidFill>
                <a:latin typeface="Lucida Sans Typewriter"/>
              </a:rPr>
              <a:t>	</a:t>
            </a:r>
            <a:r>
              <a:rPr b="1" sz="2200" spc="-1" strike="noStrike">
                <a:solidFill>
                  <a:srgbClr val="000000"/>
                </a:solidFill>
                <a:latin typeface="Lucida Sans Typewriter"/>
              </a:rPr>
              <a:t>g4 (nsel, sel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200" spc="-1" strike="noStrike">
                <a:solidFill>
                  <a:srgbClr val="000000"/>
                </a:solidFill>
                <a:latin typeface="Lucida Sans Typewriter"/>
              </a:rPr>
              <a:t>endmodu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stanciação de módul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Da mesma forma que primitiv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ou com associação por no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É necessário dar um nome à instânci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853200" y="3222720"/>
            <a:ext cx="7389360" cy="33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200" spc="-1" strike="noStrike">
                <a:solidFill>
                  <a:srgbClr val="000000"/>
                </a:solidFill>
                <a:latin typeface="Lucida Sans Typewriter"/>
              </a:rPr>
              <a:t>module </a:t>
            </a:r>
            <a:r>
              <a:rPr b="0" sz="2200" spc="-1" strike="noStrike">
                <a:solidFill>
                  <a:srgbClr val="000000"/>
                </a:solidFill>
                <a:latin typeface="Lucida Sans Typewriter"/>
              </a:rPr>
              <a:t>mux (f, a, b, sel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200" spc="-1" strike="noStrike">
                <a:solidFill>
                  <a:srgbClr val="000000"/>
                </a:solidFill>
                <a:latin typeface="Lucida Sans Typewriter"/>
              </a:rPr>
              <a:t>	</a:t>
            </a:r>
            <a:r>
              <a:rPr b="1" sz="2200" spc="-1" strike="noStrike">
                <a:solidFill>
                  <a:srgbClr val="000000"/>
                </a:solidFill>
                <a:latin typeface="Lucida Sans Typewriter"/>
              </a:rPr>
              <a:t>output </a:t>
            </a:r>
            <a:r>
              <a:rPr b="0" sz="2200" spc="-1" strike="noStrike">
                <a:solidFill>
                  <a:srgbClr val="000000"/>
                </a:solidFill>
                <a:latin typeface="Lucida Sans Typewriter"/>
              </a:rPr>
              <a:t>f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200" spc="-1" strike="noStrike">
                <a:solidFill>
                  <a:srgbClr val="000000"/>
                </a:solidFill>
                <a:latin typeface="Lucida Sans Typewriter"/>
              </a:rPr>
              <a:t>	</a:t>
            </a:r>
            <a:r>
              <a:rPr b="1" sz="2200" spc="-1" strike="noStrike">
                <a:solidFill>
                  <a:srgbClr val="000000"/>
                </a:solidFill>
                <a:latin typeface="Lucida Sans Typewriter"/>
              </a:rPr>
              <a:t>input </a:t>
            </a:r>
            <a:r>
              <a:rPr b="0" sz="2200" spc="-1" strike="noStrike">
                <a:solidFill>
                  <a:srgbClr val="000000"/>
                </a:solidFill>
                <a:latin typeface="Lucida Sans Typewriter"/>
              </a:rPr>
              <a:t>a, b, sel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200" spc="-1" strike="noStrike">
                <a:solidFill>
                  <a:srgbClr val="000000"/>
                </a:solidFill>
                <a:latin typeface="Lucida Sans Typewriter"/>
              </a:rPr>
              <a:t>	</a:t>
            </a:r>
            <a:r>
              <a:rPr b="1" sz="2200" spc="-1" strike="noStrike">
                <a:solidFill>
                  <a:srgbClr val="000000"/>
                </a:solidFill>
                <a:latin typeface="Lucida Sans Typewriter"/>
              </a:rPr>
              <a:t>. . 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200" spc="-1" strike="noStrike">
                <a:solidFill>
                  <a:srgbClr val="000000"/>
                </a:solidFill>
                <a:latin typeface="Lucida Sans Typewriter"/>
              </a:rPr>
              <a:t>endmodu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200" spc="-1" strike="noStrike">
                <a:solidFill>
                  <a:srgbClr val="000000"/>
                </a:solidFill>
                <a:latin typeface="Lucida Sans Typewriter"/>
              </a:rPr>
              <a:t>. . 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200" spc="-1" strike="noStrike">
                <a:solidFill>
                  <a:srgbClr val="000000"/>
                </a:solidFill>
                <a:latin typeface="Lucida Sans Typewriter"/>
              </a:rPr>
              <a:t>wire </a:t>
            </a:r>
            <a:r>
              <a:rPr b="0" sz="2200" spc="-1" strike="noStrike">
                <a:solidFill>
                  <a:srgbClr val="000000"/>
                </a:solidFill>
                <a:latin typeface="Lucida Sans Typewriter"/>
              </a:rPr>
              <a:t>y, a1, a2, ctrl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200" spc="-1" strike="noStrike">
                <a:solidFill>
                  <a:srgbClr val="000000"/>
                </a:solidFill>
                <a:latin typeface="Lucida Sans Typewriter"/>
              </a:rPr>
              <a:t>mux</a:t>
            </a:r>
            <a:r>
              <a:rPr b="1" sz="2200" spc="-1" strike="noStrike">
                <a:solidFill>
                  <a:srgbClr val="000000"/>
                </a:solidFill>
                <a:latin typeface="Lucida Sans Typewriter"/>
              </a:rPr>
              <a:t> </a:t>
            </a:r>
            <a:r>
              <a:rPr b="0" sz="2200" spc="-1" strike="noStrike">
                <a:solidFill>
                  <a:srgbClr val="000000"/>
                </a:solidFill>
                <a:latin typeface="Lucida Sans Typewriter"/>
              </a:rPr>
              <a:t>m1 (.sel(ctrl), .f(y), .a(a1), .b(a2)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stanciação de módul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Argumentos podem ser </a:t>
            </a: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input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output 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ou </a:t>
            </a: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inout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Um </a:t>
            </a: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reg 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não pode ser </a:t>
            </a: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input 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ou </a:t>
            </a: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inout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1686240" y="3657600"/>
            <a:ext cx="45392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200" spc="-1" strike="noStrike">
                <a:solidFill>
                  <a:srgbClr val="000000"/>
                </a:solidFill>
                <a:latin typeface="Lucida Sans Typewriter"/>
              </a:rPr>
              <a:t>module mux (f, a, b, sel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200" spc="-1" strike="noStrike">
                <a:solidFill>
                  <a:srgbClr val="000000"/>
                </a:solidFill>
                <a:latin typeface="Lucida Sans Typewriter"/>
              </a:rPr>
              <a:t>	</a:t>
            </a:r>
            <a:r>
              <a:rPr b="0" sz="2200" spc="-1" strike="noStrike">
                <a:solidFill>
                  <a:srgbClr val="000000"/>
                </a:solidFill>
                <a:latin typeface="Lucida Sans Typewriter"/>
              </a:rPr>
              <a:t>output f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200" spc="-1" strike="noStrike">
                <a:solidFill>
                  <a:srgbClr val="000000"/>
                </a:solidFill>
                <a:latin typeface="Lucida Sans Typewriter"/>
              </a:rPr>
              <a:t>	</a:t>
            </a:r>
            <a:r>
              <a:rPr b="0" sz="2200" spc="-1" strike="noStrike">
                <a:solidFill>
                  <a:srgbClr val="000000"/>
                </a:solidFill>
                <a:latin typeface="Lucida Sans Typewriter"/>
              </a:rPr>
              <a:t>input a, b, sel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200" spc="-1" strike="noStrike">
                <a:solidFill>
                  <a:srgbClr val="000000"/>
                </a:solidFill>
                <a:latin typeface="Lucida Sans Typewriter"/>
              </a:rPr>
              <a:t>	</a:t>
            </a:r>
            <a:r>
              <a:rPr b="0" sz="2200" spc="-1" strike="noStrike">
                <a:solidFill>
                  <a:srgbClr val="000000"/>
                </a:solidFill>
                <a:latin typeface="Lucida Sans Typewriter"/>
              </a:rPr>
              <a:t>reg f; // o.k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200" spc="-1" strike="noStrike">
                <a:solidFill>
                  <a:srgbClr val="000000"/>
                </a:solidFill>
                <a:latin typeface="Lucida Sans Typewriter"/>
              </a:rPr>
              <a:t>	</a:t>
            </a:r>
            <a:r>
              <a:rPr b="0" sz="2200" spc="-1" strike="noStrike">
                <a:solidFill>
                  <a:srgbClr val="000000"/>
                </a:solidFill>
                <a:latin typeface="Lucida Sans Typewriter"/>
              </a:rPr>
              <a:t>reg a; // </a:t>
            </a:r>
            <a:r>
              <a:rPr b="1" sz="2200" spc="-1" strike="noStrike">
                <a:solidFill>
                  <a:srgbClr val="000000"/>
                </a:solidFill>
                <a:latin typeface="Lucida Sans Typewriter"/>
              </a:rPr>
              <a:t>nã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200" spc="-1" strike="noStrike">
                <a:solidFill>
                  <a:srgbClr val="000000"/>
                </a:solidFill>
                <a:latin typeface="Lucida Sans Typewriter"/>
              </a:rPr>
              <a:t>	</a:t>
            </a:r>
            <a:r>
              <a:rPr b="0" sz="2200" spc="-1" strike="noStrike">
                <a:solidFill>
                  <a:srgbClr val="000000"/>
                </a:solidFill>
                <a:latin typeface="Lucida Sans Typewriter"/>
              </a:rPr>
              <a:t>wire b; // o.k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200" spc="-1" strike="noStrike">
                <a:solidFill>
                  <a:srgbClr val="000000"/>
                </a:solidFill>
                <a:latin typeface="Lucida Sans Typewriter"/>
              </a:rPr>
              <a:t>	</a:t>
            </a:r>
            <a:r>
              <a:rPr b="0" sz="2200" spc="-1" strike="noStrike">
                <a:solidFill>
                  <a:srgbClr val="000000"/>
                </a:solidFill>
                <a:latin typeface="Lucida Sans Typewriter"/>
              </a:rPr>
              <a:t>. . 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200" spc="-1" strike="noStrike">
                <a:solidFill>
                  <a:srgbClr val="000000"/>
                </a:solidFill>
                <a:latin typeface="Lucida Sans Typewriter"/>
              </a:rPr>
              <a:t>endmodu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Instanciação com parámetr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80880" y="1228680"/>
            <a:ext cx="5791320" cy="265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14964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module M(Z, A1, A2, B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14964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parameter delay=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14964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input A1, A2, B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14964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output Z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14964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or (Z1, A1, A2); // OAI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14964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nand #delay (Z, Z1, B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14964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end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2514600" y="4572000"/>
            <a:ext cx="4876920" cy="1557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14964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M g1 (y ,a1, a2, b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14964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M #3 g2 (y ,a1, a2, b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14964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M g3 (y ,a1, a2, b);</a:t>
            </a:r>
            <a:br>
              <a:rPr sz="2400"/>
            </a:b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defparam g3.delay=4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474960" y="3962520"/>
            <a:ext cx="232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me hierárqu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5086440" y="4444920"/>
            <a:ext cx="2859120" cy="2105280"/>
          </a:xfrm>
          <a:custGeom>
            <a:avLst/>
            <a:gdLst/>
            <a:ahLst/>
            <a:rect l="l" t="t" r="r" b="b"/>
            <a:pathLst>
              <a:path w="1801" h="1326">
                <a:moveTo>
                  <a:pt x="1676" y="0"/>
                </a:moveTo>
                <a:cubicBezTo>
                  <a:pt x="1692" y="101"/>
                  <a:pt x="1801" y="415"/>
                  <a:pt x="1780" y="608"/>
                </a:cubicBezTo>
                <a:cubicBezTo>
                  <a:pt x="1759" y="801"/>
                  <a:pt x="1769" y="1043"/>
                  <a:pt x="1548" y="1160"/>
                </a:cubicBezTo>
                <a:cubicBezTo>
                  <a:pt x="1327" y="1277"/>
                  <a:pt x="710" y="1326"/>
                  <a:pt x="452" y="1312"/>
                </a:cubicBezTo>
                <a:cubicBezTo>
                  <a:pt x="194" y="1298"/>
                  <a:pt x="94" y="1123"/>
                  <a:pt x="0" y="1073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5029200" y="6095520"/>
            <a:ext cx="3808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erarqu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440080" y="2978280"/>
            <a:ext cx="1227960" cy="366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trutu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2211480" y="4730760"/>
            <a:ext cx="1211040" cy="366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i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1297080" y="3816360"/>
            <a:ext cx="1227960" cy="366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trutu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3278520" y="3816360"/>
            <a:ext cx="1227960" cy="366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trutu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687240" y="4730760"/>
            <a:ext cx="1211040" cy="366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i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3887640" y="4730760"/>
            <a:ext cx="1211040" cy="366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i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9" name=""/>
          <p:cNvCxnSpPr>
            <a:endCxn id="463" idx="0"/>
          </p:cNvCxnSpPr>
          <p:nvPr/>
        </p:nvCxnSpPr>
        <p:spPr>
          <a:xfrm flipH="1">
            <a:off x="3053880" y="2438280"/>
            <a:ext cx="1558080" cy="540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0" name=""/>
          <p:cNvCxnSpPr>
            <a:stCxn id="463" idx="2"/>
            <a:endCxn id="465" idx="0"/>
          </p:cNvCxnSpPr>
          <p:nvPr/>
        </p:nvCxnSpPr>
        <p:spPr>
          <a:xfrm flipH="1">
            <a:off x="1910520" y="3352680"/>
            <a:ext cx="1143720" cy="464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1" name=""/>
          <p:cNvCxnSpPr>
            <a:endCxn id="466" idx="0"/>
          </p:cNvCxnSpPr>
          <p:nvPr/>
        </p:nvCxnSpPr>
        <p:spPr>
          <a:xfrm>
            <a:off x="3048120" y="3359160"/>
            <a:ext cx="8452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2" name=""/>
          <p:cNvCxnSpPr>
            <a:endCxn id="467" idx="0"/>
          </p:cNvCxnSpPr>
          <p:nvPr/>
        </p:nvCxnSpPr>
        <p:spPr>
          <a:xfrm flipH="1">
            <a:off x="1293120" y="4197240"/>
            <a:ext cx="687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3" name=""/>
          <p:cNvCxnSpPr>
            <a:stCxn id="466" idx="2"/>
            <a:endCxn id="468" idx="0"/>
          </p:cNvCxnSpPr>
          <p:nvPr/>
        </p:nvCxnSpPr>
        <p:spPr>
          <a:xfrm>
            <a:off x="3892320" y="4190760"/>
            <a:ext cx="602280" cy="540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4" name=""/>
          <p:cNvCxnSpPr>
            <a:stCxn id="466" idx="2"/>
            <a:endCxn id="464" idx="0"/>
          </p:cNvCxnSpPr>
          <p:nvPr/>
        </p:nvCxnSpPr>
        <p:spPr>
          <a:xfrm flipH="1">
            <a:off x="2817360" y="4190760"/>
            <a:ext cx="1075680" cy="540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5" name=""/>
          <p:cNvCxnSpPr>
            <a:stCxn id="465" idx="2"/>
            <a:endCxn id="464" idx="0"/>
          </p:cNvCxnSpPr>
          <p:nvPr/>
        </p:nvCxnSpPr>
        <p:spPr>
          <a:xfrm>
            <a:off x="1911240" y="4190760"/>
            <a:ext cx="907200" cy="540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6" name=""/>
          <p:cNvCxnSpPr/>
          <p:nvPr/>
        </p:nvCxnSpPr>
        <p:spPr>
          <a:xfrm>
            <a:off x="3962520" y="4197240"/>
            <a:ext cx="270684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o do tópico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inuaç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Century Schoolbook"/>
              </a:rPr>
              <a:t>Descrição comportamental em Verilog – 12 hor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000000"/>
                </a:solidFill>
                <a:latin typeface="Century Schoolbook"/>
              </a:rPr>
              <a:t>Procedures</a:t>
            </a:r>
            <a:r>
              <a:rPr b="0" lang="pt-BR" sz="2800" spc="-1" strike="noStrike">
                <a:solidFill>
                  <a:srgbClr val="000000"/>
                </a:solidFill>
                <a:latin typeface="Century Schoolbook"/>
              </a:rPr>
              <a:t> e A</a:t>
            </a:r>
            <a:r>
              <a:rPr b="0" i="1" lang="pt-BR" sz="2800" spc="-1" strike="noStrike">
                <a:solidFill>
                  <a:srgbClr val="000000"/>
                </a:solidFill>
                <a:latin typeface="Century Schoolbook"/>
              </a:rPr>
              <a:t>ssign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entury Schoolbook"/>
              </a:rPr>
              <a:t>A diferença entre </a:t>
            </a:r>
            <a:r>
              <a:rPr b="0" i="1" lang="pt-BR" sz="2800" spc="-1" strike="noStrike">
                <a:solidFill>
                  <a:srgbClr val="000000"/>
                </a:solidFill>
                <a:latin typeface="Century Schoolbook"/>
              </a:rPr>
              <a:t>assignment</a:t>
            </a:r>
            <a:r>
              <a:rPr b="0" lang="pt-BR" sz="2800" spc="-1" strike="noStrike">
                <a:solidFill>
                  <a:srgbClr val="000000"/>
                </a:solidFill>
                <a:latin typeface="Century Schoolbook"/>
              </a:rPr>
              <a:t> bloqueante e não-bloquea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entury Schoolbook"/>
              </a:rPr>
              <a:t>Modelamento de atra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entury Schoolbook"/>
              </a:rPr>
              <a:t>Instruções condicionais e laç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entury Schoolbook"/>
              </a:rPr>
              <a:t>Tarefas e funçõ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comp3" descr=""/>
          <p:cNvPicPr/>
          <p:nvPr/>
        </p:nvPicPr>
        <p:blipFill>
          <a:blip r:embed=""/>
          <a:stretch/>
        </p:blipFill>
        <p:spPr>
          <a:xfrm>
            <a:off x="7010280" y="4876920"/>
            <a:ext cx="1752840" cy="15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Modelamento de atras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quê existem atrasos em circuitos digitai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 atraso de uma determinada porta lógica depende de quê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l é o modelo de atraso normalmente usado para bibliotecas de portas lógicas CMO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pos de atras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000000"/>
                </a:solidFill>
                <a:latin typeface="Times New Roman"/>
              </a:rPr>
              <a:t>Zero delay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Directions MT"/>
                <a:ea typeface="Directions MT"/>
              </a:rPr>
              <a:t>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pt-BR" sz="3200" spc="-1" strike="noStrike">
                <a:solidFill>
                  <a:srgbClr val="000000"/>
                </a:solidFill>
                <a:latin typeface="Times New Roman"/>
              </a:rPr>
              <a:t>Unit delay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3200"/>
            </a:b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atraso nulo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    todos iguais</a:t>
            </a:r>
            <a:br>
              <a:rPr sz="3200"/>
            </a:b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em Verilog, opção do simulad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000000"/>
                </a:solidFill>
                <a:latin typeface="Times New Roman"/>
              </a:rPr>
              <a:t>Transport delay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Directions MT"/>
                <a:ea typeface="Directions MT"/>
              </a:rPr>
              <a:t>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pt-BR" sz="3200" spc="-1" strike="noStrike">
                <a:solidFill>
                  <a:srgbClr val="000000"/>
                </a:solidFill>
                <a:latin typeface="Times New Roman"/>
              </a:rPr>
              <a:t>Inertial delay</a:t>
            </a:r>
            <a:br>
              <a:rPr sz="3200"/>
            </a:b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em Verilog, </a:t>
            </a:r>
            <a:r>
              <a:rPr b="0" i="1" lang="pt-BR" sz="3200" spc="-1" strike="noStrike">
                <a:solidFill>
                  <a:srgbClr val="000000"/>
                </a:solidFill>
                <a:latin typeface="Times New Roman"/>
              </a:rPr>
              <a:t>inertial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pt-BR" sz="3200" spc="-1" strike="noStrike">
                <a:solidFill>
                  <a:srgbClr val="000000"/>
                </a:solidFill>
                <a:latin typeface="Times New Roman"/>
              </a:rPr>
              <a:t>transport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traso de fi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628200" y="1752480"/>
            <a:ext cx="8268120" cy="46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14964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/* determina que a unidade do tempo será</a:t>
            </a:r>
            <a:br>
              <a:rPr sz="2400"/>
            </a:b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   nanosegundos e a precisão 10ps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14964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Lucida Sans Typewriter"/>
              </a:rPr>
              <a:t>`timescale</a:t>
            </a: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 1ns/10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14964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314964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Lucida Sans Typewriter"/>
              </a:rPr>
              <a:t>wire </a:t>
            </a: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#5 x;</a:t>
            </a:r>
            <a:r>
              <a:rPr b="1" lang="pt-BR" sz="2400" spc="-1" strike="noStrike">
                <a:solidFill>
                  <a:srgbClr val="000000"/>
                </a:solidFill>
                <a:latin typeface="Lucida Sans Typewriter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Lucida Sans Typewriter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// atraso de 5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314964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Lucida Sans Typewriter"/>
              </a:rPr>
              <a:t>wire</a:t>
            </a: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 #(3:4:5) y; // atraso min:typ:m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314964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Lucida Sans Typewriter"/>
              </a:rPr>
              <a:t>wire</a:t>
            </a: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 #(5,6) z; </a:t>
            </a: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// atraso subindo, descen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314964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sz="2400" spc="-1" strike="noStrike">
                <a:solidFill>
                  <a:srgbClr val="000000"/>
                </a:solidFill>
                <a:latin typeface="Lucida Sans Typewriter"/>
              </a:rPr>
              <a:t>wire </a:t>
            </a:r>
            <a:r>
              <a:rPr b="0" sz="2400" spc="-1" strike="noStrike">
                <a:solidFill>
                  <a:srgbClr val="000000"/>
                </a:solidFill>
                <a:latin typeface="Lucida Sans Typewriter"/>
              </a:rPr>
              <a:t>#(3:4:5, 4:5:6) v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314964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Lucida Sans Typewriter"/>
              </a:rPr>
              <a:t>wire</a:t>
            </a: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 #(5,6,8) z; // subindo, descendo,</a:t>
            </a:r>
            <a:br>
              <a:rPr sz="2400"/>
            </a:b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// alta impedâ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314964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traso de port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183960" y="1676520"/>
            <a:ext cx="8776080" cy="45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314964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nand #3.0 nd01(c, a, b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314964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nand #(2.6:3.0:3.4) nd02(d, a, b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314964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nand #(2.8:3.2:3.4, 2.6:2.8:2.9) nd03(e, a, b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14964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14964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Lucida Sans Typewriter"/>
              </a:rPr>
              <a:t>module</a:t>
            </a: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 e (y,a,b); output y; input a,b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14964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and g (y,a,b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14964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Lucida Sans Typewriter"/>
              </a:rPr>
              <a:t>specif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14964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(a=&gt;y) = 3; // atraso de a para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14964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(b=&gt;y) = 4; // atraso de b para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14964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Lucida Sans Typewriter"/>
              </a:rPr>
              <a:t>endspecif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14964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Lucida Sans Typewriter"/>
              </a:rPr>
              <a:t>end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traso de portas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ntinuaçã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474840" y="1219320"/>
            <a:ext cx="47527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14964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Lucida Sans Typewriter"/>
              </a:rPr>
              <a:t>module </a:t>
            </a: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M(Z, A1, A2, B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14964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Lucida Sans Typewriter"/>
              </a:rPr>
              <a:t>input </a:t>
            </a: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A1, A2, B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14964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Lucida Sans Typewriter"/>
              </a:rPr>
              <a:t>output </a:t>
            </a: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Z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14964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Lucida Sans Typewriter"/>
              </a:rPr>
              <a:t>or </a:t>
            </a: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(Z1, A1, A2); // OAI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14964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Lucida Sans Typewriter"/>
              </a:rPr>
              <a:t>nand </a:t>
            </a: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(Z, Z1, B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14964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14964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Lucida Sans Typewriter"/>
              </a:rPr>
              <a:t>specif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14964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(A1 =&gt; Z) = 5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14964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(A2 =&gt; Z) = 4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14964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Lucida Sans Typewriter"/>
              </a:rPr>
              <a:t>if </a:t>
            </a: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(~A1) (B =&gt; Z) = 6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14964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Lucida Sans Typewriter"/>
              </a:rPr>
              <a:t>if </a:t>
            </a: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( A1) (B =&gt; Z) = 7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14964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Lucida Sans Typewriter"/>
              </a:rPr>
              <a:t>endspecif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14964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14964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Lucida Sans Typewriter"/>
              </a:rPr>
              <a:t>endmodu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5181480" y="4495680"/>
            <a:ext cx="350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entury Schoolbook"/>
              </a:rPr>
              <a:t>Atraso depende do estado da entrada A1</a:t>
            </a:r>
            <a:br>
              <a:rPr sz="2400"/>
            </a:br>
            <a:r>
              <a:rPr b="0" lang="pt-BR" sz="2400" spc="-1" strike="noStrike">
                <a:solidFill>
                  <a:srgbClr val="000000"/>
                </a:solidFill>
                <a:latin typeface="Century Schoolbook"/>
              </a:rPr>
              <a:t>(vlogcmd não suport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"/>
          <p:cNvSpPr/>
          <p:nvPr/>
        </p:nvSpPr>
        <p:spPr>
          <a:xfrm>
            <a:off x="3984480" y="2209680"/>
            <a:ext cx="901800" cy="1054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</a:rPr>
              <a:t>D       Q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3333cc"/>
                </a:solidFill>
                <a:latin typeface="Arial"/>
              </a:rPr>
              <a:t>CLK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ercíc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340680" y="2021040"/>
            <a:ext cx="1828080" cy="609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0847994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0847994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6958080" y="2014560"/>
            <a:ext cx="609120" cy="609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44" y="0"/>
                </a:moveTo>
                <a:arcTo wR="10800" hR="10800" stAng="-5417905" swAng="10799907"/>
                <a:lnTo>
                  <a:pt x="10800" y="10800"/>
                </a:lnTo>
                <a:close/>
              </a:path>
              <a:path fill="none" w="21600" h="21600">
                <a:moveTo>
                  <a:pt x="10744" y="0"/>
                </a:moveTo>
                <a:arcTo wR="10800" hR="10800" stAng="-5417905" swAng="10799907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3978360" y="2889360"/>
            <a:ext cx="154080" cy="153720"/>
          </a:xfrm>
          <a:custGeom>
            <a:avLst/>
            <a:gdLst/>
            <a:ahLst/>
            <a:rect l="l" t="t" r="r" b="b"/>
            <a:pathLst>
              <a:path w="97" h="97">
                <a:moveTo>
                  <a:pt x="0" y="96"/>
                </a:moveTo>
                <a:lnTo>
                  <a:pt x="96" y="48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3984480" y="3657600"/>
            <a:ext cx="901800" cy="1054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</a:rPr>
              <a:t>D       Q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3333cc"/>
                </a:solidFill>
                <a:latin typeface="Arial"/>
              </a:rPr>
              <a:t>CLK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3978360" y="4336920"/>
            <a:ext cx="154080" cy="154080"/>
          </a:xfrm>
          <a:custGeom>
            <a:avLst/>
            <a:gdLst/>
            <a:ahLst/>
            <a:rect l="l" t="t" r="r" b="b"/>
            <a:pathLst>
              <a:path w="97" h="97">
                <a:moveTo>
                  <a:pt x="0" y="96"/>
                </a:moveTo>
                <a:lnTo>
                  <a:pt x="96" y="48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3984480" y="5105520"/>
            <a:ext cx="901800" cy="1054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</a:rPr>
              <a:t>D       Q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3333cc"/>
                </a:solidFill>
                <a:latin typeface="Arial"/>
              </a:rPr>
              <a:t>CLK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3978360" y="5784840"/>
            <a:ext cx="154080" cy="154080"/>
          </a:xfrm>
          <a:custGeom>
            <a:avLst/>
            <a:gdLst/>
            <a:ahLst/>
            <a:rect l="l" t="t" r="r" b="b"/>
            <a:pathLst>
              <a:path w="97" h="97">
                <a:moveTo>
                  <a:pt x="0" y="96"/>
                </a:moveTo>
                <a:lnTo>
                  <a:pt x="96" y="48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1852920" y="2108160"/>
            <a:ext cx="913680" cy="799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62" y="0"/>
                </a:moveTo>
                <a:arcTo wR="10800" hR="10800" stAng="-5411937" swAng="10728064"/>
                <a:lnTo>
                  <a:pt x="10800" y="10800"/>
                </a:lnTo>
                <a:close/>
              </a:path>
              <a:path fill="none" w="21600" h="21600">
                <a:moveTo>
                  <a:pt x="10762" y="0"/>
                </a:moveTo>
                <a:arcTo wR="10800" hR="10800" stAng="-5411937" swAng="10728064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2301840" y="2114640"/>
            <a:ext cx="0" cy="793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5586840" y="1879560"/>
            <a:ext cx="761040" cy="647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55" y="0"/>
                </a:moveTo>
                <a:arcTo wR="10800" hR="10800" stAng="-5414323" swAng="10742361"/>
                <a:lnTo>
                  <a:pt x="10800" y="10800"/>
                </a:lnTo>
                <a:close/>
              </a:path>
              <a:path fill="none" w="21600" h="21600">
                <a:moveTo>
                  <a:pt x="10755" y="0"/>
                </a:moveTo>
                <a:arcTo wR="10800" hR="10800" stAng="-5414323" swAng="10742361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5959440" y="1886040"/>
            <a:ext cx="0" cy="64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337520" y="209556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337520" y="240048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1311480" y="5106960"/>
            <a:ext cx="1828080" cy="609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0847994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0847994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1928880" y="5100480"/>
            <a:ext cx="60912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44" y="0"/>
                </a:moveTo>
                <a:arcTo wR="10800" hR="10800" stAng="-5417905" swAng="10799907"/>
                <a:lnTo>
                  <a:pt x="10800" y="10800"/>
                </a:lnTo>
                <a:close/>
              </a:path>
              <a:path fill="none" w="21600" h="21600">
                <a:moveTo>
                  <a:pt x="10744" y="0"/>
                </a:moveTo>
                <a:arcTo wR="10800" hR="10800" stAng="-5417905" swAng="10799907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1929240" y="3689280"/>
            <a:ext cx="761040" cy="533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55" y="0"/>
                </a:moveTo>
                <a:arcTo wR="10800" hR="10800" stAng="-5414323" swAng="10742285"/>
                <a:lnTo>
                  <a:pt x="10800" y="10800"/>
                </a:lnTo>
                <a:close/>
              </a:path>
              <a:path fill="none" w="21600" h="21600">
                <a:moveTo>
                  <a:pt x="10755" y="0"/>
                </a:moveTo>
                <a:arcTo wR="10800" hR="10800" stAng="-5414323" swAng="10742285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2301840" y="3695760"/>
            <a:ext cx="0" cy="527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1463760" y="2355840"/>
            <a:ext cx="382680" cy="306360"/>
          </a:xfrm>
          <a:custGeom>
            <a:avLst/>
            <a:gdLst/>
            <a:ahLst/>
            <a:rect l="l" t="t" r="r" b="b"/>
            <a:pathLst>
              <a:path w="241" h="193">
                <a:moveTo>
                  <a:pt x="0" y="192"/>
                </a:moveTo>
                <a:lnTo>
                  <a:pt x="240" y="96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1463760" y="2362320"/>
            <a:ext cx="0" cy="29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1851120" y="243828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1012680" y="2203560"/>
            <a:ext cx="1289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 flipV="1">
            <a:off x="2073240" y="1977840"/>
            <a:ext cx="0" cy="22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5586840" y="4908600"/>
            <a:ext cx="761040" cy="647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55" y="0"/>
                </a:moveTo>
                <a:arcTo wR="10800" hR="10800" stAng="-5414323" swAng="10742361"/>
                <a:lnTo>
                  <a:pt x="10800" y="10800"/>
                </a:lnTo>
                <a:close/>
              </a:path>
              <a:path fill="none" w="21600" h="21600">
                <a:moveTo>
                  <a:pt x="10755" y="0"/>
                </a:moveTo>
                <a:arcTo wR="10800" hR="10800" stAng="-5414323" swAng="10742361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5959440" y="4915080"/>
            <a:ext cx="0" cy="64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6346800" y="213372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6346800" y="518148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6499080" y="2203560"/>
            <a:ext cx="831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4892760" y="2508120"/>
            <a:ext cx="2440080" cy="1449360"/>
          </a:xfrm>
          <a:custGeom>
            <a:avLst/>
            <a:gdLst/>
            <a:ahLst/>
            <a:rect l="l" t="t" r="r" b="b"/>
            <a:pathLst>
              <a:path w="1537" h="913">
                <a:moveTo>
                  <a:pt x="1536" y="0"/>
                </a:moveTo>
                <a:lnTo>
                  <a:pt x="1344" y="0"/>
                </a:lnTo>
                <a:lnTo>
                  <a:pt x="1344" y="912"/>
                </a:lnTo>
                <a:lnTo>
                  <a:pt x="0" y="91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 flipH="1">
            <a:off x="4898880" y="5403960"/>
            <a:ext cx="106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 flipH="1">
            <a:off x="1828800" y="2813040"/>
            <a:ext cx="473040" cy="6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2765520" y="2508120"/>
            <a:ext cx="12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 flipH="1">
            <a:off x="1317600" y="3803760"/>
            <a:ext cx="984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 flipV="1">
            <a:off x="1311120" y="2206440"/>
            <a:ext cx="0" cy="1593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2003400" y="2508120"/>
            <a:ext cx="29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1012680" y="2508120"/>
            <a:ext cx="451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2073240" y="2508120"/>
            <a:ext cx="459000" cy="2745000"/>
          </a:xfrm>
          <a:custGeom>
            <a:avLst/>
            <a:gdLst/>
            <a:ahLst/>
            <a:rect l="l" t="t" r="r" b="b"/>
            <a:pathLst>
              <a:path w="289" h="1729">
                <a:moveTo>
                  <a:pt x="0" y="0"/>
                </a:moveTo>
                <a:lnTo>
                  <a:pt x="0" y="1728"/>
                </a:lnTo>
                <a:lnTo>
                  <a:pt x="288" y="1728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 flipH="1">
            <a:off x="1523880" y="5556240"/>
            <a:ext cx="1006560" cy="6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 flipH="1">
            <a:off x="1447920" y="4108320"/>
            <a:ext cx="853920" cy="6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3146400" y="5403960"/>
            <a:ext cx="831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689200" y="3956040"/>
            <a:ext cx="1289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8175600" y="2279520"/>
            <a:ext cx="29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6499080" y="5251320"/>
            <a:ext cx="1882800" cy="6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1006560" y="2965320"/>
            <a:ext cx="2973240" cy="3202200"/>
          </a:xfrm>
          <a:custGeom>
            <a:avLst/>
            <a:gdLst/>
            <a:ahLst/>
            <a:rect l="l" t="t" r="r" b="b"/>
            <a:pathLst>
              <a:path w="1873" h="2017">
                <a:moveTo>
                  <a:pt x="0" y="2016"/>
                </a:moveTo>
                <a:lnTo>
                  <a:pt x="1776" y="2016"/>
                </a:lnTo>
                <a:lnTo>
                  <a:pt x="1776" y="0"/>
                </a:lnTo>
                <a:lnTo>
                  <a:pt x="1872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3832200" y="5861160"/>
            <a:ext cx="146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3832200" y="4413240"/>
            <a:ext cx="146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380520" y="1973160"/>
            <a:ext cx="3312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380520" y="2354400"/>
            <a:ext cx="3312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1371960" y="2666880"/>
            <a:ext cx="5677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Q2_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916200" y="3954600"/>
            <a:ext cx="454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Q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916200" y="5402160"/>
            <a:ext cx="454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Q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380520" y="6012000"/>
            <a:ext cx="6012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CL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2079720" y="1974960"/>
            <a:ext cx="3879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3200040" y="2201760"/>
            <a:ext cx="500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D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3124080" y="3649680"/>
            <a:ext cx="556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D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3276000" y="5097600"/>
            <a:ext cx="444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D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4953240" y="2201760"/>
            <a:ext cx="454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Q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4953240" y="3649680"/>
            <a:ext cx="454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Q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4953240" y="5097600"/>
            <a:ext cx="454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Q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8443080" y="5097600"/>
            <a:ext cx="320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4892760" y="2432160"/>
            <a:ext cx="1068480" cy="77760"/>
          </a:xfrm>
          <a:custGeom>
            <a:avLst/>
            <a:gdLst/>
            <a:ahLst/>
            <a:rect l="l" t="t" r="r" b="b"/>
            <a:pathLst>
              <a:path w="673" h="49">
                <a:moveTo>
                  <a:pt x="0" y="48"/>
                </a:moveTo>
                <a:lnTo>
                  <a:pt x="480" y="48"/>
                </a:lnTo>
                <a:lnTo>
                  <a:pt x="480" y="0"/>
                </a:lnTo>
                <a:lnTo>
                  <a:pt x="672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5654520" y="3956040"/>
            <a:ext cx="306720" cy="1144440"/>
          </a:xfrm>
          <a:custGeom>
            <a:avLst/>
            <a:gdLst/>
            <a:ahLst/>
            <a:rect l="l" t="t" r="r" b="b"/>
            <a:pathLst>
              <a:path w="193" h="721">
                <a:moveTo>
                  <a:pt x="192" y="720"/>
                </a:moveTo>
                <a:lnTo>
                  <a:pt x="0" y="72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6670800" y="5554800"/>
            <a:ext cx="5677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Q2_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6477120" y="5861160"/>
            <a:ext cx="60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8457480" y="2101680"/>
            <a:ext cx="320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4" name="comp3" descr=""/>
          <p:cNvPicPr/>
          <p:nvPr/>
        </p:nvPicPr>
        <p:blipFill>
          <a:blip r:embed=""/>
          <a:stretch/>
        </p:blipFill>
        <p:spPr>
          <a:xfrm>
            <a:off x="6705720" y="457200"/>
            <a:ext cx="1143000" cy="1011240"/>
          </a:xfrm>
          <a:prstGeom prst="rect">
            <a:avLst/>
          </a:prstGeom>
          <a:ln w="0">
            <a:noFill/>
          </a:ln>
        </p:spPr>
      </p:pic>
      <p:sp>
        <p:nvSpPr>
          <p:cNvPr id="555" name=""/>
          <p:cNvSpPr/>
          <p:nvPr/>
        </p:nvSpPr>
        <p:spPr>
          <a:xfrm>
            <a:off x="5943600" y="5715000"/>
            <a:ext cx="382680" cy="306360"/>
          </a:xfrm>
          <a:custGeom>
            <a:avLst/>
            <a:gdLst/>
            <a:ahLst/>
            <a:rect l="l" t="t" r="r" b="b"/>
            <a:pathLst>
              <a:path w="241" h="193">
                <a:moveTo>
                  <a:pt x="0" y="192"/>
                </a:moveTo>
                <a:lnTo>
                  <a:pt x="240" y="96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6330960" y="57974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5943600" y="5715000"/>
            <a:ext cx="0" cy="29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5486400" y="5867280"/>
            <a:ext cx="450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5486400" y="5410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Schoolbook"/>
              </a:rPr>
              <a:t>Tipos de dados e operado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685800" y="2666880"/>
            <a:ext cx="777240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entury Schoolbook"/>
              </a:rPr>
              <a:t>bit, inteiro, real, vetores, constantes, cadeias de caracte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entury Schoolbook"/>
              </a:rPr>
              <a:t>Operadores lógicos e aritmét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2" name="comp3" descr=""/>
          <p:cNvPicPr/>
          <p:nvPr/>
        </p:nvPicPr>
        <p:blipFill>
          <a:blip r:embed=""/>
          <a:stretch/>
        </p:blipFill>
        <p:spPr>
          <a:xfrm>
            <a:off x="7010280" y="4876920"/>
            <a:ext cx="1752840" cy="1549440"/>
          </a:xfrm>
          <a:prstGeom prst="rect">
            <a:avLst/>
          </a:prstGeom>
          <a:ln w="0">
            <a:noFill/>
          </a:ln>
        </p:spPr>
      </p:pic>
      <p:grpSp>
        <p:nvGrpSpPr>
          <p:cNvPr id="563" name=""/>
          <p:cNvGrpSpPr/>
          <p:nvPr/>
        </p:nvGrpSpPr>
        <p:grpSpPr>
          <a:xfrm>
            <a:off x="7348680" y="457200"/>
            <a:ext cx="1490040" cy="2133360"/>
            <a:chOff x="7348680" y="457200"/>
            <a:chExt cx="1490040" cy="2133360"/>
          </a:xfrm>
        </p:grpSpPr>
        <p:grpSp>
          <p:nvGrpSpPr>
            <p:cNvPr id="564" name=""/>
            <p:cNvGrpSpPr/>
            <p:nvPr/>
          </p:nvGrpSpPr>
          <p:grpSpPr>
            <a:xfrm>
              <a:off x="7348680" y="457200"/>
              <a:ext cx="809280" cy="1044360"/>
              <a:chOff x="7348680" y="457200"/>
              <a:chExt cx="809280" cy="1044360"/>
            </a:xfrm>
          </p:grpSpPr>
          <p:sp>
            <p:nvSpPr>
              <p:cNvPr id="565" name=""/>
              <p:cNvSpPr/>
              <p:nvPr/>
            </p:nvSpPr>
            <p:spPr>
              <a:xfrm>
                <a:off x="7348680" y="457200"/>
                <a:ext cx="809280" cy="1044360"/>
              </a:xfrm>
              <a:custGeom>
                <a:avLst/>
                <a:gdLst/>
                <a:ahLst/>
                <a:rect l="l" t="t" r="r" b="b"/>
                <a:pathLst>
                  <a:path w="674" h="870">
                    <a:moveTo>
                      <a:pt x="664" y="182"/>
                    </a:moveTo>
                    <a:lnTo>
                      <a:pt x="668" y="114"/>
                    </a:lnTo>
                    <a:lnTo>
                      <a:pt x="635" y="51"/>
                    </a:lnTo>
                    <a:lnTo>
                      <a:pt x="571" y="0"/>
                    </a:lnTo>
                    <a:lnTo>
                      <a:pt x="474" y="22"/>
                    </a:lnTo>
                    <a:lnTo>
                      <a:pt x="389" y="80"/>
                    </a:lnTo>
                    <a:lnTo>
                      <a:pt x="283" y="127"/>
                    </a:lnTo>
                    <a:lnTo>
                      <a:pt x="169" y="174"/>
                    </a:lnTo>
                    <a:lnTo>
                      <a:pt x="63" y="238"/>
                    </a:lnTo>
                    <a:lnTo>
                      <a:pt x="0" y="297"/>
                    </a:lnTo>
                    <a:lnTo>
                      <a:pt x="13" y="314"/>
                    </a:lnTo>
                    <a:lnTo>
                      <a:pt x="131" y="424"/>
                    </a:lnTo>
                    <a:lnTo>
                      <a:pt x="173" y="483"/>
                    </a:lnTo>
                    <a:lnTo>
                      <a:pt x="182" y="539"/>
                    </a:lnTo>
                    <a:lnTo>
                      <a:pt x="186" y="611"/>
                    </a:lnTo>
                    <a:lnTo>
                      <a:pt x="194" y="704"/>
                    </a:lnTo>
                    <a:lnTo>
                      <a:pt x="216" y="802"/>
                    </a:lnTo>
                    <a:lnTo>
                      <a:pt x="249" y="856"/>
                    </a:lnTo>
                    <a:lnTo>
                      <a:pt x="283" y="869"/>
                    </a:lnTo>
                    <a:lnTo>
                      <a:pt x="321" y="840"/>
                    </a:lnTo>
                    <a:lnTo>
                      <a:pt x="385" y="802"/>
                    </a:lnTo>
                    <a:lnTo>
                      <a:pt x="452" y="759"/>
                    </a:lnTo>
                    <a:lnTo>
                      <a:pt x="528" y="729"/>
                    </a:lnTo>
                    <a:lnTo>
                      <a:pt x="597" y="720"/>
                    </a:lnTo>
                    <a:lnTo>
                      <a:pt x="630" y="666"/>
                    </a:lnTo>
                    <a:lnTo>
                      <a:pt x="655" y="585"/>
                    </a:lnTo>
                    <a:lnTo>
                      <a:pt x="673" y="454"/>
                    </a:lnTo>
                    <a:lnTo>
                      <a:pt x="668" y="339"/>
                    </a:lnTo>
                    <a:lnTo>
                      <a:pt x="660" y="272"/>
                    </a:lnTo>
                    <a:lnTo>
                      <a:pt x="630" y="272"/>
                    </a:lnTo>
                    <a:lnTo>
                      <a:pt x="635" y="386"/>
                    </a:lnTo>
                    <a:lnTo>
                      <a:pt x="635" y="509"/>
                    </a:lnTo>
                    <a:lnTo>
                      <a:pt x="617" y="581"/>
                    </a:lnTo>
                    <a:lnTo>
                      <a:pt x="588" y="666"/>
                    </a:lnTo>
                    <a:lnTo>
                      <a:pt x="521" y="700"/>
                    </a:lnTo>
                    <a:lnTo>
                      <a:pt x="427" y="725"/>
                    </a:lnTo>
                    <a:lnTo>
                      <a:pt x="351" y="767"/>
                    </a:lnTo>
                    <a:lnTo>
                      <a:pt x="279" y="818"/>
                    </a:lnTo>
                    <a:lnTo>
                      <a:pt x="249" y="784"/>
                    </a:lnTo>
                    <a:lnTo>
                      <a:pt x="232" y="713"/>
                    </a:lnTo>
                    <a:lnTo>
                      <a:pt x="224" y="619"/>
                    </a:lnTo>
                    <a:lnTo>
                      <a:pt x="216" y="521"/>
                    </a:lnTo>
                    <a:lnTo>
                      <a:pt x="186" y="437"/>
                    </a:lnTo>
                    <a:lnTo>
                      <a:pt x="102" y="348"/>
                    </a:lnTo>
                    <a:lnTo>
                      <a:pt x="63" y="301"/>
                    </a:lnTo>
                    <a:lnTo>
                      <a:pt x="67" y="284"/>
                    </a:lnTo>
                    <a:lnTo>
                      <a:pt x="173" y="212"/>
                    </a:lnTo>
                    <a:lnTo>
                      <a:pt x="279" y="165"/>
                    </a:lnTo>
                    <a:lnTo>
                      <a:pt x="368" y="123"/>
                    </a:lnTo>
                    <a:lnTo>
                      <a:pt x="423" y="98"/>
                    </a:lnTo>
                    <a:lnTo>
                      <a:pt x="478" y="64"/>
                    </a:lnTo>
                    <a:lnTo>
                      <a:pt x="512" y="47"/>
                    </a:lnTo>
                    <a:lnTo>
                      <a:pt x="567" y="42"/>
                    </a:lnTo>
                    <a:lnTo>
                      <a:pt x="601" y="72"/>
                    </a:lnTo>
                    <a:lnTo>
                      <a:pt x="626" y="119"/>
                    </a:lnTo>
                    <a:lnTo>
                      <a:pt x="626" y="161"/>
                    </a:lnTo>
                    <a:lnTo>
                      <a:pt x="630" y="203"/>
                    </a:lnTo>
                    <a:lnTo>
                      <a:pt x="664" y="182"/>
                    </a:lnTo>
                  </a:path>
                </a:pathLst>
              </a:cu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7729200" y="776520"/>
                <a:ext cx="255600" cy="374400"/>
              </a:xfrm>
              <a:custGeom>
                <a:avLst/>
                <a:gdLst/>
                <a:ahLst/>
                <a:rect l="l" t="t" r="r" b="b"/>
                <a:pathLst>
                  <a:path w="213" h="312">
                    <a:moveTo>
                      <a:pt x="187" y="86"/>
                    </a:moveTo>
                    <a:lnTo>
                      <a:pt x="140" y="35"/>
                    </a:lnTo>
                    <a:lnTo>
                      <a:pt x="64" y="0"/>
                    </a:lnTo>
                    <a:lnTo>
                      <a:pt x="26" y="69"/>
                    </a:lnTo>
                    <a:lnTo>
                      <a:pt x="0" y="158"/>
                    </a:lnTo>
                    <a:lnTo>
                      <a:pt x="60" y="311"/>
                    </a:lnTo>
                    <a:lnTo>
                      <a:pt x="136" y="306"/>
                    </a:lnTo>
                    <a:lnTo>
                      <a:pt x="212" y="255"/>
                    </a:lnTo>
                    <a:lnTo>
                      <a:pt x="212" y="124"/>
                    </a:lnTo>
                    <a:lnTo>
                      <a:pt x="191" y="120"/>
                    </a:lnTo>
                    <a:lnTo>
                      <a:pt x="174" y="141"/>
                    </a:lnTo>
                    <a:lnTo>
                      <a:pt x="178" y="243"/>
                    </a:lnTo>
                    <a:lnTo>
                      <a:pt x="127" y="281"/>
                    </a:lnTo>
                    <a:lnTo>
                      <a:pt x="69" y="272"/>
                    </a:lnTo>
                    <a:lnTo>
                      <a:pt x="35" y="162"/>
                    </a:lnTo>
                    <a:lnTo>
                      <a:pt x="82" y="162"/>
                    </a:lnTo>
                    <a:lnTo>
                      <a:pt x="140" y="133"/>
                    </a:lnTo>
                    <a:lnTo>
                      <a:pt x="136" y="124"/>
                    </a:lnTo>
                    <a:lnTo>
                      <a:pt x="64" y="141"/>
                    </a:lnTo>
                    <a:lnTo>
                      <a:pt x="26" y="136"/>
                    </a:lnTo>
                    <a:lnTo>
                      <a:pt x="73" y="31"/>
                    </a:lnTo>
                    <a:lnTo>
                      <a:pt x="124" y="64"/>
                    </a:lnTo>
                    <a:lnTo>
                      <a:pt x="170" y="115"/>
                    </a:lnTo>
                    <a:lnTo>
                      <a:pt x="187" y="86"/>
                    </a:lnTo>
                  </a:path>
                </a:pathLst>
              </a:cu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7" name=""/>
            <p:cNvGrpSpPr/>
            <p:nvPr/>
          </p:nvGrpSpPr>
          <p:grpSpPr>
            <a:xfrm>
              <a:off x="7476120" y="574560"/>
              <a:ext cx="1362600" cy="2016000"/>
              <a:chOff x="7476120" y="574560"/>
              <a:chExt cx="1362600" cy="2016000"/>
            </a:xfrm>
          </p:grpSpPr>
          <p:sp>
            <p:nvSpPr>
              <p:cNvPr id="568" name=""/>
              <p:cNvSpPr/>
              <p:nvPr/>
            </p:nvSpPr>
            <p:spPr>
              <a:xfrm>
                <a:off x="7476120" y="920160"/>
                <a:ext cx="1098720" cy="371880"/>
              </a:xfrm>
              <a:custGeom>
                <a:avLst/>
                <a:gdLst/>
                <a:ahLst/>
                <a:rect l="l" t="t" r="r" b="b"/>
                <a:pathLst>
                  <a:path w="915" h="310">
                    <a:moveTo>
                      <a:pt x="914" y="241"/>
                    </a:moveTo>
                    <a:lnTo>
                      <a:pt x="893" y="216"/>
                    </a:lnTo>
                    <a:lnTo>
                      <a:pt x="846" y="207"/>
                    </a:lnTo>
                    <a:lnTo>
                      <a:pt x="698" y="237"/>
                    </a:lnTo>
                    <a:lnTo>
                      <a:pt x="554" y="263"/>
                    </a:lnTo>
                    <a:lnTo>
                      <a:pt x="376" y="258"/>
                    </a:lnTo>
                    <a:lnTo>
                      <a:pt x="211" y="224"/>
                    </a:lnTo>
                    <a:lnTo>
                      <a:pt x="110" y="165"/>
                    </a:lnTo>
                    <a:lnTo>
                      <a:pt x="123" y="118"/>
                    </a:lnTo>
                    <a:lnTo>
                      <a:pt x="105" y="54"/>
                    </a:lnTo>
                    <a:lnTo>
                      <a:pt x="67" y="21"/>
                    </a:lnTo>
                    <a:lnTo>
                      <a:pt x="25" y="0"/>
                    </a:lnTo>
                    <a:lnTo>
                      <a:pt x="8" y="46"/>
                    </a:lnTo>
                    <a:lnTo>
                      <a:pt x="0" y="92"/>
                    </a:lnTo>
                    <a:lnTo>
                      <a:pt x="17" y="181"/>
                    </a:lnTo>
                    <a:lnTo>
                      <a:pt x="59" y="207"/>
                    </a:lnTo>
                    <a:lnTo>
                      <a:pt x="161" y="241"/>
                    </a:lnTo>
                    <a:lnTo>
                      <a:pt x="270" y="270"/>
                    </a:lnTo>
                    <a:lnTo>
                      <a:pt x="453" y="305"/>
                    </a:lnTo>
                    <a:lnTo>
                      <a:pt x="622" y="309"/>
                    </a:lnTo>
                    <a:lnTo>
                      <a:pt x="851" y="288"/>
                    </a:lnTo>
                    <a:lnTo>
                      <a:pt x="914" y="241"/>
                    </a:lnTo>
                  </a:path>
                </a:pathLst>
              </a:cu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8065440" y="654840"/>
                <a:ext cx="595440" cy="530640"/>
              </a:xfrm>
              <a:custGeom>
                <a:avLst/>
                <a:gdLst/>
                <a:ahLst/>
                <a:rect l="l" t="t" r="r" b="b"/>
                <a:pathLst>
                  <a:path w="496" h="442">
                    <a:moveTo>
                      <a:pt x="482" y="441"/>
                    </a:moveTo>
                    <a:lnTo>
                      <a:pt x="495" y="399"/>
                    </a:lnTo>
                    <a:lnTo>
                      <a:pt x="469" y="361"/>
                    </a:lnTo>
                    <a:lnTo>
                      <a:pt x="385" y="327"/>
                    </a:lnTo>
                    <a:lnTo>
                      <a:pt x="287" y="318"/>
                    </a:lnTo>
                    <a:lnTo>
                      <a:pt x="220" y="297"/>
                    </a:lnTo>
                    <a:lnTo>
                      <a:pt x="177" y="259"/>
                    </a:lnTo>
                    <a:lnTo>
                      <a:pt x="131" y="174"/>
                    </a:lnTo>
                    <a:lnTo>
                      <a:pt x="93" y="81"/>
                    </a:lnTo>
                    <a:lnTo>
                      <a:pt x="93" y="34"/>
                    </a:lnTo>
                    <a:lnTo>
                      <a:pt x="71" y="9"/>
                    </a:lnTo>
                    <a:lnTo>
                      <a:pt x="42" y="0"/>
                    </a:lnTo>
                    <a:lnTo>
                      <a:pt x="12" y="22"/>
                    </a:lnTo>
                    <a:lnTo>
                      <a:pt x="0" y="68"/>
                    </a:lnTo>
                    <a:lnTo>
                      <a:pt x="4" y="127"/>
                    </a:lnTo>
                    <a:lnTo>
                      <a:pt x="20" y="170"/>
                    </a:lnTo>
                    <a:lnTo>
                      <a:pt x="38" y="170"/>
                    </a:lnTo>
                    <a:lnTo>
                      <a:pt x="46" y="153"/>
                    </a:lnTo>
                    <a:lnTo>
                      <a:pt x="71" y="149"/>
                    </a:lnTo>
                    <a:lnTo>
                      <a:pt x="118" y="212"/>
                    </a:lnTo>
                    <a:lnTo>
                      <a:pt x="173" y="310"/>
                    </a:lnTo>
                    <a:lnTo>
                      <a:pt x="211" y="352"/>
                    </a:lnTo>
                    <a:lnTo>
                      <a:pt x="287" y="377"/>
                    </a:lnTo>
                    <a:lnTo>
                      <a:pt x="376" y="403"/>
                    </a:lnTo>
                    <a:lnTo>
                      <a:pt x="435" y="424"/>
                    </a:lnTo>
                    <a:lnTo>
                      <a:pt x="482" y="441"/>
                    </a:lnTo>
                  </a:path>
                </a:pathLst>
              </a:cu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8283960" y="1107360"/>
                <a:ext cx="452880" cy="784080"/>
              </a:xfrm>
              <a:custGeom>
                <a:avLst/>
                <a:gdLst/>
                <a:ahLst/>
                <a:rect l="l" t="t" r="r" b="b"/>
                <a:pathLst>
                  <a:path w="377" h="653">
                    <a:moveTo>
                      <a:pt x="376" y="85"/>
                    </a:moveTo>
                    <a:lnTo>
                      <a:pt x="356" y="34"/>
                    </a:lnTo>
                    <a:lnTo>
                      <a:pt x="326" y="0"/>
                    </a:lnTo>
                    <a:lnTo>
                      <a:pt x="250" y="0"/>
                    </a:lnTo>
                    <a:lnTo>
                      <a:pt x="173" y="34"/>
                    </a:lnTo>
                    <a:lnTo>
                      <a:pt x="84" y="131"/>
                    </a:lnTo>
                    <a:lnTo>
                      <a:pt x="38" y="208"/>
                    </a:lnTo>
                    <a:lnTo>
                      <a:pt x="8" y="313"/>
                    </a:lnTo>
                    <a:lnTo>
                      <a:pt x="0" y="436"/>
                    </a:lnTo>
                    <a:lnTo>
                      <a:pt x="17" y="568"/>
                    </a:lnTo>
                    <a:lnTo>
                      <a:pt x="59" y="632"/>
                    </a:lnTo>
                    <a:lnTo>
                      <a:pt x="135" y="652"/>
                    </a:lnTo>
                    <a:lnTo>
                      <a:pt x="182" y="649"/>
                    </a:lnTo>
                    <a:lnTo>
                      <a:pt x="220" y="627"/>
                    </a:lnTo>
                    <a:lnTo>
                      <a:pt x="254" y="598"/>
                    </a:lnTo>
                    <a:lnTo>
                      <a:pt x="267" y="547"/>
                    </a:lnTo>
                    <a:lnTo>
                      <a:pt x="258" y="496"/>
                    </a:lnTo>
                    <a:lnTo>
                      <a:pt x="229" y="466"/>
                    </a:lnTo>
                    <a:lnTo>
                      <a:pt x="208" y="433"/>
                    </a:lnTo>
                    <a:lnTo>
                      <a:pt x="199" y="390"/>
                    </a:lnTo>
                    <a:lnTo>
                      <a:pt x="199" y="352"/>
                    </a:lnTo>
                    <a:lnTo>
                      <a:pt x="216" y="318"/>
                    </a:lnTo>
                    <a:lnTo>
                      <a:pt x="275" y="259"/>
                    </a:lnTo>
                    <a:lnTo>
                      <a:pt x="347" y="191"/>
                    </a:lnTo>
                    <a:lnTo>
                      <a:pt x="373" y="135"/>
                    </a:lnTo>
                    <a:lnTo>
                      <a:pt x="376" y="85"/>
                    </a:lnTo>
                  </a:path>
                </a:pathLst>
              </a:cu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8375400" y="574560"/>
                <a:ext cx="463320" cy="412920"/>
              </a:xfrm>
              <a:custGeom>
                <a:avLst/>
                <a:gdLst/>
                <a:ahLst/>
                <a:rect l="l" t="t" r="r" b="b"/>
                <a:pathLst>
                  <a:path w="386" h="344">
                    <a:moveTo>
                      <a:pt x="102" y="186"/>
                    </a:moveTo>
                    <a:lnTo>
                      <a:pt x="131" y="127"/>
                    </a:lnTo>
                    <a:lnTo>
                      <a:pt x="186" y="55"/>
                    </a:lnTo>
                    <a:lnTo>
                      <a:pt x="237" y="8"/>
                    </a:lnTo>
                    <a:lnTo>
                      <a:pt x="297" y="0"/>
                    </a:lnTo>
                    <a:lnTo>
                      <a:pt x="347" y="17"/>
                    </a:lnTo>
                    <a:lnTo>
                      <a:pt x="381" y="59"/>
                    </a:lnTo>
                    <a:lnTo>
                      <a:pt x="385" y="118"/>
                    </a:lnTo>
                    <a:lnTo>
                      <a:pt x="360" y="203"/>
                    </a:lnTo>
                    <a:lnTo>
                      <a:pt x="297" y="283"/>
                    </a:lnTo>
                    <a:lnTo>
                      <a:pt x="224" y="339"/>
                    </a:lnTo>
                    <a:lnTo>
                      <a:pt x="157" y="343"/>
                    </a:lnTo>
                    <a:lnTo>
                      <a:pt x="115" y="326"/>
                    </a:lnTo>
                    <a:lnTo>
                      <a:pt x="106" y="301"/>
                    </a:lnTo>
                    <a:lnTo>
                      <a:pt x="102" y="263"/>
                    </a:lnTo>
                    <a:lnTo>
                      <a:pt x="51" y="271"/>
                    </a:lnTo>
                    <a:lnTo>
                      <a:pt x="17" y="288"/>
                    </a:lnTo>
                    <a:lnTo>
                      <a:pt x="0" y="263"/>
                    </a:lnTo>
                    <a:lnTo>
                      <a:pt x="17" y="245"/>
                    </a:lnTo>
                    <a:lnTo>
                      <a:pt x="72" y="225"/>
                    </a:lnTo>
                    <a:lnTo>
                      <a:pt x="106" y="212"/>
                    </a:lnTo>
                    <a:lnTo>
                      <a:pt x="102" y="186"/>
                    </a:lnTo>
                  </a:path>
                </a:pathLst>
              </a:cu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8345160" y="1759680"/>
                <a:ext cx="284400" cy="774360"/>
              </a:xfrm>
              <a:custGeom>
                <a:avLst/>
                <a:gdLst/>
                <a:ahLst/>
                <a:rect l="l" t="t" r="r" b="b"/>
                <a:pathLst>
                  <a:path w="237" h="645">
                    <a:moveTo>
                      <a:pt x="178" y="0"/>
                    </a:moveTo>
                    <a:lnTo>
                      <a:pt x="135" y="4"/>
                    </a:lnTo>
                    <a:lnTo>
                      <a:pt x="105" y="59"/>
                    </a:lnTo>
                    <a:lnTo>
                      <a:pt x="114" y="115"/>
                    </a:lnTo>
                    <a:lnTo>
                      <a:pt x="127" y="229"/>
                    </a:lnTo>
                    <a:lnTo>
                      <a:pt x="122" y="301"/>
                    </a:lnTo>
                    <a:lnTo>
                      <a:pt x="127" y="373"/>
                    </a:lnTo>
                    <a:lnTo>
                      <a:pt x="160" y="521"/>
                    </a:lnTo>
                    <a:lnTo>
                      <a:pt x="169" y="559"/>
                    </a:lnTo>
                    <a:lnTo>
                      <a:pt x="160" y="568"/>
                    </a:lnTo>
                    <a:lnTo>
                      <a:pt x="114" y="543"/>
                    </a:lnTo>
                    <a:lnTo>
                      <a:pt x="38" y="530"/>
                    </a:lnTo>
                    <a:lnTo>
                      <a:pt x="0" y="547"/>
                    </a:lnTo>
                    <a:lnTo>
                      <a:pt x="4" y="576"/>
                    </a:lnTo>
                    <a:lnTo>
                      <a:pt x="55" y="589"/>
                    </a:lnTo>
                    <a:lnTo>
                      <a:pt x="114" y="594"/>
                    </a:lnTo>
                    <a:lnTo>
                      <a:pt x="173" y="619"/>
                    </a:lnTo>
                    <a:lnTo>
                      <a:pt x="219" y="644"/>
                    </a:lnTo>
                    <a:lnTo>
                      <a:pt x="236" y="632"/>
                    </a:lnTo>
                    <a:lnTo>
                      <a:pt x="236" y="589"/>
                    </a:lnTo>
                    <a:lnTo>
                      <a:pt x="203" y="509"/>
                    </a:lnTo>
                    <a:lnTo>
                      <a:pt x="185" y="415"/>
                    </a:lnTo>
                    <a:lnTo>
                      <a:pt x="178" y="284"/>
                    </a:lnTo>
                    <a:lnTo>
                      <a:pt x="194" y="166"/>
                    </a:lnTo>
                    <a:lnTo>
                      <a:pt x="211" y="72"/>
                    </a:lnTo>
                    <a:lnTo>
                      <a:pt x="194" y="0"/>
                    </a:lnTo>
                    <a:lnTo>
                      <a:pt x="178" y="0"/>
                    </a:lnTo>
                  </a:path>
                </a:pathLst>
              </a:cu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8015040" y="1688760"/>
                <a:ext cx="458280" cy="901800"/>
              </a:xfrm>
              <a:custGeom>
                <a:avLst/>
                <a:gdLst/>
                <a:ahLst/>
                <a:rect l="l" t="t" r="r" b="b"/>
                <a:pathLst>
                  <a:path w="382" h="751">
                    <a:moveTo>
                      <a:pt x="300" y="8"/>
                    </a:moveTo>
                    <a:lnTo>
                      <a:pt x="359" y="0"/>
                    </a:lnTo>
                    <a:lnTo>
                      <a:pt x="381" y="42"/>
                    </a:lnTo>
                    <a:lnTo>
                      <a:pt x="359" y="92"/>
                    </a:lnTo>
                    <a:lnTo>
                      <a:pt x="300" y="177"/>
                    </a:lnTo>
                    <a:lnTo>
                      <a:pt x="254" y="301"/>
                    </a:lnTo>
                    <a:lnTo>
                      <a:pt x="237" y="402"/>
                    </a:lnTo>
                    <a:lnTo>
                      <a:pt x="245" y="508"/>
                    </a:lnTo>
                    <a:lnTo>
                      <a:pt x="262" y="644"/>
                    </a:lnTo>
                    <a:lnTo>
                      <a:pt x="279" y="720"/>
                    </a:lnTo>
                    <a:lnTo>
                      <a:pt x="270" y="750"/>
                    </a:lnTo>
                    <a:lnTo>
                      <a:pt x="241" y="750"/>
                    </a:lnTo>
                    <a:lnTo>
                      <a:pt x="186" y="724"/>
                    </a:lnTo>
                    <a:lnTo>
                      <a:pt x="101" y="707"/>
                    </a:lnTo>
                    <a:lnTo>
                      <a:pt x="12" y="707"/>
                    </a:lnTo>
                    <a:lnTo>
                      <a:pt x="0" y="682"/>
                    </a:lnTo>
                    <a:lnTo>
                      <a:pt x="50" y="648"/>
                    </a:lnTo>
                    <a:lnTo>
                      <a:pt x="76" y="648"/>
                    </a:lnTo>
                    <a:lnTo>
                      <a:pt x="186" y="682"/>
                    </a:lnTo>
                    <a:lnTo>
                      <a:pt x="219" y="695"/>
                    </a:lnTo>
                    <a:lnTo>
                      <a:pt x="228" y="678"/>
                    </a:lnTo>
                    <a:lnTo>
                      <a:pt x="212" y="568"/>
                    </a:lnTo>
                    <a:lnTo>
                      <a:pt x="190" y="449"/>
                    </a:lnTo>
                    <a:lnTo>
                      <a:pt x="186" y="343"/>
                    </a:lnTo>
                    <a:lnTo>
                      <a:pt x="203" y="237"/>
                    </a:lnTo>
                    <a:lnTo>
                      <a:pt x="232" y="114"/>
                    </a:lnTo>
                    <a:lnTo>
                      <a:pt x="266" y="21"/>
                    </a:lnTo>
                    <a:lnTo>
                      <a:pt x="300" y="8"/>
                    </a:lnTo>
                  </a:path>
                </a:pathLst>
              </a:cu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pos de dad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-44280" y="1641600"/>
            <a:ext cx="9320040" cy="36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Lucida Sans Typewriter"/>
              </a:rPr>
              <a:t>integer </a:t>
            </a: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i;</a:t>
            </a:r>
            <a:r>
              <a:rPr b="0" lang="pt-BR" sz="2400" spc="-1" strike="noStrike">
                <a:solidFill>
                  <a:srgbClr val="000000"/>
                </a:solidFill>
                <a:latin typeface="Courier-Bold;Courier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Courier-Bold;Courier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Century Schoolbook"/>
              </a:rPr>
              <a:t>// 32 bit com sinal (complemento a 2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Lucida Sans Typewriter"/>
              </a:rPr>
              <a:t>time </a:t>
            </a: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t;</a:t>
            </a:r>
            <a:r>
              <a:rPr b="0" lang="pt-BR" sz="2400" spc="-1" strike="noStrike">
                <a:solidFill>
                  <a:srgbClr val="000000"/>
                </a:solidFill>
                <a:latin typeface="Courier-Bold;Courier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Courier-Bold;Courier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Courier-Bold;Courier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Century Schoolbook"/>
              </a:rPr>
              <a:t>// 64-bit sem si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Lucida Sans Typewriter"/>
              </a:rPr>
              <a:t>real </a:t>
            </a: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r;</a:t>
            </a:r>
            <a:r>
              <a:rPr b="0" lang="pt-BR" sz="2400" spc="-1" strike="noStrike">
                <a:solidFill>
                  <a:srgbClr val="000000"/>
                </a:solidFill>
                <a:latin typeface="Courier-Bold;Courier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Courier-Bold;Courier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Courier-Bold;Courier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Courier-Bold;Courier"/>
              </a:rPr>
              <a:t>// valor real de precisão não defin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Lucida Sans Typewriter"/>
              </a:rPr>
              <a:t>event </a:t>
            </a: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e;</a:t>
            </a:r>
            <a:r>
              <a:rPr b="0" lang="pt-BR" sz="2400" spc="-1" strike="noStrike">
                <a:solidFill>
                  <a:srgbClr val="000000"/>
                </a:solidFill>
                <a:latin typeface="Courier-Bold;Courier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Courier-Bold;Courier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Courier-Bold;Courier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Courier-Bold;Courier"/>
              </a:rPr>
              <a:t>// evento - ver “Descrição comportamental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i = 1234;</a:t>
            </a:r>
            <a:r>
              <a:rPr b="0" lang="pt-BR" sz="2400" spc="-1" strike="noStrike">
                <a:solidFill>
                  <a:srgbClr val="000000"/>
                </a:solidFill>
                <a:latin typeface="Courier-Bold;Courier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t = 123.4;</a:t>
            </a:r>
            <a:r>
              <a:rPr b="0" lang="pt-BR" sz="2400" spc="-1" strike="noStrike">
                <a:solidFill>
                  <a:srgbClr val="000000"/>
                </a:solidFill>
                <a:latin typeface="Courier-Bold;Courier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Courier-Bold;Courier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Century Schoolbook"/>
              </a:rPr>
              <a:t>// arredondamento seguindo </a:t>
            </a: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timesca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r = 12.34E3;</a:t>
            </a:r>
            <a:r>
              <a:rPr b="0" lang="pt-BR" sz="2400" spc="-1" strike="noStrike">
                <a:solidFill>
                  <a:srgbClr val="000000"/>
                </a:solidFill>
                <a:latin typeface="Courier-Bold;Courier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Courier-Bold;Courier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Courier-Bold;Courier"/>
              </a:rPr>
              <a:t>// necessita digito a direito do ponto deci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pos de dad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-71640" y="1355760"/>
            <a:ext cx="9235080" cy="40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Lucida Sans Typewriter"/>
              </a:rPr>
              <a:t>wire </a:t>
            </a: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on;</a:t>
            </a: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Century Schoolbook"/>
              </a:rPr>
              <a:t>// declaração explícita de um f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Century Schoolbook"/>
              </a:rPr>
              <a:t>// o valor de um</a:t>
            </a: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 wire </a:t>
            </a:r>
            <a:r>
              <a:rPr b="0" lang="pt-BR" sz="2400" spc="-1" strike="noStrike">
                <a:solidFill>
                  <a:srgbClr val="000000"/>
                </a:solidFill>
                <a:latin typeface="Century Schoolbook"/>
              </a:rPr>
              <a:t>pode mudar a toda ho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Lucida Sans Typewriter"/>
              </a:rPr>
              <a:t>tri </a:t>
            </a: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ativo;</a:t>
            </a:r>
            <a:r>
              <a:rPr b="1" lang="pt-BR" sz="2400" spc="-1" strike="noStrike">
                <a:solidFill>
                  <a:srgbClr val="000000"/>
                </a:solidFill>
                <a:latin typeface="Lucida Sans Typewriter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Century Schoolbook"/>
              </a:rPr>
              <a:t>// sinônimo de </a:t>
            </a: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w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Lucida Sans Typewriter"/>
              </a:rPr>
              <a:t>// </a:t>
            </a:r>
            <a:r>
              <a:rPr b="0" lang="pt-BR" sz="2400" spc="-1" strike="noStrike">
                <a:solidFill>
                  <a:srgbClr val="000000"/>
                </a:solidFill>
                <a:latin typeface="Century Schoolbook"/>
              </a:rPr>
              <a:t>especiais:</a:t>
            </a:r>
            <a:r>
              <a:rPr b="1" lang="pt-BR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wand, wor, supply0, supply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Lucida Sans Typewriter"/>
              </a:rPr>
              <a:t>reg </a:t>
            </a: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Q;</a:t>
            </a: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Courier-Bold;Courier"/>
              </a:rPr>
              <a:t>// </a:t>
            </a:r>
            <a:r>
              <a:rPr b="0" lang="pt-BR" sz="2200" spc="-1" strike="noStrike">
                <a:solidFill>
                  <a:srgbClr val="000000"/>
                </a:solidFill>
                <a:latin typeface="Lucida Sans Typewriter"/>
              </a:rPr>
              <a:t>reg</a:t>
            </a: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Courier-Bold;Courier"/>
              </a:rPr>
              <a:t>guarda o valor até que aconteça um ev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Lucida Sans Typewriter"/>
              </a:rPr>
              <a:t>asssign </a:t>
            </a: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on = 1;</a:t>
            </a: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Century Schoolbook"/>
              </a:rPr>
              <a:t>// fio em ‘1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etores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laraç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241200" y="1974960"/>
            <a:ext cx="8294760" cy="41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Lucida Sans Typewriter"/>
              </a:rPr>
              <a:t>wire </a:t>
            </a: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[31:0] ABus, DBu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entury Schoolbook"/>
              </a:rPr>
              <a:t>// </a:t>
            </a: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DBus[31] </a:t>
            </a:r>
            <a:r>
              <a:rPr b="0" lang="pt-BR" sz="2400" spc="-1" strike="noStrike">
                <a:solidFill>
                  <a:srgbClr val="000000"/>
                </a:solidFill>
                <a:latin typeface="Century Schoolbook"/>
              </a:rPr>
              <a:t>= a equerda = bit mais significativo = msb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entury Schoolbook"/>
              </a:rPr>
              <a:t>// </a:t>
            </a: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DBus[0] </a:t>
            </a:r>
            <a:r>
              <a:rPr b="0" lang="pt-BR" sz="2400" spc="-1" strike="noStrike">
                <a:solidFill>
                  <a:srgbClr val="000000"/>
                </a:solidFill>
                <a:latin typeface="Century Schoolbook"/>
              </a:rPr>
              <a:t>= a direita = bit menos significativo = ls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entury Schoolbook"/>
              </a:rPr>
              <a:t>// A declaração do tamanho precede o identificad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Lucida Sans Typewriter"/>
              </a:rPr>
              <a:t>wire </a:t>
            </a: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[7:4] nibbl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wire [31:0] TheBus, [15:0] BigBus; </a:t>
            </a:r>
            <a:r>
              <a:rPr b="0" lang="pt-BR" sz="2400" spc="-1" strike="noStrike">
                <a:solidFill>
                  <a:srgbClr val="000000"/>
                </a:solidFill>
                <a:latin typeface="Century Schoolbook"/>
              </a:rPr>
              <a:t>// </a:t>
            </a:r>
            <a:r>
              <a:rPr b="1" lang="pt-BR" sz="2400" spc="-1" strike="noStrike">
                <a:solidFill>
                  <a:srgbClr val="000000"/>
                </a:solidFill>
                <a:latin typeface="Century Schoolbook"/>
              </a:rPr>
              <a:t>não p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integer i [0:100]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real r [0:100] ; </a:t>
            </a:r>
            <a:r>
              <a:rPr b="0" lang="pt-BR" sz="2400" spc="-1" strike="noStrike">
                <a:solidFill>
                  <a:srgbClr val="000000"/>
                </a:solidFill>
                <a:latin typeface="Century Schoolbook"/>
              </a:rPr>
              <a:t>// </a:t>
            </a:r>
            <a:r>
              <a:rPr b="1" lang="pt-BR" sz="2400" spc="-1" strike="noStrike">
                <a:solidFill>
                  <a:srgbClr val="000000"/>
                </a:solidFill>
                <a:latin typeface="Century Schoolbook"/>
              </a:rPr>
              <a:t>não p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o do tópico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inuaç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Century Schoolbook"/>
              </a:rPr>
              <a:t>Testbench em Verilog – 4 hor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entury Schoolbook"/>
              </a:rPr>
              <a:t>Chamadas ao sist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entury Schoolbook"/>
              </a:rPr>
              <a:t>Diretivas para o compilad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entury Schoolbook"/>
              </a:rPr>
              <a:t>Verificação funcional por comparação automát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comp3" descr=""/>
          <p:cNvPicPr/>
          <p:nvPr/>
        </p:nvPicPr>
        <p:blipFill>
          <a:blip r:embed=""/>
          <a:stretch/>
        </p:blipFill>
        <p:spPr>
          <a:xfrm>
            <a:off x="7010280" y="4876920"/>
            <a:ext cx="1752840" cy="15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etores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fetaçõ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237320" y="2378160"/>
            <a:ext cx="49356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Lucida Sans Typewriter"/>
              </a:rPr>
              <a:t>assign</a:t>
            </a: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 nibble = 1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Lucida Sans Typewriter"/>
              </a:rPr>
              <a:t>assign</a:t>
            </a: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 ABus[3:0] = nibbl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Lucida Sans Typewriter"/>
              </a:rPr>
              <a:t>assign</a:t>
            </a: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 ABus[4] 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Lucida Sans Typewriter"/>
              </a:rPr>
              <a:t>assign </a:t>
            </a: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Abus[31:5] = 123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mór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entury Schoolbook"/>
              </a:rPr>
              <a:t>Memória de 64 palavras de 8 b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Sans Typewri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reg [7:0] mem [0:64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entury Schoolbook"/>
              </a:rPr>
              <a:t>acessando uma palav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Sans Typewri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mem[22] = 55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entury Schoolbook"/>
              </a:rPr>
              <a:t>Não existem vetores de três ou mais dimensõ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entury Schoolbook"/>
              </a:rPr>
              <a:t>Não existe o equivalente do </a:t>
            </a: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struc </a:t>
            </a:r>
            <a:r>
              <a:rPr b="0" lang="pt-BR" sz="2400" spc="-1" strike="noStrike">
                <a:solidFill>
                  <a:srgbClr val="000000"/>
                </a:solidFill>
                <a:latin typeface="Century Schoolbook"/>
              </a:rPr>
              <a:t>ou </a:t>
            </a: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record</a:t>
            </a:r>
            <a:r>
              <a:rPr b="0" lang="pt-BR" sz="24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alo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698760" y="1668600"/>
            <a:ext cx="7493040" cy="470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// largura’base va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10</a:t>
            </a: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Century Schoolbook"/>
              </a:rPr>
              <a:t>// numero deci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‘</a:t>
            </a: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b101011 </a:t>
            </a: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Century Schoolbook"/>
              </a:rPr>
              <a:t>// numero biná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‘</a:t>
            </a: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h5A </a:t>
            </a: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Century Schoolbook"/>
              </a:rPr>
              <a:t>// numero hexadeci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8’b11000</a:t>
            </a: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Century Schoolbook"/>
              </a:rPr>
              <a:t>// numero binário de 8 bits </a:t>
            </a: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00011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16’hz </a:t>
            </a: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Century Schoolbook"/>
              </a:rPr>
              <a:t>// valor hexadecimal de 16 </a:t>
            </a: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z</a:t>
            </a:r>
            <a:r>
              <a:rPr b="0" lang="pt-BR" sz="2400" spc="-1" strike="noStrike">
                <a:solidFill>
                  <a:srgbClr val="000000"/>
                </a:solidFill>
                <a:latin typeface="Century Schoolbook"/>
              </a:rPr>
              <a:t>’s biná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{8’h34, 8’hAC} </a:t>
            </a:r>
            <a:r>
              <a:rPr b="0" lang="pt-BR" sz="2400" spc="-1" strike="noStrike">
                <a:solidFill>
                  <a:srgbClr val="000000"/>
                </a:solidFill>
                <a:latin typeface="Century Schoolbook"/>
              </a:rPr>
              <a:t>// concatena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{ 4{2’b10} } </a:t>
            </a: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Century Schoolbook"/>
              </a:rPr>
              <a:t>// repeti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-5</a:t>
            </a:r>
            <a:r>
              <a:rPr b="0" lang="pt-BR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Century Schoolbook"/>
              </a:rPr>
              <a:t>// numero negativo somente para intei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âmetr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335520" y="1787400"/>
            <a:ext cx="85932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Lucida Sans Typewriter"/>
              </a:rPr>
              <a:t>module </a:t>
            </a: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And_Gates (OutBus, InBusA, InBusB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Lucida Sans Typewriter"/>
              </a:rPr>
              <a:t>parameter </a:t>
            </a: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WIDTH 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Lucida Sans Typewriter"/>
              </a:rPr>
              <a:t>input </a:t>
            </a: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[WIDTH-1:0] InBusA, InBusB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Lucida Sans Typewriter"/>
              </a:rPr>
              <a:t>output </a:t>
            </a: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[WIDTH-1:0] OutBu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Lucida Sans Typewriter"/>
              </a:rPr>
              <a:t>wire </a:t>
            </a: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[WIDTH-1:0] OutBus = InBusA &amp; InBusB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Lucida Sans Typewriter"/>
              </a:rPr>
              <a:t>end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Lucida Sans Typewriter"/>
              </a:rPr>
              <a:t>module </a:t>
            </a: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Four_And_Gates(OutBus, InBusA, InBusB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Lucida Sans Typewriter"/>
              </a:rPr>
              <a:t>input </a:t>
            </a: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[3:0] InBusA, InBusB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Lucida Sans Typewriter"/>
              </a:rPr>
              <a:t>output </a:t>
            </a: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[3:0] OutBu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And_Gates #4 My_AND(OutBus, InBusA, InBusB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Lucida Sans Typewriter"/>
              </a:rPr>
              <a:t>end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âmetr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335520" y="1787400"/>
            <a:ext cx="85932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Lucida Sans Typewriter"/>
              </a:rPr>
              <a:t>module </a:t>
            </a: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And_Gates (OutBus, InBusA, InBusB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Lucida Sans Typewriter"/>
              </a:rPr>
              <a:t>parameter </a:t>
            </a: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WIDTH 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Lucida Sans Typewriter"/>
              </a:rPr>
              <a:t>input </a:t>
            </a: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[WIDTH-1:0] InBusA, InBusB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Lucida Sans Typewriter"/>
              </a:rPr>
              <a:t>output </a:t>
            </a: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[WIDTH-1:0] OutBu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Lucida Sans Typewriter"/>
              </a:rPr>
              <a:t>wire </a:t>
            </a: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[WIDTH-1:0] OutBus = InBusA &amp; InBusB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Lucida Sans Typewriter"/>
              </a:rPr>
              <a:t>end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Lucida Sans Typewriter"/>
              </a:rPr>
              <a:t>module </a:t>
            </a: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Four_And_Gates(OutBus, InBusA, InBusB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Lucida Sans Typewriter"/>
              </a:rPr>
              <a:t>input </a:t>
            </a: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[3:0] InBusA, InBusB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Lucida Sans Typewriter"/>
              </a:rPr>
              <a:t>output </a:t>
            </a: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[3:0] OutBu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And_Gates My_AND(OutBus, InBusA, InBusB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Lucida Sans Typewriter"/>
              </a:rPr>
              <a:t>defparam </a:t>
            </a: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My_And.WIDTH=4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Lucida Sans Typewriter"/>
              </a:rPr>
              <a:t>end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7238160" y="114300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inua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stan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56800" y="3720960"/>
            <a:ext cx="511848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Lucida Sans Typewriter"/>
              </a:rPr>
              <a:t>`define </a:t>
            </a: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G_BUSWIDTH 3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Lucida Sans Typewriter"/>
              </a:rPr>
              <a:t>wire </a:t>
            </a: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[`G_BUSWIDTH:0] MyBu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62120" y="18288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Diretiva do compilad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escopo glob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deias de caracte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1772640" y="3429000"/>
            <a:ext cx="5484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“</a:t>
            </a: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Elmar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“</a:t>
            </a: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Diga \”Oi\”!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“</a:t>
            </a: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Tabulação\t100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“</a:t>
            </a: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Uma nova linha\ncomeça aqui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2120" y="19810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semelhante a 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radores lógicos unári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464040" y="1676520"/>
            <a:ext cx="8009640" cy="40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entury Schoolbook"/>
              </a:rPr>
              <a:t>z é tratado como x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entury Schoolbook"/>
              </a:rPr>
              <a:t>redução é feita do bit da esquerda para a direita</a:t>
            </a: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~ </a:t>
            </a:r>
            <a:r>
              <a:rPr b="0" lang="pt-BR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Century Schoolbook"/>
              </a:rPr>
              <a:t>negação bit por bit</a:t>
            </a:r>
            <a:r>
              <a:rPr b="0" lang="pt-BR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~4'b10xz </a:t>
            </a:r>
            <a:r>
              <a:rPr b="0" lang="pt-BR" sz="2400" spc="-1" strike="noStrike">
                <a:solidFill>
                  <a:srgbClr val="000000"/>
                </a:solidFill>
                <a:latin typeface="Century Schoolbook"/>
              </a:rPr>
              <a:t>é </a:t>
            </a: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4'b01x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!</a:t>
            </a:r>
            <a:r>
              <a:rPr b="0" lang="pt-BR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Century Schoolbook"/>
              </a:rPr>
              <a:t>negação lógica</a:t>
            </a:r>
            <a:r>
              <a:rPr b="0" lang="pt-BR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!123 </a:t>
            </a: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Century Schoolbook"/>
              </a:rPr>
              <a:t>é </a:t>
            </a: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1'b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&amp; </a:t>
            </a:r>
            <a:r>
              <a:rPr b="0" lang="pt-BR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Century Schoolbook"/>
              </a:rPr>
              <a:t>e bit por bit</a:t>
            </a:r>
            <a:r>
              <a:rPr b="0" lang="pt-BR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&amp;4'b1111 </a:t>
            </a: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Century Schoolbook"/>
              </a:rPr>
              <a:t>é </a:t>
            </a: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1'b1</a:t>
            </a:r>
            <a:r>
              <a:rPr b="0" lang="pt-BR" sz="2400" spc="-1" strike="noStrike">
                <a:solidFill>
                  <a:srgbClr val="000000"/>
                </a:solidFill>
                <a:latin typeface="Century Schoolbook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&amp;2'bx1 </a:t>
            </a: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Century Schoolbook"/>
              </a:rPr>
              <a:t>é </a:t>
            </a: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1'bx</a:t>
            </a:r>
            <a:r>
              <a:rPr b="0" lang="pt-BR" sz="2400" spc="-1" strike="noStrike">
                <a:solidFill>
                  <a:srgbClr val="000000"/>
                </a:solidFill>
                <a:latin typeface="Century Schoolbook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&amp;2'bz1 </a:t>
            </a: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Century Schoolbook"/>
              </a:rPr>
              <a:t>é </a:t>
            </a: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1'b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~&amp;</a:t>
            </a:r>
            <a:r>
              <a:rPr b="0" lang="pt-BR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Century Schoolbook"/>
              </a:rPr>
              <a:t>não-e bit por bit</a:t>
            </a:r>
            <a:r>
              <a:rPr b="0" lang="pt-BR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~&amp;4'b1111 </a:t>
            </a:r>
            <a:r>
              <a:rPr b="0" lang="pt-BR" sz="2400" spc="-1" strike="noStrike">
                <a:solidFill>
                  <a:srgbClr val="000000"/>
                </a:solidFill>
                <a:latin typeface="Century Schoolbook"/>
              </a:rPr>
              <a:t>é </a:t>
            </a: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1'b0</a:t>
            </a:r>
            <a:r>
              <a:rPr b="0" lang="pt-BR" sz="2400" spc="-1" strike="noStrike">
                <a:solidFill>
                  <a:srgbClr val="000000"/>
                </a:solidFill>
                <a:latin typeface="Century Schoolbook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~&amp;2'bx1 </a:t>
            </a: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Century Schoolbook"/>
              </a:rPr>
              <a:t>é </a:t>
            </a: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1'b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"/>
          <p:cNvSpPr/>
          <p:nvPr/>
        </p:nvSpPr>
        <p:spPr>
          <a:xfrm>
            <a:off x="380880" y="282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radores lógicos unári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62840" y="2176560"/>
            <a:ext cx="65023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Century Schoolbook"/>
              </a:rPr>
              <a:t>ou bit por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~|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Century Schoolbook"/>
              </a:rPr>
              <a:t>não-ou bit por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^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ou exclus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~^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não-ou exclus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^~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não-ou exclusivo també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negativo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-2'bxz é 2’bx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6552360" y="129528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inua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"/>
          <p:cNvSpPr/>
          <p:nvPr/>
        </p:nvSpPr>
        <p:spPr>
          <a:xfrm>
            <a:off x="380880" y="282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radores aritméticos binári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758880" y="2209680"/>
            <a:ext cx="73850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 um dos bits envolvidos for </a:t>
            </a:r>
            <a:r>
              <a:rPr b="0" lang="en-US" sz="2400" spc="-1" strike="noStrike">
                <a:solidFill>
                  <a:srgbClr val="000000"/>
                </a:solidFill>
                <a:latin typeface="Lucida Sans Typewriter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u </a:t>
            </a:r>
            <a:r>
              <a:rPr b="0" lang="en-US" sz="2400" spc="-1" strike="noStrike">
                <a:solidFill>
                  <a:srgbClr val="000000"/>
                </a:solidFill>
                <a:latin typeface="Lucida Sans Typewriter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todo o resultado é </a:t>
            </a:r>
            <a:r>
              <a:rPr b="0" lang="en-US" sz="2400" spc="-1" strike="noStrike">
                <a:solidFill>
                  <a:srgbClr val="000000"/>
                </a:solidFill>
                <a:latin typeface="Lucida Sans Typewriter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Typewriter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ica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Typewriter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ivis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Typewriter"/>
              </a:rPr>
              <a:t>%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sto da divis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Typewriter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Typewriter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ubtra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o do tópico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Avaliação – 8 hor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um exercício comple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odiocomp" descr=""/>
          <p:cNvPicPr/>
          <p:nvPr/>
        </p:nvPicPr>
        <p:blipFill>
          <a:blip r:embed="rId1"/>
          <a:stretch/>
        </p:blipFill>
        <p:spPr>
          <a:xfrm>
            <a:off x="2971800" y="3352680"/>
            <a:ext cx="2914560" cy="22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"/>
          <p:cNvSpPr/>
          <p:nvPr/>
        </p:nvSpPr>
        <p:spPr>
          <a:xfrm>
            <a:off x="380880" y="282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radores lógicos binári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1190160" y="1905120"/>
            <a:ext cx="63878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Deslocamento com preenchimento com ‘0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Deslocamento negativo não p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Typewriter"/>
              </a:rPr>
              <a:t>&lt;&l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esquerda)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 Typewriter"/>
              </a:rPr>
              <a:t>&gt;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direit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ompara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Typewriter"/>
              </a:rPr>
              <a:t>==</a:t>
            </a:r>
            <a:r>
              <a:rPr b="0" lang="en-US" sz="2400" spc="-1" strike="noStrike">
                <a:solidFill>
                  <a:srgbClr val="000000"/>
                </a:solidFill>
                <a:latin typeface="Lucida Sans Typewriter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 Typewriter"/>
              </a:rPr>
              <a:t>!=</a:t>
            </a:r>
            <a:r>
              <a:rPr b="0" lang="en-US" sz="2400" spc="-1" strike="noStrike">
                <a:solidFill>
                  <a:srgbClr val="000000"/>
                </a:solidFill>
                <a:latin typeface="Lucida Sans Typewriter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 Typewriter"/>
              </a:rPr>
              <a:t>&lt;</a:t>
            </a:r>
            <a:r>
              <a:rPr b="0" lang="en-US" sz="2400" spc="-1" strike="noStrike">
                <a:solidFill>
                  <a:srgbClr val="000000"/>
                </a:solidFill>
                <a:latin typeface="Lucida Sans Typewriter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 Typewriter"/>
              </a:rPr>
              <a:t>&lt;= </a:t>
            </a:r>
            <a:r>
              <a:rPr b="0" lang="en-US" sz="2400" spc="-1" strike="noStrike">
                <a:solidFill>
                  <a:srgbClr val="000000"/>
                </a:solidFill>
                <a:latin typeface="Lucida Sans Typewriter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 Typewriter"/>
              </a:rPr>
              <a:t>&gt; </a:t>
            </a:r>
            <a:r>
              <a:rPr b="0" lang="en-US" sz="2400" spc="-1" strike="noStrike">
                <a:solidFill>
                  <a:srgbClr val="000000"/>
                </a:solidFill>
                <a:latin typeface="Lucida Sans Typewriter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 Typewriter"/>
              </a:rPr>
              <a:t>&gt;=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Lucida Sans Typewriter"/>
              </a:rPr>
              <a:t>===  !==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lóg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Typewriter"/>
              </a:rPr>
              <a:t>|</a:t>
            </a:r>
            <a:r>
              <a:rPr b="0" lang="en-US" sz="2400" spc="-1" strike="noStrike">
                <a:solidFill>
                  <a:srgbClr val="000000"/>
                </a:solidFill>
                <a:latin typeface="Lucida Sans Typewriter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 Typewriter"/>
              </a:rPr>
              <a:t>~|</a:t>
            </a:r>
            <a:r>
              <a:rPr b="0" lang="en-US" sz="2400" spc="-1" strike="noStrike">
                <a:solidFill>
                  <a:srgbClr val="000000"/>
                </a:solidFill>
                <a:latin typeface="Lucida Sans Typewriter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 Typewriter"/>
              </a:rPr>
              <a:t>&amp;</a:t>
            </a:r>
            <a:r>
              <a:rPr b="0" lang="en-US" sz="2400" spc="-1" strike="noStrike">
                <a:solidFill>
                  <a:srgbClr val="000000"/>
                </a:solidFill>
                <a:latin typeface="Lucida Sans Typewriter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 Typewriter"/>
              </a:rPr>
              <a:t>~&amp;</a:t>
            </a:r>
            <a:r>
              <a:rPr b="0" lang="en-US" sz="2400" spc="-1" strike="noStrike">
                <a:solidFill>
                  <a:srgbClr val="000000"/>
                </a:solidFill>
                <a:latin typeface="Lucida Sans Typewriter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 Typewriter"/>
              </a:rPr>
              <a:t>^</a:t>
            </a:r>
            <a:r>
              <a:rPr b="0" lang="en-US" sz="2400" spc="-1" strike="noStrike">
                <a:solidFill>
                  <a:srgbClr val="000000"/>
                </a:solidFill>
                <a:latin typeface="Lucida Sans Typewriter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 Typewriter"/>
              </a:rPr>
              <a:t>~^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Typewriter"/>
              </a:rPr>
              <a:t>||</a:t>
            </a:r>
            <a:r>
              <a:rPr b="0" lang="en-US" sz="2400" spc="-1" strike="noStrike">
                <a:solidFill>
                  <a:srgbClr val="000000"/>
                </a:solidFill>
                <a:latin typeface="Lucida Sans Typewriter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 Typewriter"/>
              </a:rPr>
              <a:t>&amp;&am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"/>
          <p:cNvSpPr/>
          <p:nvPr/>
        </p:nvSpPr>
        <p:spPr>
          <a:xfrm>
            <a:off x="380880" y="282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rador condicio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14400" y="2514600"/>
            <a:ext cx="909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Typewriter"/>
              </a:rPr>
              <a:t>&lt;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ondição</a:t>
            </a:r>
            <a:r>
              <a:rPr b="0" lang="en-US" sz="2400" spc="-1" strike="noStrike">
                <a:solidFill>
                  <a:srgbClr val="000000"/>
                </a:solidFill>
                <a:latin typeface="Lucida Sans Typewriter"/>
              </a:rPr>
              <a:t>&gt; </a:t>
            </a:r>
            <a:r>
              <a:rPr b="1" lang="en-US" sz="2400" spc="-1" strike="noStrike">
                <a:solidFill>
                  <a:srgbClr val="000000"/>
                </a:solidFill>
                <a:latin typeface="Lucida Sans Typewriter"/>
              </a:rPr>
              <a:t>?</a:t>
            </a:r>
            <a:r>
              <a:rPr b="0" lang="en-US" sz="2400" spc="-1" strike="noStrike">
                <a:solidFill>
                  <a:srgbClr val="000000"/>
                </a:solidFill>
                <a:latin typeface="Lucida Sans Typewriter"/>
              </a:rPr>
              <a:t> &lt;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expressão_verdadeira</a:t>
            </a:r>
            <a:r>
              <a:rPr b="0" lang="en-US" sz="2400" spc="-1" strike="noStrike">
                <a:solidFill>
                  <a:srgbClr val="000000"/>
                </a:solidFill>
                <a:latin typeface="Lucida Sans Typewriter"/>
              </a:rPr>
              <a:t>&gt; </a:t>
            </a:r>
            <a:r>
              <a:rPr b="1" lang="en-US" sz="2400" spc="-1" strike="noStrike">
                <a:solidFill>
                  <a:srgbClr val="000000"/>
                </a:solidFill>
                <a:latin typeface="Lucida Sans Typewriter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Lucida Sans Typewriter"/>
              </a:rPr>
              <a:t> &lt;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expressão_falsa</a:t>
            </a:r>
            <a:r>
              <a:rPr b="0" lang="en-US" sz="2400" spc="-1" strike="noStrike">
                <a:solidFill>
                  <a:srgbClr val="000000"/>
                </a:solidFill>
                <a:latin typeface="Lucida Sans Typewriter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cedência de operado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9" name=""/>
          <p:cNvGraphicFramePr/>
          <p:nvPr/>
        </p:nvGraphicFramePr>
        <p:xfrm>
          <a:off x="1219320" y="2133720"/>
          <a:ext cx="6489720" cy="4076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133720"/>
                    <a:ext cx="6489720" cy="407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1" name=""/>
          <p:cNvSpPr/>
          <p:nvPr/>
        </p:nvSpPr>
        <p:spPr>
          <a:xfrm>
            <a:off x="6095880" y="2590920"/>
            <a:ext cx="0" cy="3124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ercício - 1/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1237320" y="2378160"/>
            <a:ext cx="4935600" cy="31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reg [3:0] a,x,v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a = 4’b0010; x = 3; v = 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entury Schoolbook"/>
              </a:rPr>
              <a:t>a) </a:t>
            </a: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 a &amp;&amp;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entury Schoolbook"/>
              </a:rPr>
              <a:t>b) </a:t>
            </a: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 x || 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entury Schoolbook"/>
              </a:rPr>
              <a:t>c) </a:t>
            </a: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 !v &amp;&amp;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entury Schoolbook"/>
              </a:rPr>
              <a:t>d) </a:t>
            </a: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 !a || 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ercícios - 2/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1241280" y="2378160"/>
            <a:ext cx="6032880" cy="31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reg [3:0] x,y; reg [1:0 z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x = 4’b0010; y = 4’d7; z = 2’b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entury Schoolbook"/>
              </a:rPr>
              <a:t>a)  </a:t>
            </a: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x ^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entury Schoolbook"/>
              </a:rPr>
              <a:t>b)  </a:t>
            </a: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y | 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entury Schoolbook"/>
              </a:rPr>
              <a:t>c)  </a:t>
            </a: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~z |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entury Schoolbook"/>
              </a:rPr>
              <a:t>d)  </a:t>
            </a: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~x ~^ 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ercício - 3/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236240" y="2378160"/>
            <a:ext cx="4569840" cy="31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reg [3:0] x,y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x = 4’b0010; y = 4’b1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entury Schoolbook"/>
              </a:rPr>
              <a:t>a) </a:t>
            </a: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x &lt;&lt;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entury Schoolbook"/>
              </a:rPr>
              <a:t>b) </a:t>
            </a: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&amp;(x &gt;&gt;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entury Schoolbook"/>
              </a:rPr>
              <a:t>c) </a:t>
            </a: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~^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entury Schoolbook"/>
              </a:rPr>
              <a:t>d) </a:t>
            </a: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x &lt;&lt;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ercício - 4/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1236600" y="2378160"/>
            <a:ext cx="4752720" cy="31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reg [3:0] x; reg [1:0] z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x = 4’b0010; z = 2’b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entury Schoolbook"/>
              </a:rPr>
              <a:t>a)</a:t>
            </a: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 {x, z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entury Schoolbook"/>
              </a:rPr>
              <a:t>b)</a:t>
            </a: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 ({x[2:1], z[1]}) &gt;&gt;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entury Schoolbook"/>
              </a:rPr>
              <a:t>c)</a:t>
            </a: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 {4{x[1]}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entury Schoolbook"/>
              </a:rPr>
              <a:t>d)</a:t>
            </a: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 |({x,z}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ercício - 5/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1243080" y="2378160"/>
            <a:ext cx="6581520" cy="31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reg [3:0] x,y; reg [1:0] z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x = 4’b0010; y = 4’bx010; z = 2’b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entury Schoolbook"/>
              </a:rPr>
              <a:t>a)</a:t>
            </a: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 x &lt; 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entury Schoolbook"/>
              </a:rPr>
              <a:t>b)</a:t>
            </a: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 (x &gt;&gt; 2) &gt; 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entury Schoolbook"/>
              </a:rPr>
              <a:t>c) </a:t>
            </a: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 x !==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entury Schoolbook"/>
              </a:rPr>
              <a:t>d) </a:t>
            </a: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 x ==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ercício - 6/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34440" y="2057400"/>
            <a:ext cx="8227440" cy="31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reg [3:0] x,y; reg [1:0] u; reg v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x = 4’b0010; y = 4’b0111; u = 2’b00; v=1’b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entury Schoolbook"/>
              </a:rPr>
              <a:t>a)</a:t>
            </a: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 (u == 0) ? x :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entury Schoolbook"/>
              </a:rPr>
              <a:t>b)</a:t>
            </a: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 (&amp;u) ? x :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entury Schoolbook"/>
              </a:rPr>
              <a:t>c) </a:t>
            </a: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 v ? x :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entury Schoolbook"/>
              </a:rPr>
              <a:t>d) </a:t>
            </a: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 x ==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ercício - 7/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1614600" y="2133720"/>
            <a:ext cx="3838320" cy="31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reg [15:0] a; int b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a = -4’d12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entury Schoolbook"/>
              </a:rPr>
              <a:t>a) </a:t>
            </a: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 a /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entury Schoolbook"/>
              </a:rPr>
              <a:t>b) </a:t>
            </a: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 b = -12 / 3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entury Schoolbook"/>
              </a:rPr>
              <a:t>c) </a:t>
            </a: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 b = -’d12 / 3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entury Schoolbook"/>
              </a:rPr>
              <a:t>d) </a:t>
            </a: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 a = -12 / 3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Schoolbook"/>
              </a:rPr>
              <a:t>Introduçã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19000" indent="-2854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entury Schoolbook"/>
              </a:rPr>
              <a:t>Fluxo de proje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19000" indent="-2854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entury Schoolbook"/>
              </a:rPr>
              <a:t>Representação gráfica vs. textu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19000" indent="-2854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entury Schoolbook"/>
              </a:rPr>
              <a:t>Requisitos de uma linguagem de descrição de hardw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19000" indent="-2854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entury Schoolbook"/>
              </a:rPr>
              <a:t>Um exemplo de uma descrição Verilo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19000" indent="-2854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entury Schoolbook"/>
              </a:rPr>
              <a:t>Alguns dos elementos principais de uma descrição Verilo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19000" indent="-2854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entury Schoolbook"/>
              </a:rPr>
              <a:t>Simulação com Verilo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7086600" y="609480"/>
            <a:ext cx="1490400" cy="2133360"/>
            <a:chOff x="7086600" y="609480"/>
            <a:chExt cx="1490400" cy="2133360"/>
          </a:xfrm>
        </p:grpSpPr>
        <p:grpSp>
          <p:nvGrpSpPr>
            <p:cNvPr id="75" name=""/>
            <p:cNvGrpSpPr/>
            <p:nvPr/>
          </p:nvGrpSpPr>
          <p:grpSpPr>
            <a:xfrm>
              <a:off x="7086600" y="609480"/>
              <a:ext cx="809280" cy="1044360"/>
              <a:chOff x="7086600" y="609480"/>
              <a:chExt cx="809280" cy="1044360"/>
            </a:xfrm>
          </p:grpSpPr>
          <p:sp>
            <p:nvSpPr>
              <p:cNvPr id="76" name=""/>
              <p:cNvSpPr/>
              <p:nvPr/>
            </p:nvSpPr>
            <p:spPr>
              <a:xfrm>
                <a:off x="7086600" y="609480"/>
                <a:ext cx="809280" cy="1044360"/>
              </a:xfrm>
              <a:custGeom>
                <a:avLst/>
                <a:gdLst/>
                <a:ahLst/>
                <a:rect l="l" t="t" r="r" b="b"/>
                <a:pathLst>
                  <a:path w="674" h="870">
                    <a:moveTo>
                      <a:pt x="664" y="182"/>
                    </a:moveTo>
                    <a:lnTo>
                      <a:pt x="668" y="114"/>
                    </a:lnTo>
                    <a:lnTo>
                      <a:pt x="635" y="51"/>
                    </a:lnTo>
                    <a:lnTo>
                      <a:pt x="571" y="0"/>
                    </a:lnTo>
                    <a:lnTo>
                      <a:pt x="474" y="22"/>
                    </a:lnTo>
                    <a:lnTo>
                      <a:pt x="389" y="80"/>
                    </a:lnTo>
                    <a:lnTo>
                      <a:pt x="283" y="127"/>
                    </a:lnTo>
                    <a:lnTo>
                      <a:pt x="169" y="174"/>
                    </a:lnTo>
                    <a:lnTo>
                      <a:pt x="63" y="238"/>
                    </a:lnTo>
                    <a:lnTo>
                      <a:pt x="0" y="297"/>
                    </a:lnTo>
                    <a:lnTo>
                      <a:pt x="13" y="314"/>
                    </a:lnTo>
                    <a:lnTo>
                      <a:pt x="131" y="424"/>
                    </a:lnTo>
                    <a:lnTo>
                      <a:pt x="173" y="483"/>
                    </a:lnTo>
                    <a:lnTo>
                      <a:pt x="182" y="539"/>
                    </a:lnTo>
                    <a:lnTo>
                      <a:pt x="186" y="611"/>
                    </a:lnTo>
                    <a:lnTo>
                      <a:pt x="194" y="704"/>
                    </a:lnTo>
                    <a:lnTo>
                      <a:pt x="216" y="802"/>
                    </a:lnTo>
                    <a:lnTo>
                      <a:pt x="249" y="856"/>
                    </a:lnTo>
                    <a:lnTo>
                      <a:pt x="283" y="869"/>
                    </a:lnTo>
                    <a:lnTo>
                      <a:pt x="321" y="840"/>
                    </a:lnTo>
                    <a:lnTo>
                      <a:pt x="385" y="802"/>
                    </a:lnTo>
                    <a:lnTo>
                      <a:pt x="452" y="759"/>
                    </a:lnTo>
                    <a:lnTo>
                      <a:pt x="528" y="729"/>
                    </a:lnTo>
                    <a:lnTo>
                      <a:pt x="597" y="720"/>
                    </a:lnTo>
                    <a:lnTo>
                      <a:pt x="630" y="666"/>
                    </a:lnTo>
                    <a:lnTo>
                      <a:pt x="655" y="585"/>
                    </a:lnTo>
                    <a:lnTo>
                      <a:pt x="673" y="454"/>
                    </a:lnTo>
                    <a:lnTo>
                      <a:pt x="668" y="339"/>
                    </a:lnTo>
                    <a:lnTo>
                      <a:pt x="660" y="272"/>
                    </a:lnTo>
                    <a:lnTo>
                      <a:pt x="630" y="272"/>
                    </a:lnTo>
                    <a:lnTo>
                      <a:pt x="635" y="386"/>
                    </a:lnTo>
                    <a:lnTo>
                      <a:pt x="635" y="509"/>
                    </a:lnTo>
                    <a:lnTo>
                      <a:pt x="617" y="581"/>
                    </a:lnTo>
                    <a:lnTo>
                      <a:pt x="588" y="666"/>
                    </a:lnTo>
                    <a:lnTo>
                      <a:pt x="521" y="700"/>
                    </a:lnTo>
                    <a:lnTo>
                      <a:pt x="427" y="725"/>
                    </a:lnTo>
                    <a:lnTo>
                      <a:pt x="351" y="767"/>
                    </a:lnTo>
                    <a:lnTo>
                      <a:pt x="279" y="818"/>
                    </a:lnTo>
                    <a:lnTo>
                      <a:pt x="249" y="784"/>
                    </a:lnTo>
                    <a:lnTo>
                      <a:pt x="232" y="713"/>
                    </a:lnTo>
                    <a:lnTo>
                      <a:pt x="224" y="619"/>
                    </a:lnTo>
                    <a:lnTo>
                      <a:pt x="216" y="521"/>
                    </a:lnTo>
                    <a:lnTo>
                      <a:pt x="186" y="437"/>
                    </a:lnTo>
                    <a:lnTo>
                      <a:pt x="102" y="348"/>
                    </a:lnTo>
                    <a:lnTo>
                      <a:pt x="63" y="301"/>
                    </a:lnTo>
                    <a:lnTo>
                      <a:pt x="67" y="284"/>
                    </a:lnTo>
                    <a:lnTo>
                      <a:pt x="173" y="212"/>
                    </a:lnTo>
                    <a:lnTo>
                      <a:pt x="279" y="165"/>
                    </a:lnTo>
                    <a:lnTo>
                      <a:pt x="368" y="123"/>
                    </a:lnTo>
                    <a:lnTo>
                      <a:pt x="423" y="98"/>
                    </a:lnTo>
                    <a:lnTo>
                      <a:pt x="478" y="64"/>
                    </a:lnTo>
                    <a:lnTo>
                      <a:pt x="512" y="47"/>
                    </a:lnTo>
                    <a:lnTo>
                      <a:pt x="567" y="42"/>
                    </a:lnTo>
                    <a:lnTo>
                      <a:pt x="601" y="72"/>
                    </a:lnTo>
                    <a:lnTo>
                      <a:pt x="626" y="119"/>
                    </a:lnTo>
                    <a:lnTo>
                      <a:pt x="626" y="161"/>
                    </a:lnTo>
                    <a:lnTo>
                      <a:pt x="630" y="203"/>
                    </a:lnTo>
                    <a:lnTo>
                      <a:pt x="664" y="182"/>
                    </a:lnTo>
                  </a:path>
                </a:pathLst>
              </a:cu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467120" y="928800"/>
                <a:ext cx="255600" cy="374400"/>
              </a:xfrm>
              <a:custGeom>
                <a:avLst/>
                <a:gdLst/>
                <a:ahLst/>
                <a:rect l="l" t="t" r="r" b="b"/>
                <a:pathLst>
                  <a:path w="213" h="312">
                    <a:moveTo>
                      <a:pt x="187" y="86"/>
                    </a:moveTo>
                    <a:lnTo>
                      <a:pt x="140" y="35"/>
                    </a:lnTo>
                    <a:lnTo>
                      <a:pt x="64" y="0"/>
                    </a:lnTo>
                    <a:lnTo>
                      <a:pt x="26" y="69"/>
                    </a:lnTo>
                    <a:lnTo>
                      <a:pt x="0" y="158"/>
                    </a:lnTo>
                    <a:lnTo>
                      <a:pt x="60" y="311"/>
                    </a:lnTo>
                    <a:lnTo>
                      <a:pt x="136" y="306"/>
                    </a:lnTo>
                    <a:lnTo>
                      <a:pt x="212" y="255"/>
                    </a:lnTo>
                    <a:lnTo>
                      <a:pt x="212" y="124"/>
                    </a:lnTo>
                    <a:lnTo>
                      <a:pt x="191" y="120"/>
                    </a:lnTo>
                    <a:lnTo>
                      <a:pt x="174" y="141"/>
                    </a:lnTo>
                    <a:lnTo>
                      <a:pt x="178" y="243"/>
                    </a:lnTo>
                    <a:lnTo>
                      <a:pt x="127" y="281"/>
                    </a:lnTo>
                    <a:lnTo>
                      <a:pt x="69" y="272"/>
                    </a:lnTo>
                    <a:lnTo>
                      <a:pt x="35" y="162"/>
                    </a:lnTo>
                    <a:lnTo>
                      <a:pt x="82" y="162"/>
                    </a:lnTo>
                    <a:lnTo>
                      <a:pt x="140" y="133"/>
                    </a:lnTo>
                    <a:lnTo>
                      <a:pt x="136" y="124"/>
                    </a:lnTo>
                    <a:lnTo>
                      <a:pt x="64" y="141"/>
                    </a:lnTo>
                    <a:lnTo>
                      <a:pt x="26" y="136"/>
                    </a:lnTo>
                    <a:lnTo>
                      <a:pt x="73" y="31"/>
                    </a:lnTo>
                    <a:lnTo>
                      <a:pt x="124" y="64"/>
                    </a:lnTo>
                    <a:lnTo>
                      <a:pt x="170" y="115"/>
                    </a:lnTo>
                    <a:lnTo>
                      <a:pt x="187" y="86"/>
                    </a:lnTo>
                  </a:path>
                </a:pathLst>
              </a:cu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7214040" y="726840"/>
              <a:ext cx="1362960" cy="2016000"/>
              <a:chOff x="7214040" y="726840"/>
              <a:chExt cx="1362960" cy="2016000"/>
            </a:xfrm>
          </p:grpSpPr>
          <p:sp>
            <p:nvSpPr>
              <p:cNvPr id="79" name=""/>
              <p:cNvSpPr/>
              <p:nvPr/>
            </p:nvSpPr>
            <p:spPr>
              <a:xfrm>
                <a:off x="7214040" y="1072440"/>
                <a:ext cx="1099080" cy="371880"/>
              </a:xfrm>
              <a:custGeom>
                <a:avLst/>
                <a:gdLst/>
                <a:ahLst/>
                <a:rect l="l" t="t" r="r" b="b"/>
                <a:pathLst>
                  <a:path w="915" h="310">
                    <a:moveTo>
                      <a:pt x="914" y="241"/>
                    </a:moveTo>
                    <a:lnTo>
                      <a:pt x="893" y="216"/>
                    </a:lnTo>
                    <a:lnTo>
                      <a:pt x="846" y="207"/>
                    </a:lnTo>
                    <a:lnTo>
                      <a:pt x="698" y="237"/>
                    </a:lnTo>
                    <a:lnTo>
                      <a:pt x="554" y="263"/>
                    </a:lnTo>
                    <a:lnTo>
                      <a:pt x="376" y="258"/>
                    </a:lnTo>
                    <a:lnTo>
                      <a:pt x="211" y="224"/>
                    </a:lnTo>
                    <a:lnTo>
                      <a:pt x="110" y="165"/>
                    </a:lnTo>
                    <a:lnTo>
                      <a:pt x="123" y="118"/>
                    </a:lnTo>
                    <a:lnTo>
                      <a:pt x="105" y="54"/>
                    </a:lnTo>
                    <a:lnTo>
                      <a:pt x="67" y="21"/>
                    </a:lnTo>
                    <a:lnTo>
                      <a:pt x="25" y="0"/>
                    </a:lnTo>
                    <a:lnTo>
                      <a:pt x="8" y="46"/>
                    </a:lnTo>
                    <a:lnTo>
                      <a:pt x="0" y="92"/>
                    </a:lnTo>
                    <a:lnTo>
                      <a:pt x="17" y="181"/>
                    </a:lnTo>
                    <a:lnTo>
                      <a:pt x="59" y="207"/>
                    </a:lnTo>
                    <a:lnTo>
                      <a:pt x="161" y="241"/>
                    </a:lnTo>
                    <a:lnTo>
                      <a:pt x="270" y="270"/>
                    </a:lnTo>
                    <a:lnTo>
                      <a:pt x="453" y="305"/>
                    </a:lnTo>
                    <a:lnTo>
                      <a:pt x="622" y="309"/>
                    </a:lnTo>
                    <a:lnTo>
                      <a:pt x="851" y="288"/>
                    </a:lnTo>
                    <a:lnTo>
                      <a:pt x="914" y="241"/>
                    </a:lnTo>
                  </a:path>
                </a:pathLst>
              </a:cu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803720" y="807120"/>
                <a:ext cx="595440" cy="530640"/>
              </a:xfrm>
              <a:custGeom>
                <a:avLst/>
                <a:gdLst/>
                <a:ahLst/>
                <a:rect l="l" t="t" r="r" b="b"/>
                <a:pathLst>
                  <a:path w="496" h="442">
                    <a:moveTo>
                      <a:pt x="482" y="441"/>
                    </a:moveTo>
                    <a:lnTo>
                      <a:pt x="495" y="399"/>
                    </a:lnTo>
                    <a:lnTo>
                      <a:pt x="469" y="361"/>
                    </a:lnTo>
                    <a:lnTo>
                      <a:pt x="385" y="327"/>
                    </a:lnTo>
                    <a:lnTo>
                      <a:pt x="287" y="318"/>
                    </a:lnTo>
                    <a:lnTo>
                      <a:pt x="220" y="297"/>
                    </a:lnTo>
                    <a:lnTo>
                      <a:pt x="177" y="259"/>
                    </a:lnTo>
                    <a:lnTo>
                      <a:pt x="131" y="174"/>
                    </a:lnTo>
                    <a:lnTo>
                      <a:pt x="93" y="81"/>
                    </a:lnTo>
                    <a:lnTo>
                      <a:pt x="93" y="34"/>
                    </a:lnTo>
                    <a:lnTo>
                      <a:pt x="71" y="9"/>
                    </a:lnTo>
                    <a:lnTo>
                      <a:pt x="42" y="0"/>
                    </a:lnTo>
                    <a:lnTo>
                      <a:pt x="12" y="22"/>
                    </a:lnTo>
                    <a:lnTo>
                      <a:pt x="0" y="68"/>
                    </a:lnTo>
                    <a:lnTo>
                      <a:pt x="4" y="127"/>
                    </a:lnTo>
                    <a:lnTo>
                      <a:pt x="20" y="170"/>
                    </a:lnTo>
                    <a:lnTo>
                      <a:pt x="38" y="170"/>
                    </a:lnTo>
                    <a:lnTo>
                      <a:pt x="46" y="153"/>
                    </a:lnTo>
                    <a:lnTo>
                      <a:pt x="71" y="149"/>
                    </a:lnTo>
                    <a:lnTo>
                      <a:pt x="118" y="212"/>
                    </a:lnTo>
                    <a:lnTo>
                      <a:pt x="173" y="310"/>
                    </a:lnTo>
                    <a:lnTo>
                      <a:pt x="211" y="352"/>
                    </a:lnTo>
                    <a:lnTo>
                      <a:pt x="287" y="377"/>
                    </a:lnTo>
                    <a:lnTo>
                      <a:pt x="376" y="403"/>
                    </a:lnTo>
                    <a:lnTo>
                      <a:pt x="435" y="424"/>
                    </a:lnTo>
                    <a:lnTo>
                      <a:pt x="482" y="441"/>
                    </a:lnTo>
                  </a:path>
                </a:pathLst>
              </a:cu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022240" y="1259640"/>
                <a:ext cx="452880" cy="784080"/>
              </a:xfrm>
              <a:custGeom>
                <a:avLst/>
                <a:gdLst/>
                <a:ahLst/>
                <a:rect l="l" t="t" r="r" b="b"/>
                <a:pathLst>
                  <a:path w="377" h="653">
                    <a:moveTo>
                      <a:pt x="376" y="85"/>
                    </a:moveTo>
                    <a:lnTo>
                      <a:pt x="356" y="34"/>
                    </a:lnTo>
                    <a:lnTo>
                      <a:pt x="326" y="0"/>
                    </a:lnTo>
                    <a:lnTo>
                      <a:pt x="250" y="0"/>
                    </a:lnTo>
                    <a:lnTo>
                      <a:pt x="173" y="34"/>
                    </a:lnTo>
                    <a:lnTo>
                      <a:pt x="84" y="131"/>
                    </a:lnTo>
                    <a:lnTo>
                      <a:pt x="38" y="208"/>
                    </a:lnTo>
                    <a:lnTo>
                      <a:pt x="8" y="313"/>
                    </a:lnTo>
                    <a:lnTo>
                      <a:pt x="0" y="436"/>
                    </a:lnTo>
                    <a:lnTo>
                      <a:pt x="17" y="568"/>
                    </a:lnTo>
                    <a:lnTo>
                      <a:pt x="59" y="632"/>
                    </a:lnTo>
                    <a:lnTo>
                      <a:pt x="135" y="652"/>
                    </a:lnTo>
                    <a:lnTo>
                      <a:pt x="182" y="649"/>
                    </a:lnTo>
                    <a:lnTo>
                      <a:pt x="220" y="627"/>
                    </a:lnTo>
                    <a:lnTo>
                      <a:pt x="254" y="598"/>
                    </a:lnTo>
                    <a:lnTo>
                      <a:pt x="267" y="547"/>
                    </a:lnTo>
                    <a:lnTo>
                      <a:pt x="258" y="496"/>
                    </a:lnTo>
                    <a:lnTo>
                      <a:pt x="229" y="466"/>
                    </a:lnTo>
                    <a:lnTo>
                      <a:pt x="208" y="433"/>
                    </a:lnTo>
                    <a:lnTo>
                      <a:pt x="199" y="390"/>
                    </a:lnTo>
                    <a:lnTo>
                      <a:pt x="199" y="352"/>
                    </a:lnTo>
                    <a:lnTo>
                      <a:pt x="216" y="318"/>
                    </a:lnTo>
                    <a:lnTo>
                      <a:pt x="275" y="259"/>
                    </a:lnTo>
                    <a:lnTo>
                      <a:pt x="347" y="191"/>
                    </a:lnTo>
                    <a:lnTo>
                      <a:pt x="373" y="135"/>
                    </a:lnTo>
                    <a:lnTo>
                      <a:pt x="376" y="85"/>
                    </a:lnTo>
                  </a:path>
                </a:pathLst>
              </a:cu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8113680" y="726840"/>
                <a:ext cx="463320" cy="412920"/>
              </a:xfrm>
              <a:custGeom>
                <a:avLst/>
                <a:gdLst/>
                <a:ahLst/>
                <a:rect l="l" t="t" r="r" b="b"/>
                <a:pathLst>
                  <a:path w="386" h="344">
                    <a:moveTo>
                      <a:pt x="102" y="186"/>
                    </a:moveTo>
                    <a:lnTo>
                      <a:pt x="131" y="127"/>
                    </a:lnTo>
                    <a:lnTo>
                      <a:pt x="186" y="55"/>
                    </a:lnTo>
                    <a:lnTo>
                      <a:pt x="237" y="8"/>
                    </a:lnTo>
                    <a:lnTo>
                      <a:pt x="297" y="0"/>
                    </a:lnTo>
                    <a:lnTo>
                      <a:pt x="347" y="17"/>
                    </a:lnTo>
                    <a:lnTo>
                      <a:pt x="381" y="59"/>
                    </a:lnTo>
                    <a:lnTo>
                      <a:pt x="385" y="118"/>
                    </a:lnTo>
                    <a:lnTo>
                      <a:pt x="360" y="203"/>
                    </a:lnTo>
                    <a:lnTo>
                      <a:pt x="297" y="283"/>
                    </a:lnTo>
                    <a:lnTo>
                      <a:pt x="224" y="339"/>
                    </a:lnTo>
                    <a:lnTo>
                      <a:pt x="157" y="343"/>
                    </a:lnTo>
                    <a:lnTo>
                      <a:pt x="115" y="326"/>
                    </a:lnTo>
                    <a:lnTo>
                      <a:pt x="106" y="301"/>
                    </a:lnTo>
                    <a:lnTo>
                      <a:pt x="102" y="263"/>
                    </a:lnTo>
                    <a:lnTo>
                      <a:pt x="51" y="271"/>
                    </a:lnTo>
                    <a:lnTo>
                      <a:pt x="17" y="288"/>
                    </a:lnTo>
                    <a:lnTo>
                      <a:pt x="0" y="263"/>
                    </a:lnTo>
                    <a:lnTo>
                      <a:pt x="17" y="245"/>
                    </a:lnTo>
                    <a:lnTo>
                      <a:pt x="72" y="225"/>
                    </a:lnTo>
                    <a:lnTo>
                      <a:pt x="106" y="212"/>
                    </a:lnTo>
                    <a:lnTo>
                      <a:pt x="102" y="186"/>
                    </a:lnTo>
                  </a:path>
                </a:pathLst>
              </a:cu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8083440" y="1911960"/>
                <a:ext cx="284400" cy="774360"/>
              </a:xfrm>
              <a:custGeom>
                <a:avLst/>
                <a:gdLst/>
                <a:ahLst/>
                <a:rect l="l" t="t" r="r" b="b"/>
                <a:pathLst>
                  <a:path w="237" h="645">
                    <a:moveTo>
                      <a:pt x="178" y="0"/>
                    </a:moveTo>
                    <a:lnTo>
                      <a:pt x="135" y="4"/>
                    </a:lnTo>
                    <a:lnTo>
                      <a:pt x="105" y="59"/>
                    </a:lnTo>
                    <a:lnTo>
                      <a:pt x="114" y="115"/>
                    </a:lnTo>
                    <a:lnTo>
                      <a:pt x="127" y="229"/>
                    </a:lnTo>
                    <a:lnTo>
                      <a:pt x="122" y="301"/>
                    </a:lnTo>
                    <a:lnTo>
                      <a:pt x="127" y="373"/>
                    </a:lnTo>
                    <a:lnTo>
                      <a:pt x="160" y="521"/>
                    </a:lnTo>
                    <a:lnTo>
                      <a:pt x="169" y="559"/>
                    </a:lnTo>
                    <a:lnTo>
                      <a:pt x="160" y="568"/>
                    </a:lnTo>
                    <a:lnTo>
                      <a:pt x="114" y="543"/>
                    </a:lnTo>
                    <a:lnTo>
                      <a:pt x="38" y="530"/>
                    </a:lnTo>
                    <a:lnTo>
                      <a:pt x="0" y="547"/>
                    </a:lnTo>
                    <a:lnTo>
                      <a:pt x="4" y="576"/>
                    </a:lnTo>
                    <a:lnTo>
                      <a:pt x="55" y="589"/>
                    </a:lnTo>
                    <a:lnTo>
                      <a:pt x="114" y="594"/>
                    </a:lnTo>
                    <a:lnTo>
                      <a:pt x="173" y="619"/>
                    </a:lnTo>
                    <a:lnTo>
                      <a:pt x="219" y="644"/>
                    </a:lnTo>
                    <a:lnTo>
                      <a:pt x="236" y="632"/>
                    </a:lnTo>
                    <a:lnTo>
                      <a:pt x="236" y="589"/>
                    </a:lnTo>
                    <a:lnTo>
                      <a:pt x="203" y="509"/>
                    </a:lnTo>
                    <a:lnTo>
                      <a:pt x="185" y="415"/>
                    </a:lnTo>
                    <a:lnTo>
                      <a:pt x="178" y="284"/>
                    </a:lnTo>
                    <a:lnTo>
                      <a:pt x="194" y="166"/>
                    </a:lnTo>
                    <a:lnTo>
                      <a:pt x="211" y="72"/>
                    </a:lnTo>
                    <a:lnTo>
                      <a:pt x="194" y="0"/>
                    </a:lnTo>
                    <a:lnTo>
                      <a:pt x="178" y="0"/>
                    </a:lnTo>
                  </a:path>
                </a:pathLst>
              </a:cu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753320" y="1841040"/>
                <a:ext cx="458640" cy="901800"/>
              </a:xfrm>
              <a:custGeom>
                <a:avLst/>
                <a:gdLst/>
                <a:ahLst/>
                <a:rect l="l" t="t" r="r" b="b"/>
                <a:pathLst>
                  <a:path w="382" h="751">
                    <a:moveTo>
                      <a:pt x="300" y="8"/>
                    </a:moveTo>
                    <a:lnTo>
                      <a:pt x="359" y="0"/>
                    </a:lnTo>
                    <a:lnTo>
                      <a:pt x="381" y="42"/>
                    </a:lnTo>
                    <a:lnTo>
                      <a:pt x="359" y="92"/>
                    </a:lnTo>
                    <a:lnTo>
                      <a:pt x="300" y="177"/>
                    </a:lnTo>
                    <a:lnTo>
                      <a:pt x="254" y="301"/>
                    </a:lnTo>
                    <a:lnTo>
                      <a:pt x="237" y="402"/>
                    </a:lnTo>
                    <a:lnTo>
                      <a:pt x="245" y="508"/>
                    </a:lnTo>
                    <a:lnTo>
                      <a:pt x="262" y="644"/>
                    </a:lnTo>
                    <a:lnTo>
                      <a:pt x="279" y="720"/>
                    </a:lnTo>
                    <a:lnTo>
                      <a:pt x="270" y="750"/>
                    </a:lnTo>
                    <a:lnTo>
                      <a:pt x="241" y="750"/>
                    </a:lnTo>
                    <a:lnTo>
                      <a:pt x="186" y="724"/>
                    </a:lnTo>
                    <a:lnTo>
                      <a:pt x="101" y="707"/>
                    </a:lnTo>
                    <a:lnTo>
                      <a:pt x="12" y="707"/>
                    </a:lnTo>
                    <a:lnTo>
                      <a:pt x="0" y="682"/>
                    </a:lnTo>
                    <a:lnTo>
                      <a:pt x="50" y="648"/>
                    </a:lnTo>
                    <a:lnTo>
                      <a:pt x="76" y="648"/>
                    </a:lnTo>
                    <a:lnTo>
                      <a:pt x="186" y="682"/>
                    </a:lnTo>
                    <a:lnTo>
                      <a:pt x="219" y="695"/>
                    </a:lnTo>
                    <a:lnTo>
                      <a:pt x="228" y="678"/>
                    </a:lnTo>
                    <a:lnTo>
                      <a:pt x="212" y="568"/>
                    </a:lnTo>
                    <a:lnTo>
                      <a:pt x="190" y="449"/>
                    </a:lnTo>
                    <a:lnTo>
                      <a:pt x="186" y="343"/>
                    </a:lnTo>
                    <a:lnTo>
                      <a:pt x="203" y="237"/>
                    </a:lnTo>
                    <a:lnTo>
                      <a:pt x="232" y="114"/>
                    </a:lnTo>
                    <a:lnTo>
                      <a:pt x="266" y="21"/>
                    </a:lnTo>
                    <a:lnTo>
                      <a:pt x="300" y="8"/>
                    </a:lnTo>
                  </a:path>
                </a:pathLst>
              </a:cu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entury Schoolbook"/>
              </a:rPr>
              <a:t>Descrição comportamental em Verilo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22860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-28296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000000"/>
                </a:solidFill>
                <a:latin typeface="Century Schoolbook"/>
              </a:rPr>
              <a:t>Procedures</a:t>
            </a:r>
            <a:r>
              <a:rPr b="0" lang="pt-BR" sz="2800" spc="-1" strike="noStrike">
                <a:solidFill>
                  <a:srgbClr val="000000"/>
                </a:solidFill>
                <a:latin typeface="Century Schoolbook"/>
              </a:rPr>
              <a:t> e A</a:t>
            </a:r>
            <a:r>
              <a:rPr b="0" i="1" lang="pt-BR" sz="2800" spc="-1" strike="noStrike">
                <a:solidFill>
                  <a:srgbClr val="000000"/>
                </a:solidFill>
                <a:latin typeface="Century Schoolbook"/>
              </a:rPr>
              <a:t>ssign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entury Schoolbook"/>
              </a:rPr>
              <a:t>Atra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entury Schoolbook"/>
              </a:rPr>
              <a:t>A diferença entre </a:t>
            </a:r>
            <a:r>
              <a:rPr b="0" i="1" lang="pt-BR" sz="2800" spc="-1" strike="noStrike">
                <a:solidFill>
                  <a:srgbClr val="000000"/>
                </a:solidFill>
                <a:latin typeface="Century Schoolbook"/>
              </a:rPr>
              <a:t>assignment</a:t>
            </a:r>
            <a:r>
              <a:rPr b="0" lang="pt-BR" sz="2800" spc="-1" strike="noStrike">
                <a:solidFill>
                  <a:srgbClr val="000000"/>
                </a:solidFill>
                <a:latin typeface="Century Schoolbook"/>
              </a:rPr>
              <a:t> bloqueante e não-bloquea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entury Schoolbook"/>
              </a:rPr>
              <a:t>Tarefas e funçõ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entury Schoolbook"/>
              </a:rPr>
              <a:t>Instruções condicionais e laç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7315200" y="1295280"/>
            <a:ext cx="1490400" cy="2133360"/>
            <a:chOff x="7315200" y="1295280"/>
            <a:chExt cx="1490400" cy="2133360"/>
          </a:xfrm>
        </p:grpSpPr>
        <p:grpSp>
          <p:nvGrpSpPr>
            <p:cNvPr id="629" name=""/>
            <p:cNvGrpSpPr/>
            <p:nvPr/>
          </p:nvGrpSpPr>
          <p:grpSpPr>
            <a:xfrm>
              <a:off x="7315200" y="1295280"/>
              <a:ext cx="809280" cy="1044360"/>
              <a:chOff x="7315200" y="1295280"/>
              <a:chExt cx="809280" cy="1044360"/>
            </a:xfrm>
          </p:grpSpPr>
          <p:sp>
            <p:nvSpPr>
              <p:cNvPr id="630" name=""/>
              <p:cNvSpPr/>
              <p:nvPr/>
            </p:nvSpPr>
            <p:spPr>
              <a:xfrm>
                <a:off x="7315200" y="1295280"/>
                <a:ext cx="809280" cy="1044360"/>
              </a:xfrm>
              <a:custGeom>
                <a:avLst/>
                <a:gdLst/>
                <a:ahLst/>
                <a:rect l="l" t="t" r="r" b="b"/>
                <a:pathLst>
                  <a:path w="674" h="870">
                    <a:moveTo>
                      <a:pt x="664" y="182"/>
                    </a:moveTo>
                    <a:lnTo>
                      <a:pt x="668" y="114"/>
                    </a:lnTo>
                    <a:lnTo>
                      <a:pt x="635" y="51"/>
                    </a:lnTo>
                    <a:lnTo>
                      <a:pt x="571" y="0"/>
                    </a:lnTo>
                    <a:lnTo>
                      <a:pt x="474" y="22"/>
                    </a:lnTo>
                    <a:lnTo>
                      <a:pt x="389" y="80"/>
                    </a:lnTo>
                    <a:lnTo>
                      <a:pt x="283" y="127"/>
                    </a:lnTo>
                    <a:lnTo>
                      <a:pt x="169" y="174"/>
                    </a:lnTo>
                    <a:lnTo>
                      <a:pt x="63" y="238"/>
                    </a:lnTo>
                    <a:lnTo>
                      <a:pt x="0" y="297"/>
                    </a:lnTo>
                    <a:lnTo>
                      <a:pt x="13" y="314"/>
                    </a:lnTo>
                    <a:lnTo>
                      <a:pt x="131" y="424"/>
                    </a:lnTo>
                    <a:lnTo>
                      <a:pt x="173" y="483"/>
                    </a:lnTo>
                    <a:lnTo>
                      <a:pt x="182" y="539"/>
                    </a:lnTo>
                    <a:lnTo>
                      <a:pt x="186" y="611"/>
                    </a:lnTo>
                    <a:lnTo>
                      <a:pt x="194" y="704"/>
                    </a:lnTo>
                    <a:lnTo>
                      <a:pt x="216" y="802"/>
                    </a:lnTo>
                    <a:lnTo>
                      <a:pt x="249" y="856"/>
                    </a:lnTo>
                    <a:lnTo>
                      <a:pt x="283" y="869"/>
                    </a:lnTo>
                    <a:lnTo>
                      <a:pt x="321" y="840"/>
                    </a:lnTo>
                    <a:lnTo>
                      <a:pt x="385" y="802"/>
                    </a:lnTo>
                    <a:lnTo>
                      <a:pt x="452" y="759"/>
                    </a:lnTo>
                    <a:lnTo>
                      <a:pt x="528" y="729"/>
                    </a:lnTo>
                    <a:lnTo>
                      <a:pt x="597" y="720"/>
                    </a:lnTo>
                    <a:lnTo>
                      <a:pt x="630" y="666"/>
                    </a:lnTo>
                    <a:lnTo>
                      <a:pt x="655" y="585"/>
                    </a:lnTo>
                    <a:lnTo>
                      <a:pt x="673" y="454"/>
                    </a:lnTo>
                    <a:lnTo>
                      <a:pt x="668" y="339"/>
                    </a:lnTo>
                    <a:lnTo>
                      <a:pt x="660" y="272"/>
                    </a:lnTo>
                    <a:lnTo>
                      <a:pt x="630" y="272"/>
                    </a:lnTo>
                    <a:lnTo>
                      <a:pt x="635" y="386"/>
                    </a:lnTo>
                    <a:lnTo>
                      <a:pt x="635" y="509"/>
                    </a:lnTo>
                    <a:lnTo>
                      <a:pt x="617" y="581"/>
                    </a:lnTo>
                    <a:lnTo>
                      <a:pt x="588" y="666"/>
                    </a:lnTo>
                    <a:lnTo>
                      <a:pt x="521" y="700"/>
                    </a:lnTo>
                    <a:lnTo>
                      <a:pt x="427" y="725"/>
                    </a:lnTo>
                    <a:lnTo>
                      <a:pt x="351" y="767"/>
                    </a:lnTo>
                    <a:lnTo>
                      <a:pt x="279" y="818"/>
                    </a:lnTo>
                    <a:lnTo>
                      <a:pt x="249" y="784"/>
                    </a:lnTo>
                    <a:lnTo>
                      <a:pt x="232" y="713"/>
                    </a:lnTo>
                    <a:lnTo>
                      <a:pt x="224" y="619"/>
                    </a:lnTo>
                    <a:lnTo>
                      <a:pt x="216" y="521"/>
                    </a:lnTo>
                    <a:lnTo>
                      <a:pt x="186" y="437"/>
                    </a:lnTo>
                    <a:lnTo>
                      <a:pt x="102" y="348"/>
                    </a:lnTo>
                    <a:lnTo>
                      <a:pt x="63" y="301"/>
                    </a:lnTo>
                    <a:lnTo>
                      <a:pt x="67" y="284"/>
                    </a:lnTo>
                    <a:lnTo>
                      <a:pt x="173" y="212"/>
                    </a:lnTo>
                    <a:lnTo>
                      <a:pt x="279" y="165"/>
                    </a:lnTo>
                    <a:lnTo>
                      <a:pt x="368" y="123"/>
                    </a:lnTo>
                    <a:lnTo>
                      <a:pt x="423" y="98"/>
                    </a:lnTo>
                    <a:lnTo>
                      <a:pt x="478" y="64"/>
                    </a:lnTo>
                    <a:lnTo>
                      <a:pt x="512" y="47"/>
                    </a:lnTo>
                    <a:lnTo>
                      <a:pt x="567" y="42"/>
                    </a:lnTo>
                    <a:lnTo>
                      <a:pt x="601" y="72"/>
                    </a:lnTo>
                    <a:lnTo>
                      <a:pt x="626" y="119"/>
                    </a:lnTo>
                    <a:lnTo>
                      <a:pt x="626" y="161"/>
                    </a:lnTo>
                    <a:lnTo>
                      <a:pt x="630" y="203"/>
                    </a:lnTo>
                    <a:lnTo>
                      <a:pt x="664" y="182"/>
                    </a:lnTo>
                  </a:path>
                </a:pathLst>
              </a:cu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7695720" y="1614600"/>
                <a:ext cx="255600" cy="374400"/>
              </a:xfrm>
              <a:custGeom>
                <a:avLst/>
                <a:gdLst/>
                <a:ahLst/>
                <a:rect l="l" t="t" r="r" b="b"/>
                <a:pathLst>
                  <a:path w="213" h="312">
                    <a:moveTo>
                      <a:pt x="187" y="86"/>
                    </a:moveTo>
                    <a:lnTo>
                      <a:pt x="140" y="35"/>
                    </a:lnTo>
                    <a:lnTo>
                      <a:pt x="64" y="0"/>
                    </a:lnTo>
                    <a:lnTo>
                      <a:pt x="26" y="69"/>
                    </a:lnTo>
                    <a:lnTo>
                      <a:pt x="0" y="158"/>
                    </a:lnTo>
                    <a:lnTo>
                      <a:pt x="60" y="311"/>
                    </a:lnTo>
                    <a:lnTo>
                      <a:pt x="136" y="306"/>
                    </a:lnTo>
                    <a:lnTo>
                      <a:pt x="212" y="255"/>
                    </a:lnTo>
                    <a:lnTo>
                      <a:pt x="212" y="124"/>
                    </a:lnTo>
                    <a:lnTo>
                      <a:pt x="191" y="120"/>
                    </a:lnTo>
                    <a:lnTo>
                      <a:pt x="174" y="141"/>
                    </a:lnTo>
                    <a:lnTo>
                      <a:pt x="178" y="243"/>
                    </a:lnTo>
                    <a:lnTo>
                      <a:pt x="127" y="281"/>
                    </a:lnTo>
                    <a:lnTo>
                      <a:pt x="69" y="272"/>
                    </a:lnTo>
                    <a:lnTo>
                      <a:pt x="35" y="162"/>
                    </a:lnTo>
                    <a:lnTo>
                      <a:pt x="82" y="162"/>
                    </a:lnTo>
                    <a:lnTo>
                      <a:pt x="140" y="133"/>
                    </a:lnTo>
                    <a:lnTo>
                      <a:pt x="136" y="124"/>
                    </a:lnTo>
                    <a:lnTo>
                      <a:pt x="64" y="141"/>
                    </a:lnTo>
                    <a:lnTo>
                      <a:pt x="26" y="136"/>
                    </a:lnTo>
                    <a:lnTo>
                      <a:pt x="73" y="31"/>
                    </a:lnTo>
                    <a:lnTo>
                      <a:pt x="124" y="64"/>
                    </a:lnTo>
                    <a:lnTo>
                      <a:pt x="170" y="115"/>
                    </a:lnTo>
                    <a:lnTo>
                      <a:pt x="187" y="86"/>
                    </a:lnTo>
                  </a:path>
                </a:pathLst>
              </a:cu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2" name=""/>
            <p:cNvGrpSpPr/>
            <p:nvPr/>
          </p:nvGrpSpPr>
          <p:grpSpPr>
            <a:xfrm>
              <a:off x="7442640" y="1412640"/>
              <a:ext cx="1362960" cy="2016000"/>
              <a:chOff x="7442640" y="1412640"/>
              <a:chExt cx="1362960" cy="2016000"/>
            </a:xfrm>
          </p:grpSpPr>
          <p:sp>
            <p:nvSpPr>
              <p:cNvPr id="633" name=""/>
              <p:cNvSpPr/>
              <p:nvPr/>
            </p:nvSpPr>
            <p:spPr>
              <a:xfrm>
                <a:off x="7442640" y="1758240"/>
                <a:ext cx="1099080" cy="371880"/>
              </a:xfrm>
              <a:custGeom>
                <a:avLst/>
                <a:gdLst/>
                <a:ahLst/>
                <a:rect l="l" t="t" r="r" b="b"/>
                <a:pathLst>
                  <a:path w="915" h="310">
                    <a:moveTo>
                      <a:pt x="914" y="241"/>
                    </a:moveTo>
                    <a:lnTo>
                      <a:pt x="893" y="216"/>
                    </a:lnTo>
                    <a:lnTo>
                      <a:pt x="846" y="207"/>
                    </a:lnTo>
                    <a:lnTo>
                      <a:pt x="698" y="237"/>
                    </a:lnTo>
                    <a:lnTo>
                      <a:pt x="554" y="263"/>
                    </a:lnTo>
                    <a:lnTo>
                      <a:pt x="376" y="258"/>
                    </a:lnTo>
                    <a:lnTo>
                      <a:pt x="211" y="224"/>
                    </a:lnTo>
                    <a:lnTo>
                      <a:pt x="110" y="165"/>
                    </a:lnTo>
                    <a:lnTo>
                      <a:pt x="123" y="118"/>
                    </a:lnTo>
                    <a:lnTo>
                      <a:pt x="105" y="54"/>
                    </a:lnTo>
                    <a:lnTo>
                      <a:pt x="67" y="21"/>
                    </a:lnTo>
                    <a:lnTo>
                      <a:pt x="25" y="0"/>
                    </a:lnTo>
                    <a:lnTo>
                      <a:pt x="8" y="46"/>
                    </a:lnTo>
                    <a:lnTo>
                      <a:pt x="0" y="92"/>
                    </a:lnTo>
                    <a:lnTo>
                      <a:pt x="17" y="181"/>
                    </a:lnTo>
                    <a:lnTo>
                      <a:pt x="59" y="207"/>
                    </a:lnTo>
                    <a:lnTo>
                      <a:pt x="161" y="241"/>
                    </a:lnTo>
                    <a:lnTo>
                      <a:pt x="270" y="270"/>
                    </a:lnTo>
                    <a:lnTo>
                      <a:pt x="453" y="305"/>
                    </a:lnTo>
                    <a:lnTo>
                      <a:pt x="622" y="309"/>
                    </a:lnTo>
                    <a:lnTo>
                      <a:pt x="851" y="288"/>
                    </a:lnTo>
                    <a:lnTo>
                      <a:pt x="914" y="241"/>
                    </a:lnTo>
                  </a:path>
                </a:pathLst>
              </a:cu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8032320" y="1492920"/>
                <a:ext cx="595440" cy="530640"/>
              </a:xfrm>
              <a:custGeom>
                <a:avLst/>
                <a:gdLst/>
                <a:ahLst/>
                <a:rect l="l" t="t" r="r" b="b"/>
                <a:pathLst>
                  <a:path w="496" h="442">
                    <a:moveTo>
                      <a:pt x="482" y="441"/>
                    </a:moveTo>
                    <a:lnTo>
                      <a:pt x="495" y="399"/>
                    </a:lnTo>
                    <a:lnTo>
                      <a:pt x="469" y="361"/>
                    </a:lnTo>
                    <a:lnTo>
                      <a:pt x="385" y="327"/>
                    </a:lnTo>
                    <a:lnTo>
                      <a:pt x="287" y="318"/>
                    </a:lnTo>
                    <a:lnTo>
                      <a:pt x="220" y="297"/>
                    </a:lnTo>
                    <a:lnTo>
                      <a:pt x="177" y="259"/>
                    </a:lnTo>
                    <a:lnTo>
                      <a:pt x="131" y="174"/>
                    </a:lnTo>
                    <a:lnTo>
                      <a:pt x="93" y="81"/>
                    </a:lnTo>
                    <a:lnTo>
                      <a:pt x="93" y="34"/>
                    </a:lnTo>
                    <a:lnTo>
                      <a:pt x="71" y="9"/>
                    </a:lnTo>
                    <a:lnTo>
                      <a:pt x="42" y="0"/>
                    </a:lnTo>
                    <a:lnTo>
                      <a:pt x="12" y="22"/>
                    </a:lnTo>
                    <a:lnTo>
                      <a:pt x="0" y="68"/>
                    </a:lnTo>
                    <a:lnTo>
                      <a:pt x="4" y="127"/>
                    </a:lnTo>
                    <a:lnTo>
                      <a:pt x="20" y="170"/>
                    </a:lnTo>
                    <a:lnTo>
                      <a:pt x="38" y="170"/>
                    </a:lnTo>
                    <a:lnTo>
                      <a:pt x="46" y="153"/>
                    </a:lnTo>
                    <a:lnTo>
                      <a:pt x="71" y="149"/>
                    </a:lnTo>
                    <a:lnTo>
                      <a:pt x="118" y="212"/>
                    </a:lnTo>
                    <a:lnTo>
                      <a:pt x="173" y="310"/>
                    </a:lnTo>
                    <a:lnTo>
                      <a:pt x="211" y="352"/>
                    </a:lnTo>
                    <a:lnTo>
                      <a:pt x="287" y="377"/>
                    </a:lnTo>
                    <a:lnTo>
                      <a:pt x="376" y="403"/>
                    </a:lnTo>
                    <a:lnTo>
                      <a:pt x="435" y="424"/>
                    </a:lnTo>
                    <a:lnTo>
                      <a:pt x="482" y="441"/>
                    </a:lnTo>
                  </a:path>
                </a:pathLst>
              </a:cu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8250840" y="1945440"/>
                <a:ext cx="452880" cy="784080"/>
              </a:xfrm>
              <a:custGeom>
                <a:avLst/>
                <a:gdLst/>
                <a:ahLst/>
                <a:rect l="l" t="t" r="r" b="b"/>
                <a:pathLst>
                  <a:path w="377" h="653">
                    <a:moveTo>
                      <a:pt x="376" y="85"/>
                    </a:moveTo>
                    <a:lnTo>
                      <a:pt x="356" y="34"/>
                    </a:lnTo>
                    <a:lnTo>
                      <a:pt x="326" y="0"/>
                    </a:lnTo>
                    <a:lnTo>
                      <a:pt x="250" y="0"/>
                    </a:lnTo>
                    <a:lnTo>
                      <a:pt x="173" y="34"/>
                    </a:lnTo>
                    <a:lnTo>
                      <a:pt x="84" y="131"/>
                    </a:lnTo>
                    <a:lnTo>
                      <a:pt x="38" y="208"/>
                    </a:lnTo>
                    <a:lnTo>
                      <a:pt x="8" y="313"/>
                    </a:lnTo>
                    <a:lnTo>
                      <a:pt x="0" y="436"/>
                    </a:lnTo>
                    <a:lnTo>
                      <a:pt x="17" y="568"/>
                    </a:lnTo>
                    <a:lnTo>
                      <a:pt x="59" y="632"/>
                    </a:lnTo>
                    <a:lnTo>
                      <a:pt x="135" y="652"/>
                    </a:lnTo>
                    <a:lnTo>
                      <a:pt x="182" y="649"/>
                    </a:lnTo>
                    <a:lnTo>
                      <a:pt x="220" y="627"/>
                    </a:lnTo>
                    <a:lnTo>
                      <a:pt x="254" y="598"/>
                    </a:lnTo>
                    <a:lnTo>
                      <a:pt x="267" y="547"/>
                    </a:lnTo>
                    <a:lnTo>
                      <a:pt x="258" y="496"/>
                    </a:lnTo>
                    <a:lnTo>
                      <a:pt x="229" y="466"/>
                    </a:lnTo>
                    <a:lnTo>
                      <a:pt x="208" y="433"/>
                    </a:lnTo>
                    <a:lnTo>
                      <a:pt x="199" y="390"/>
                    </a:lnTo>
                    <a:lnTo>
                      <a:pt x="199" y="352"/>
                    </a:lnTo>
                    <a:lnTo>
                      <a:pt x="216" y="318"/>
                    </a:lnTo>
                    <a:lnTo>
                      <a:pt x="275" y="259"/>
                    </a:lnTo>
                    <a:lnTo>
                      <a:pt x="347" y="191"/>
                    </a:lnTo>
                    <a:lnTo>
                      <a:pt x="373" y="135"/>
                    </a:lnTo>
                    <a:lnTo>
                      <a:pt x="376" y="85"/>
                    </a:lnTo>
                  </a:path>
                </a:pathLst>
              </a:cu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8342280" y="1412640"/>
                <a:ext cx="463320" cy="412920"/>
              </a:xfrm>
              <a:custGeom>
                <a:avLst/>
                <a:gdLst/>
                <a:ahLst/>
                <a:rect l="l" t="t" r="r" b="b"/>
                <a:pathLst>
                  <a:path w="386" h="344">
                    <a:moveTo>
                      <a:pt x="102" y="186"/>
                    </a:moveTo>
                    <a:lnTo>
                      <a:pt x="131" y="127"/>
                    </a:lnTo>
                    <a:lnTo>
                      <a:pt x="186" y="55"/>
                    </a:lnTo>
                    <a:lnTo>
                      <a:pt x="237" y="8"/>
                    </a:lnTo>
                    <a:lnTo>
                      <a:pt x="297" y="0"/>
                    </a:lnTo>
                    <a:lnTo>
                      <a:pt x="347" y="17"/>
                    </a:lnTo>
                    <a:lnTo>
                      <a:pt x="381" y="59"/>
                    </a:lnTo>
                    <a:lnTo>
                      <a:pt x="385" y="118"/>
                    </a:lnTo>
                    <a:lnTo>
                      <a:pt x="360" y="203"/>
                    </a:lnTo>
                    <a:lnTo>
                      <a:pt x="297" y="283"/>
                    </a:lnTo>
                    <a:lnTo>
                      <a:pt x="224" y="339"/>
                    </a:lnTo>
                    <a:lnTo>
                      <a:pt x="157" y="343"/>
                    </a:lnTo>
                    <a:lnTo>
                      <a:pt x="115" y="326"/>
                    </a:lnTo>
                    <a:lnTo>
                      <a:pt x="106" y="301"/>
                    </a:lnTo>
                    <a:lnTo>
                      <a:pt x="102" y="263"/>
                    </a:lnTo>
                    <a:lnTo>
                      <a:pt x="51" y="271"/>
                    </a:lnTo>
                    <a:lnTo>
                      <a:pt x="17" y="288"/>
                    </a:lnTo>
                    <a:lnTo>
                      <a:pt x="0" y="263"/>
                    </a:lnTo>
                    <a:lnTo>
                      <a:pt x="17" y="245"/>
                    </a:lnTo>
                    <a:lnTo>
                      <a:pt x="72" y="225"/>
                    </a:lnTo>
                    <a:lnTo>
                      <a:pt x="106" y="212"/>
                    </a:lnTo>
                    <a:lnTo>
                      <a:pt x="102" y="186"/>
                    </a:lnTo>
                  </a:path>
                </a:pathLst>
              </a:cu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8312040" y="2597760"/>
                <a:ext cx="284400" cy="774360"/>
              </a:xfrm>
              <a:custGeom>
                <a:avLst/>
                <a:gdLst/>
                <a:ahLst/>
                <a:rect l="l" t="t" r="r" b="b"/>
                <a:pathLst>
                  <a:path w="237" h="645">
                    <a:moveTo>
                      <a:pt x="178" y="0"/>
                    </a:moveTo>
                    <a:lnTo>
                      <a:pt x="135" y="4"/>
                    </a:lnTo>
                    <a:lnTo>
                      <a:pt x="105" y="59"/>
                    </a:lnTo>
                    <a:lnTo>
                      <a:pt x="114" y="115"/>
                    </a:lnTo>
                    <a:lnTo>
                      <a:pt x="127" y="229"/>
                    </a:lnTo>
                    <a:lnTo>
                      <a:pt x="122" y="301"/>
                    </a:lnTo>
                    <a:lnTo>
                      <a:pt x="127" y="373"/>
                    </a:lnTo>
                    <a:lnTo>
                      <a:pt x="160" y="521"/>
                    </a:lnTo>
                    <a:lnTo>
                      <a:pt x="169" y="559"/>
                    </a:lnTo>
                    <a:lnTo>
                      <a:pt x="160" y="568"/>
                    </a:lnTo>
                    <a:lnTo>
                      <a:pt x="114" y="543"/>
                    </a:lnTo>
                    <a:lnTo>
                      <a:pt x="38" y="530"/>
                    </a:lnTo>
                    <a:lnTo>
                      <a:pt x="0" y="547"/>
                    </a:lnTo>
                    <a:lnTo>
                      <a:pt x="4" y="576"/>
                    </a:lnTo>
                    <a:lnTo>
                      <a:pt x="55" y="589"/>
                    </a:lnTo>
                    <a:lnTo>
                      <a:pt x="114" y="594"/>
                    </a:lnTo>
                    <a:lnTo>
                      <a:pt x="173" y="619"/>
                    </a:lnTo>
                    <a:lnTo>
                      <a:pt x="219" y="644"/>
                    </a:lnTo>
                    <a:lnTo>
                      <a:pt x="236" y="632"/>
                    </a:lnTo>
                    <a:lnTo>
                      <a:pt x="236" y="589"/>
                    </a:lnTo>
                    <a:lnTo>
                      <a:pt x="203" y="509"/>
                    </a:lnTo>
                    <a:lnTo>
                      <a:pt x="185" y="415"/>
                    </a:lnTo>
                    <a:lnTo>
                      <a:pt x="178" y="284"/>
                    </a:lnTo>
                    <a:lnTo>
                      <a:pt x="194" y="166"/>
                    </a:lnTo>
                    <a:lnTo>
                      <a:pt x="211" y="72"/>
                    </a:lnTo>
                    <a:lnTo>
                      <a:pt x="194" y="0"/>
                    </a:lnTo>
                    <a:lnTo>
                      <a:pt x="178" y="0"/>
                    </a:lnTo>
                  </a:path>
                </a:pathLst>
              </a:cu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7981920" y="2526840"/>
                <a:ext cx="458640" cy="901800"/>
              </a:xfrm>
              <a:custGeom>
                <a:avLst/>
                <a:gdLst/>
                <a:ahLst/>
                <a:rect l="l" t="t" r="r" b="b"/>
                <a:pathLst>
                  <a:path w="382" h="751">
                    <a:moveTo>
                      <a:pt x="300" y="8"/>
                    </a:moveTo>
                    <a:lnTo>
                      <a:pt x="359" y="0"/>
                    </a:lnTo>
                    <a:lnTo>
                      <a:pt x="381" y="42"/>
                    </a:lnTo>
                    <a:lnTo>
                      <a:pt x="359" y="92"/>
                    </a:lnTo>
                    <a:lnTo>
                      <a:pt x="300" y="177"/>
                    </a:lnTo>
                    <a:lnTo>
                      <a:pt x="254" y="301"/>
                    </a:lnTo>
                    <a:lnTo>
                      <a:pt x="237" y="402"/>
                    </a:lnTo>
                    <a:lnTo>
                      <a:pt x="245" y="508"/>
                    </a:lnTo>
                    <a:lnTo>
                      <a:pt x="262" y="644"/>
                    </a:lnTo>
                    <a:lnTo>
                      <a:pt x="279" y="720"/>
                    </a:lnTo>
                    <a:lnTo>
                      <a:pt x="270" y="750"/>
                    </a:lnTo>
                    <a:lnTo>
                      <a:pt x="241" y="750"/>
                    </a:lnTo>
                    <a:lnTo>
                      <a:pt x="186" y="724"/>
                    </a:lnTo>
                    <a:lnTo>
                      <a:pt x="101" y="707"/>
                    </a:lnTo>
                    <a:lnTo>
                      <a:pt x="12" y="707"/>
                    </a:lnTo>
                    <a:lnTo>
                      <a:pt x="0" y="682"/>
                    </a:lnTo>
                    <a:lnTo>
                      <a:pt x="50" y="648"/>
                    </a:lnTo>
                    <a:lnTo>
                      <a:pt x="76" y="648"/>
                    </a:lnTo>
                    <a:lnTo>
                      <a:pt x="186" y="682"/>
                    </a:lnTo>
                    <a:lnTo>
                      <a:pt x="219" y="695"/>
                    </a:lnTo>
                    <a:lnTo>
                      <a:pt x="228" y="678"/>
                    </a:lnTo>
                    <a:lnTo>
                      <a:pt x="212" y="568"/>
                    </a:lnTo>
                    <a:lnTo>
                      <a:pt x="190" y="449"/>
                    </a:lnTo>
                    <a:lnTo>
                      <a:pt x="186" y="343"/>
                    </a:lnTo>
                    <a:lnTo>
                      <a:pt x="203" y="237"/>
                    </a:lnTo>
                    <a:lnTo>
                      <a:pt x="232" y="114"/>
                    </a:lnTo>
                    <a:lnTo>
                      <a:pt x="266" y="21"/>
                    </a:lnTo>
                    <a:lnTo>
                      <a:pt x="300" y="8"/>
                    </a:lnTo>
                  </a:path>
                </a:pathLst>
              </a:cu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639" name="comp3" descr=""/>
          <p:cNvPicPr/>
          <p:nvPr/>
        </p:nvPicPr>
        <p:blipFill>
          <a:blip r:embed=""/>
          <a:stretch/>
        </p:blipFill>
        <p:spPr>
          <a:xfrm>
            <a:off x="5638680" y="4114800"/>
            <a:ext cx="1447920" cy="127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O que é uma </a:t>
            </a:r>
            <a:r>
              <a:rPr b="0" i="1" lang="pt-BR" sz="4400" spc="-1" strike="noStrike">
                <a:solidFill>
                  <a:srgbClr val="000000"/>
                </a:solidFill>
                <a:latin typeface="Times New Roman"/>
              </a:rPr>
              <a:t>procedure</a:t>
            </a: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Procedimento? Process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Em Verilog, é </a:t>
            </a: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always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initial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procedure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, ou </a:t>
            </a: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function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Um bloco de instruções (</a:t>
            </a: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begin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end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) de uma </a:t>
            </a:r>
            <a:r>
              <a:rPr b="0" i="1" lang="pt-BR" sz="3200" spc="-1" strike="noStrike">
                <a:solidFill>
                  <a:srgbClr val="000000"/>
                </a:solidFill>
                <a:latin typeface="Times New Roman"/>
              </a:rPr>
              <a:t>procedure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 executam </a:t>
            </a:r>
            <a:r>
              <a:rPr b="0" lang="pt-BR" sz="3200" spc="-1" strike="noStrike">
                <a:solidFill>
                  <a:srgbClr val="000000"/>
                </a:solidFill>
                <a:latin typeface="Century Schoolbook"/>
              </a:rPr>
              <a:t>seqüencialmente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Diferentes </a:t>
            </a:r>
            <a:r>
              <a:rPr b="0" i="1" lang="pt-BR" sz="3200" spc="-1" strike="noStrike">
                <a:solidFill>
                  <a:srgbClr val="000000"/>
                </a:solidFill>
                <a:latin typeface="Times New Roman"/>
              </a:rPr>
              <a:t>procedures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 executam em paralelo, como diferentes instancias de módul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400" spc="-1" strike="noStrike">
                <a:solidFill>
                  <a:srgbClr val="000000"/>
                </a:solidFill>
                <a:latin typeface="Times New Roman"/>
              </a:rPr>
              <a:t>Assignments</a:t>
            </a: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Transferencia? Atribuiçã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000000"/>
                </a:solidFill>
                <a:latin typeface="Times New Roman"/>
              </a:rPr>
              <a:t>Procedural assignment 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(atribuição sequencial) aparece dentro de uma </a:t>
            </a:r>
            <a:r>
              <a:rPr b="0" i="1" lang="pt-BR" sz="3200" spc="-1" strike="noStrike">
                <a:solidFill>
                  <a:srgbClr val="000000"/>
                </a:solidFill>
                <a:latin typeface="Times New Roman"/>
              </a:rPr>
              <a:t>procedure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000000"/>
                </a:solidFill>
                <a:latin typeface="Times New Roman"/>
              </a:rPr>
              <a:t>Continuous assignment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 (atrubuição contínua) aprece fora de </a:t>
            </a:r>
            <a:r>
              <a:rPr b="0" i="1" lang="pt-BR" sz="3200" spc="-1" strike="noStrike">
                <a:solidFill>
                  <a:srgbClr val="000000"/>
                </a:solidFill>
                <a:latin typeface="Times New Roman"/>
              </a:rPr>
              <a:t>procedures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empl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Lucida Sans Typewriter"/>
              </a:rPr>
              <a:t>module </a:t>
            </a: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holiday_1 (sat, sun, weekend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Lucida Sans Typewriter"/>
              </a:rPr>
              <a:t>input </a:t>
            </a: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sat, sun; </a:t>
            </a:r>
            <a:r>
              <a:rPr b="1" lang="pt-BR" sz="2400" spc="-1" strike="noStrike">
                <a:solidFill>
                  <a:srgbClr val="000000"/>
                </a:solidFill>
                <a:latin typeface="Lucida Sans Typewriter"/>
              </a:rPr>
              <a:t>output </a:t>
            </a: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weeken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// Atribuicao continu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// fora de uma </a:t>
            </a:r>
            <a:r>
              <a:rPr b="0" i="1" lang="pt-BR" sz="2400" spc="-1" strike="noStrike">
                <a:solidFill>
                  <a:srgbClr val="000000"/>
                </a:solidFill>
                <a:latin typeface="Lucida Sans Typewriter"/>
              </a:rPr>
              <a:t>procedure</a:t>
            </a: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Lucida Sans Typewriter"/>
              </a:rPr>
              <a:t>assign </a:t>
            </a: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#1</a:t>
            </a:r>
            <a:r>
              <a:rPr b="1" lang="pt-BR" sz="2400" spc="-1" strike="noStrike">
                <a:solidFill>
                  <a:srgbClr val="000000"/>
                </a:solidFill>
                <a:latin typeface="Lucida Sans Typewriter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weekend = sat | sun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Lucida Sans Typewriter"/>
              </a:rPr>
              <a:t>end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empl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838080" y="1905120"/>
            <a:ext cx="7543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Lucida Sans Typewriter"/>
              </a:rPr>
              <a:t>module </a:t>
            </a: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holiday_2 (sat, sun, weekend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Lucida Sans Typewriter"/>
              </a:rPr>
              <a:t>input </a:t>
            </a: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sat, sun; </a:t>
            </a:r>
            <a:r>
              <a:rPr b="1" lang="pt-BR" sz="2400" spc="-1" strike="noStrike">
                <a:solidFill>
                  <a:srgbClr val="000000"/>
                </a:solidFill>
                <a:latin typeface="Lucida Sans Typewriter"/>
              </a:rPr>
              <a:t>output </a:t>
            </a: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weeken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Lucida Sans Typewriter"/>
              </a:rPr>
              <a:t>reg </a:t>
            </a: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weeken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// Atribuicao sequen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// dentro de uma </a:t>
            </a:r>
            <a:r>
              <a:rPr b="0" i="1" lang="pt-BR" sz="2400" spc="-1" strike="noStrike">
                <a:solidFill>
                  <a:srgbClr val="000000"/>
                </a:solidFill>
                <a:latin typeface="Lucida Sans Typewriter"/>
              </a:rPr>
              <a:t>procedure</a:t>
            </a: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Lucida Sans Typewriter"/>
              </a:rPr>
              <a:t>always </a:t>
            </a: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#1 weekend = sat | su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Lucida Sans Typewriter"/>
              </a:rPr>
              <a:t>end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tribuição contínu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ição a um fio ou barramento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nciona como a saída de uma porta lógic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630720" y="3352680"/>
            <a:ext cx="5850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Lucida Sans Typewriter"/>
              </a:rPr>
              <a:t>module HALF_ADD(A,B,SUM,CARR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Lucida Sans Typewriter"/>
              </a:rPr>
              <a:t>output SUM, CARRY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Lucida Sans Typewriter"/>
              </a:rPr>
              <a:t>input A, B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Lucida Sans Typewriter"/>
              </a:rPr>
              <a:t>assign SUM = A ^ B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Lucida Sans Typewriter"/>
              </a:rPr>
              <a:t>assign CARRY = A &amp; B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Lucida Sans Typewriter"/>
              </a:rPr>
              <a:t>end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1" name=""/>
          <p:cNvGrpSpPr/>
          <p:nvPr/>
        </p:nvGrpSpPr>
        <p:grpSpPr>
          <a:xfrm>
            <a:off x="6415200" y="4311720"/>
            <a:ext cx="1142640" cy="460080"/>
            <a:chOff x="6415200" y="4311720"/>
            <a:chExt cx="1142640" cy="460080"/>
          </a:xfrm>
        </p:grpSpPr>
        <p:sp>
          <p:nvSpPr>
            <p:cNvPr id="652" name=""/>
            <p:cNvSpPr/>
            <p:nvPr/>
          </p:nvSpPr>
          <p:spPr>
            <a:xfrm>
              <a:off x="6418080" y="4314960"/>
              <a:ext cx="76176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55" y="0"/>
                  </a:moveTo>
                  <a:arcTo wR="10800" hR="10800" stAng="-5414323" swAng="541432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55" y="0"/>
                  </a:moveTo>
                  <a:arcTo wR="10800" hR="10800" stAng="-5414323" swAng="5414323"/>
                </a:path>
              </a:pathLst>
            </a:custGeom>
            <a:noFill/>
            <a:ln cap="rnd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6415200" y="4311720"/>
              <a:ext cx="76140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6643440" y="4314960"/>
              <a:ext cx="30456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688" y="1"/>
                  </a:moveTo>
                  <a:arcTo wR="10800" hR="10800" stAng="-5435809" swAng="532728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688" y="1"/>
                  </a:moveTo>
                  <a:arcTo wR="10800" hR="10800" stAng="-5435809" swAng="5327284"/>
                </a:path>
              </a:pathLst>
            </a:custGeom>
            <a:noFill/>
            <a:ln cap="rnd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6643800" y="4318200"/>
              <a:ext cx="304200" cy="450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 flipH="1" flipV="1">
              <a:off x="6416640" y="4387680"/>
              <a:ext cx="380880" cy="3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 flipH="1" flipV="1">
              <a:off x="6416640" y="4692960"/>
              <a:ext cx="380880" cy="2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178400" y="4540320"/>
              <a:ext cx="3794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568920" y="4314960"/>
              <a:ext cx="30456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688" y="1"/>
                  </a:moveTo>
                  <a:arcTo wR="10800" hR="10800" stAng="-5435809" swAng="532728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688" y="1"/>
                  </a:moveTo>
                  <a:arcTo wR="10800" hR="10800" stAng="-5435809" swAng="5327284"/>
                </a:path>
              </a:pathLst>
            </a:custGeom>
            <a:noFill/>
            <a:ln cap="rnd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6568560" y="4318200"/>
              <a:ext cx="304920" cy="450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1" name=""/>
          <p:cNvGrpSpPr/>
          <p:nvPr/>
        </p:nvGrpSpPr>
        <p:grpSpPr>
          <a:xfrm>
            <a:off x="6415200" y="4922640"/>
            <a:ext cx="1142640" cy="460080"/>
            <a:chOff x="6415200" y="4922640"/>
            <a:chExt cx="1142640" cy="460080"/>
          </a:xfrm>
        </p:grpSpPr>
        <p:sp>
          <p:nvSpPr>
            <p:cNvPr id="662" name=""/>
            <p:cNvSpPr/>
            <p:nvPr/>
          </p:nvSpPr>
          <p:spPr>
            <a:xfrm>
              <a:off x="6796080" y="4924440"/>
              <a:ext cx="0" cy="455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6418080" y="4925880"/>
              <a:ext cx="76176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55" y="0"/>
                  </a:moveTo>
                  <a:arcTo wR="10800" hR="10800" stAng="-5414323" swAng="541432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55" y="0"/>
                  </a:moveTo>
                  <a:arcTo wR="10800" hR="10800" stAng="-5414323" swAng="5414323"/>
                </a:path>
              </a:pathLst>
            </a:custGeom>
            <a:noFill/>
            <a:ln cap="rnd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6415200" y="4922640"/>
              <a:ext cx="76140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6416640" y="4998960"/>
              <a:ext cx="3794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>
              <a:off x="6416640" y="5303880"/>
              <a:ext cx="3794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 flipH="1">
              <a:off x="7178400" y="5151240"/>
              <a:ext cx="3794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8" name=""/>
          <p:cNvSpPr/>
          <p:nvPr/>
        </p:nvSpPr>
        <p:spPr>
          <a:xfrm flipH="1">
            <a:off x="5730480" y="4390920"/>
            <a:ext cx="6858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 flipH="1">
            <a:off x="5730480" y="5305320"/>
            <a:ext cx="6858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6111720" y="4390920"/>
            <a:ext cx="0" cy="609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6111720" y="5000760"/>
            <a:ext cx="304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 flipV="1">
            <a:off x="6264360" y="469548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6264360" y="4695840"/>
            <a:ext cx="152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486760" y="4214520"/>
            <a:ext cx="1836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 Typewriter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5502600" y="5121000"/>
            <a:ext cx="1836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 Typewriter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7637400" y="4358880"/>
            <a:ext cx="549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 Typewriter"/>
              </a:rPr>
              <a:t>S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7638480" y="5000400"/>
            <a:ext cx="915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 Typewriter"/>
              </a:rPr>
              <a:t>CAR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"/>
          <p:cNvSpPr/>
          <p:nvPr/>
        </p:nvSpPr>
        <p:spPr>
          <a:xfrm>
            <a:off x="304920" y="609480"/>
            <a:ext cx="8458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traso em atribuições contínu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685800" y="1981080"/>
            <a:ext cx="807732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Funcina como atraso numa instanciação de uma primitiv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assign #10 y = a &amp; b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assign #(10:11:12) y = a &amp; b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assign #(10, 14) y = a &amp; b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assign #(10:11:12, 14:15:16) y = a &amp; b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tribuição seqüenc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Atribuição a um </a:t>
            </a: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r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Executa em determinado moment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entury Schoolbook"/>
              </a:rPr>
              <a:t>no início da simulaçã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initial clk = 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entury Schoolbook"/>
              </a:rPr>
              <a:t>repetidas vez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always #10 clk = ~clk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Dentro de um </a:t>
            </a: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always 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precisa ter um atraso. Por quê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loco de atribuições seqüencia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Bloco é algo entre </a:t>
            </a: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begin 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end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2143080" y="2971800"/>
            <a:ext cx="2832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always 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#10 clk = 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#10 clk 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5334120" y="3048120"/>
            <a:ext cx="990360" cy="2057400"/>
          </a:xfrm>
          <a:custGeom>
            <a:avLst/>
            <a:gdLst>
              <a:gd name="textAreaLeft" fmla="*/ 132480 w 990360"/>
              <a:gd name="textAreaRight" fmla="*/ 857880 w 990360"/>
              <a:gd name="textAreaTop" fmla="*/ 360000 h 2057400"/>
              <a:gd name="textAreaBottom" fmla="*/ 149184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 rot="10800000">
            <a:off x="6476760" y="2819160"/>
            <a:ext cx="990360" cy="2057400"/>
          </a:xfrm>
          <a:custGeom>
            <a:avLst/>
            <a:gdLst>
              <a:gd name="textAreaLeft" fmla="*/ 132480 w 990360"/>
              <a:gd name="textAreaRight" fmla="*/ 857880 w 990360"/>
              <a:gd name="textAreaTop" fmla="*/ 360000 h 2057400"/>
              <a:gd name="textAreaBottom" fmla="*/ 149184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1447920" y="5943600"/>
            <a:ext cx="533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1981080" y="541008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9" name=""/>
          <p:cNvGrpSpPr/>
          <p:nvPr/>
        </p:nvGrpSpPr>
        <p:grpSpPr>
          <a:xfrm>
            <a:off x="1981080" y="5410080"/>
            <a:ext cx="1067040" cy="533520"/>
            <a:chOff x="1981080" y="5410080"/>
            <a:chExt cx="1067040" cy="533520"/>
          </a:xfrm>
        </p:grpSpPr>
        <p:sp>
          <p:nvSpPr>
            <p:cNvPr id="690" name=""/>
            <p:cNvSpPr/>
            <p:nvPr/>
          </p:nvSpPr>
          <p:spPr>
            <a:xfrm>
              <a:off x="1981080" y="5943600"/>
              <a:ext cx="533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514600" y="5410080"/>
              <a:ext cx="533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2514600" y="5410080"/>
              <a:ext cx="0" cy="53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3048120" y="5410080"/>
              <a:ext cx="0" cy="53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4" name=""/>
          <p:cNvGrpSpPr/>
          <p:nvPr/>
        </p:nvGrpSpPr>
        <p:grpSpPr>
          <a:xfrm>
            <a:off x="3048120" y="5410080"/>
            <a:ext cx="1066680" cy="533520"/>
            <a:chOff x="3048120" y="5410080"/>
            <a:chExt cx="1066680" cy="533520"/>
          </a:xfrm>
        </p:grpSpPr>
        <p:sp>
          <p:nvSpPr>
            <p:cNvPr id="695" name=""/>
            <p:cNvSpPr/>
            <p:nvPr/>
          </p:nvSpPr>
          <p:spPr>
            <a:xfrm>
              <a:off x="3048120" y="5943600"/>
              <a:ext cx="533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581280" y="5410080"/>
              <a:ext cx="533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581280" y="5410080"/>
              <a:ext cx="0" cy="53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4114800" y="5410080"/>
              <a:ext cx="0" cy="53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9" name=""/>
          <p:cNvGrpSpPr/>
          <p:nvPr/>
        </p:nvGrpSpPr>
        <p:grpSpPr>
          <a:xfrm>
            <a:off x="4114800" y="5410080"/>
            <a:ext cx="1066680" cy="533520"/>
            <a:chOff x="4114800" y="5410080"/>
            <a:chExt cx="1066680" cy="533520"/>
          </a:xfrm>
        </p:grpSpPr>
        <p:sp>
          <p:nvSpPr>
            <p:cNvPr id="700" name=""/>
            <p:cNvSpPr/>
            <p:nvPr/>
          </p:nvSpPr>
          <p:spPr>
            <a:xfrm>
              <a:off x="4114800" y="5943600"/>
              <a:ext cx="533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4647960" y="5410080"/>
              <a:ext cx="533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4647960" y="5410080"/>
              <a:ext cx="0" cy="53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5181480" y="5410080"/>
              <a:ext cx="0" cy="53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4" name=""/>
          <p:cNvGrpSpPr/>
          <p:nvPr/>
        </p:nvGrpSpPr>
        <p:grpSpPr>
          <a:xfrm>
            <a:off x="5181480" y="5410080"/>
            <a:ext cx="1067040" cy="533520"/>
            <a:chOff x="5181480" y="5410080"/>
            <a:chExt cx="1067040" cy="533520"/>
          </a:xfrm>
        </p:grpSpPr>
        <p:sp>
          <p:nvSpPr>
            <p:cNvPr id="705" name=""/>
            <p:cNvSpPr/>
            <p:nvPr/>
          </p:nvSpPr>
          <p:spPr>
            <a:xfrm>
              <a:off x="5181480" y="5943600"/>
              <a:ext cx="533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5715000" y="5410080"/>
              <a:ext cx="533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5715000" y="5410080"/>
              <a:ext cx="0" cy="53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6248520" y="5410080"/>
              <a:ext cx="0" cy="53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9" name=""/>
          <p:cNvSpPr/>
          <p:nvPr/>
        </p:nvSpPr>
        <p:spPr>
          <a:xfrm>
            <a:off x="6248520" y="5943600"/>
            <a:ext cx="533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6781680" y="5410080"/>
            <a:ext cx="533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6781680" y="541008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7315200" y="541008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7315200" y="5943600"/>
            <a:ext cx="533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1447920" y="5410080"/>
            <a:ext cx="533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 flipV="1">
            <a:off x="1447920" y="5410080"/>
            <a:ext cx="533160" cy="533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 flipH="1" flipV="1">
            <a:off x="1447560" y="5410080"/>
            <a:ext cx="533160" cy="533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loco de atribuições seqüencia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685800" y="1981080"/>
            <a:ext cx="77724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219040" y="2743200"/>
            <a:ext cx="2832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initial 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#10 clk = 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#10 clk 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#10 clk = 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819520" y="5867280"/>
            <a:ext cx="533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3352680" y="5334120"/>
            <a:ext cx="0" cy="533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3352680" y="5867280"/>
            <a:ext cx="533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3886200" y="5334120"/>
            <a:ext cx="533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3886200" y="5334120"/>
            <a:ext cx="0" cy="533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2819520" y="5334120"/>
            <a:ext cx="533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 flipV="1">
            <a:off x="2819520" y="5333760"/>
            <a:ext cx="533160" cy="533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 flipH="1" flipV="1">
            <a:off x="2819160" y="5333760"/>
            <a:ext cx="533160" cy="533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5715000" y="2895480"/>
            <a:ext cx="762120" cy="1447920"/>
          </a:xfrm>
          <a:prstGeom prst="downArrow">
            <a:avLst>
              <a:gd name="adj1" fmla="val 50000"/>
              <a:gd name="adj2" fmla="val 4749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4419720" y="5334120"/>
            <a:ext cx="0" cy="533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765120" y="164160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inua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luxo de proje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625400" y="1981080"/>
            <a:ext cx="18770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pecifica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38080" y="2819520"/>
            <a:ext cx="34635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crição comportamen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246680" y="4486320"/>
            <a:ext cx="26326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crição estrutu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037240" y="5334120"/>
            <a:ext cx="10447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yo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640120" y="243828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536840" y="3657600"/>
            <a:ext cx="20523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crição 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7600" y="4952880"/>
            <a:ext cx="236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Função &amp; Ti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4724280" y="2438280"/>
            <a:ext cx="533520" cy="533160"/>
            <a:chOff x="4724280" y="2438280"/>
            <a:chExt cx="533520" cy="533160"/>
          </a:xfrm>
        </p:grpSpPr>
        <p:sp>
          <p:nvSpPr>
            <p:cNvPr id="94" name=""/>
            <p:cNvSpPr/>
            <p:nvPr/>
          </p:nvSpPr>
          <p:spPr>
            <a:xfrm>
              <a:off x="4724280" y="2438280"/>
              <a:ext cx="533520" cy="5331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876920" y="266688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876920" y="274284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4724280" y="3276720"/>
            <a:ext cx="533520" cy="533160"/>
            <a:chOff x="4724280" y="3276720"/>
            <a:chExt cx="533520" cy="533160"/>
          </a:xfrm>
        </p:grpSpPr>
        <p:sp>
          <p:nvSpPr>
            <p:cNvPr id="98" name=""/>
            <p:cNvSpPr/>
            <p:nvPr/>
          </p:nvSpPr>
          <p:spPr>
            <a:xfrm>
              <a:off x="4724280" y="3276720"/>
              <a:ext cx="533520" cy="5331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876920" y="35053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876920" y="358128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4724280" y="4038480"/>
            <a:ext cx="533520" cy="533160"/>
            <a:chOff x="4724280" y="4038480"/>
            <a:chExt cx="533520" cy="533160"/>
          </a:xfrm>
        </p:grpSpPr>
        <p:sp>
          <p:nvSpPr>
            <p:cNvPr id="102" name=""/>
            <p:cNvSpPr/>
            <p:nvPr/>
          </p:nvSpPr>
          <p:spPr>
            <a:xfrm>
              <a:off x="4724280" y="4038480"/>
              <a:ext cx="533520" cy="5331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876920" y="426708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76920" y="434304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4724280" y="4876920"/>
            <a:ext cx="533520" cy="533160"/>
            <a:chOff x="4724280" y="4876920"/>
            <a:chExt cx="533520" cy="533160"/>
          </a:xfrm>
        </p:grpSpPr>
        <p:sp>
          <p:nvSpPr>
            <p:cNvPr id="106" name=""/>
            <p:cNvSpPr/>
            <p:nvPr/>
          </p:nvSpPr>
          <p:spPr>
            <a:xfrm>
              <a:off x="4724280" y="4876920"/>
              <a:ext cx="533520" cy="5331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876920" y="51055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876920" y="518148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5638320" y="3352680"/>
            <a:ext cx="20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Função 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&amp; Tim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607360" y="4114800"/>
            <a:ext cx="21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Função 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&amp;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2"/>
            <a:endCxn id="87" idx="0"/>
          </p:cNvCxnSpPr>
          <p:nvPr/>
        </p:nvCxnSpPr>
        <p:spPr>
          <a:xfrm>
            <a:off x="2563560" y="2448000"/>
            <a:ext cx="6840" cy="372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12" name=""/>
          <p:cNvCxnSpPr>
            <a:stCxn id="87" idx="2"/>
            <a:endCxn id="91" idx="0"/>
          </p:cNvCxnSpPr>
          <p:nvPr/>
        </p:nvCxnSpPr>
        <p:spPr>
          <a:xfrm flipH="1">
            <a:off x="2563200" y="3286080"/>
            <a:ext cx="6840" cy="372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13" name=""/>
          <p:cNvCxnSpPr>
            <a:stCxn id="91" idx="2"/>
            <a:endCxn id="88" idx="0"/>
          </p:cNvCxnSpPr>
          <p:nvPr/>
        </p:nvCxnSpPr>
        <p:spPr>
          <a:xfrm>
            <a:off x="2563560" y="4124160"/>
            <a:ext cx="1080" cy="36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14" name=""/>
          <p:cNvCxnSpPr>
            <a:stCxn id="88" idx="2"/>
            <a:endCxn id="89" idx="0"/>
          </p:cNvCxnSpPr>
          <p:nvPr/>
        </p:nvCxnSpPr>
        <p:spPr>
          <a:xfrm flipH="1">
            <a:off x="2559960" y="4952520"/>
            <a:ext cx="3960" cy="3819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15" name=""/>
          <p:cNvCxnSpPr>
            <a:stCxn id="86" idx="3"/>
            <a:endCxn id="94" idx="1"/>
          </p:cNvCxnSpPr>
          <p:nvPr/>
        </p:nvCxnSpPr>
        <p:spPr>
          <a:xfrm>
            <a:off x="3505320" y="2214360"/>
            <a:ext cx="1297440" cy="30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87" idx="3"/>
            <a:endCxn id="94" idx="3"/>
          </p:cNvCxnSpPr>
          <p:nvPr/>
        </p:nvCxnSpPr>
        <p:spPr>
          <a:xfrm flipV="1">
            <a:off x="4301640" y="2893320"/>
            <a:ext cx="500760" cy="159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7" name=""/>
          <p:cNvCxnSpPr>
            <a:stCxn id="87" idx="3"/>
            <a:endCxn id="98" idx="1"/>
          </p:cNvCxnSpPr>
          <p:nvPr/>
        </p:nvCxnSpPr>
        <p:spPr>
          <a:xfrm>
            <a:off x="4301640" y="3052800"/>
            <a:ext cx="500760" cy="302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" name=""/>
          <p:cNvCxnSpPr>
            <a:stCxn id="91" idx="3"/>
            <a:endCxn id="98" idx="3"/>
          </p:cNvCxnSpPr>
          <p:nvPr/>
        </p:nvCxnSpPr>
        <p:spPr>
          <a:xfrm flipV="1">
            <a:off x="3593880" y="3731400"/>
            <a:ext cx="1208520" cy="159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88" idx="3"/>
            <a:endCxn id="102" idx="3"/>
          </p:cNvCxnSpPr>
          <p:nvPr/>
        </p:nvCxnSpPr>
        <p:spPr>
          <a:xfrm flipV="1">
            <a:off x="3881160" y="4493880"/>
            <a:ext cx="921240" cy="226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91" idx="3"/>
            <a:endCxn id="102" idx="1"/>
          </p:cNvCxnSpPr>
          <p:nvPr/>
        </p:nvCxnSpPr>
        <p:spPr>
          <a:xfrm>
            <a:off x="3593880" y="3890880"/>
            <a:ext cx="1208520" cy="226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1" name=""/>
          <p:cNvCxnSpPr>
            <a:stCxn id="88" idx="3"/>
            <a:endCxn id="106" idx="1"/>
          </p:cNvCxnSpPr>
          <p:nvPr/>
        </p:nvCxnSpPr>
        <p:spPr>
          <a:xfrm>
            <a:off x="3881160" y="4719240"/>
            <a:ext cx="921240" cy="235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" name=""/>
          <p:cNvCxnSpPr>
            <a:stCxn id="89" idx="3"/>
            <a:endCxn id="106" idx="3"/>
          </p:cNvCxnSpPr>
          <p:nvPr/>
        </p:nvCxnSpPr>
        <p:spPr>
          <a:xfrm flipV="1">
            <a:off x="3087720" y="5331600"/>
            <a:ext cx="1715040" cy="235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3" name=""/>
          <p:cNvSpPr/>
          <p:nvPr/>
        </p:nvSpPr>
        <p:spPr>
          <a:xfrm>
            <a:off x="5640120" y="5791320"/>
            <a:ext cx="25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consumo, área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loco pode ter no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85800" y="2133720"/>
            <a:ext cx="77724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700200" y="2381400"/>
            <a:ext cx="38383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initial begin: elm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reg clk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#10 clk = 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#10 clk 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disable elma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#10 clk = 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5041440" y="2743200"/>
            <a:ext cx="18266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elmar.cl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4954320" y="1828800"/>
            <a:ext cx="367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nome do </a:t>
            </a: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reg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fora do blo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36" name=""/>
          <p:cNvCxnSpPr>
            <a:stCxn id="735" idx="2"/>
            <a:endCxn id="734" idx="3"/>
          </p:cNvCxnSpPr>
          <p:nvPr/>
        </p:nvCxnSpPr>
        <p:spPr>
          <a:xfrm flipH="1" rot="16200000">
            <a:off x="6490080" y="2587320"/>
            <a:ext cx="691200" cy="87840"/>
          </a:xfrm>
          <a:prstGeom prst="curvedConnector5">
            <a:avLst>
              <a:gd name="adj1" fmla="val 33090"/>
              <a:gd name="adj2" fmla="val 181481"/>
              <a:gd name="adj3" fmla="val 33090"/>
            </a:avLst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737" name=""/>
          <p:cNvSpPr/>
          <p:nvPr/>
        </p:nvSpPr>
        <p:spPr>
          <a:xfrm>
            <a:off x="4939560" y="4724280"/>
            <a:ext cx="336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i do bloco antes do f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38" name=""/>
          <p:cNvCxnSpPr>
            <a:stCxn id="737" idx="0"/>
          </p:cNvCxnSpPr>
          <p:nvPr/>
        </p:nvCxnSpPr>
        <p:spPr>
          <a:xfrm flipV="1" rot="16200000">
            <a:off x="5026320" y="3125520"/>
            <a:ext cx="686520" cy="2510640"/>
          </a:xfrm>
          <a:prstGeom prst="curvedConnector2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role do temp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m atribuições seqüênci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380880" y="1600200"/>
            <a:ext cx="77724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Sem controle de tempo, todas as atribuições dentro de um bloco seqüencial ocorrem no mesmo tempo simulado.</a:t>
            </a:r>
            <a:br>
              <a:rPr sz="3200"/>
            </a:b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Ainda assim, eles são executadas</a:t>
            </a:r>
            <a:br>
              <a:rPr sz="3200"/>
            </a:b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seqüencialmente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Atribuição controlado por atras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atribuição atras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atribuição com atraso inter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Atribuição controlada por eve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1" name=""/>
          <p:cNvGrpSpPr/>
          <p:nvPr/>
        </p:nvGrpSpPr>
        <p:grpSpPr>
          <a:xfrm>
            <a:off x="7959600" y="1889280"/>
            <a:ext cx="1031760" cy="2225520"/>
            <a:chOff x="7959600" y="1889280"/>
            <a:chExt cx="1031760" cy="2225520"/>
          </a:xfrm>
        </p:grpSpPr>
        <p:grpSp>
          <p:nvGrpSpPr>
            <p:cNvPr id="742" name=""/>
            <p:cNvGrpSpPr/>
            <p:nvPr/>
          </p:nvGrpSpPr>
          <p:grpSpPr>
            <a:xfrm>
              <a:off x="7959600" y="2060640"/>
              <a:ext cx="1031760" cy="2054160"/>
              <a:chOff x="7959600" y="2060640"/>
              <a:chExt cx="1031760" cy="2054160"/>
            </a:xfrm>
          </p:grpSpPr>
          <p:sp>
            <p:nvSpPr>
              <p:cNvPr id="743" name=""/>
              <p:cNvSpPr/>
              <p:nvPr/>
            </p:nvSpPr>
            <p:spPr>
              <a:xfrm>
                <a:off x="8288280" y="2174760"/>
                <a:ext cx="404640" cy="449280"/>
              </a:xfrm>
              <a:custGeom>
                <a:avLst/>
                <a:gdLst/>
                <a:ahLst/>
                <a:rect l="l" t="t" r="r" b="b"/>
                <a:pathLst>
                  <a:path w="509" h="566">
                    <a:moveTo>
                      <a:pt x="265" y="131"/>
                    </a:moveTo>
                    <a:lnTo>
                      <a:pt x="221" y="73"/>
                    </a:lnTo>
                    <a:lnTo>
                      <a:pt x="158" y="29"/>
                    </a:lnTo>
                    <a:lnTo>
                      <a:pt x="102" y="0"/>
                    </a:lnTo>
                    <a:lnTo>
                      <a:pt x="58" y="8"/>
                    </a:lnTo>
                    <a:lnTo>
                      <a:pt x="25" y="40"/>
                    </a:lnTo>
                    <a:lnTo>
                      <a:pt x="0" y="139"/>
                    </a:lnTo>
                    <a:lnTo>
                      <a:pt x="10" y="251"/>
                    </a:lnTo>
                    <a:lnTo>
                      <a:pt x="37" y="359"/>
                    </a:lnTo>
                    <a:lnTo>
                      <a:pt x="66" y="443"/>
                    </a:lnTo>
                    <a:lnTo>
                      <a:pt x="121" y="530"/>
                    </a:lnTo>
                    <a:lnTo>
                      <a:pt x="169" y="566"/>
                    </a:lnTo>
                    <a:lnTo>
                      <a:pt x="235" y="566"/>
                    </a:lnTo>
                    <a:lnTo>
                      <a:pt x="302" y="541"/>
                    </a:lnTo>
                    <a:lnTo>
                      <a:pt x="335" y="479"/>
                    </a:lnTo>
                    <a:lnTo>
                      <a:pt x="353" y="399"/>
                    </a:lnTo>
                    <a:lnTo>
                      <a:pt x="346" y="301"/>
                    </a:lnTo>
                    <a:lnTo>
                      <a:pt x="501" y="312"/>
                    </a:lnTo>
                    <a:lnTo>
                      <a:pt x="509" y="269"/>
                    </a:lnTo>
                    <a:lnTo>
                      <a:pt x="332" y="251"/>
                    </a:lnTo>
                    <a:lnTo>
                      <a:pt x="287" y="150"/>
                    </a:lnTo>
                    <a:lnTo>
                      <a:pt x="265" y="131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7959600" y="2060640"/>
                <a:ext cx="465120" cy="719280"/>
              </a:xfrm>
              <a:custGeom>
                <a:avLst/>
                <a:gdLst/>
                <a:ahLst/>
                <a:rect l="l" t="t" r="r" b="b"/>
                <a:pathLst>
                  <a:path w="586" h="907">
                    <a:moveTo>
                      <a:pt x="342" y="22"/>
                    </a:moveTo>
                    <a:lnTo>
                      <a:pt x="416" y="0"/>
                    </a:lnTo>
                    <a:lnTo>
                      <a:pt x="475" y="4"/>
                    </a:lnTo>
                    <a:lnTo>
                      <a:pt x="520" y="36"/>
                    </a:lnTo>
                    <a:lnTo>
                      <a:pt x="550" y="87"/>
                    </a:lnTo>
                    <a:lnTo>
                      <a:pt x="539" y="141"/>
                    </a:lnTo>
                    <a:lnTo>
                      <a:pt x="497" y="141"/>
                    </a:lnTo>
                    <a:lnTo>
                      <a:pt x="508" y="97"/>
                    </a:lnTo>
                    <a:lnTo>
                      <a:pt x="475" y="58"/>
                    </a:lnTo>
                    <a:lnTo>
                      <a:pt x="443" y="44"/>
                    </a:lnTo>
                    <a:lnTo>
                      <a:pt x="387" y="58"/>
                    </a:lnTo>
                    <a:lnTo>
                      <a:pt x="409" y="102"/>
                    </a:lnTo>
                    <a:lnTo>
                      <a:pt x="416" y="141"/>
                    </a:lnTo>
                    <a:lnTo>
                      <a:pt x="409" y="174"/>
                    </a:lnTo>
                    <a:lnTo>
                      <a:pt x="354" y="189"/>
                    </a:lnTo>
                    <a:lnTo>
                      <a:pt x="294" y="178"/>
                    </a:lnTo>
                    <a:lnTo>
                      <a:pt x="283" y="152"/>
                    </a:lnTo>
                    <a:lnTo>
                      <a:pt x="221" y="221"/>
                    </a:lnTo>
                    <a:lnTo>
                      <a:pt x="184" y="297"/>
                    </a:lnTo>
                    <a:lnTo>
                      <a:pt x="133" y="395"/>
                    </a:lnTo>
                    <a:lnTo>
                      <a:pt x="99" y="482"/>
                    </a:lnTo>
                    <a:lnTo>
                      <a:pt x="85" y="566"/>
                    </a:lnTo>
                    <a:lnTo>
                      <a:pt x="96" y="609"/>
                    </a:lnTo>
                    <a:lnTo>
                      <a:pt x="155" y="664"/>
                    </a:lnTo>
                    <a:lnTo>
                      <a:pt x="277" y="711"/>
                    </a:lnTo>
                    <a:lnTo>
                      <a:pt x="342" y="732"/>
                    </a:lnTo>
                    <a:lnTo>
                      <a:pt x="409" y="743"/>
                    </a:lnTo>
                    <a:lnTo>
                      <a:pt x="508" y="783"/>
                    </a:lnTo>
                    <a:lnTo>
                      <a:pt x="582" y="809"/>
                    </a:lnTo>
                    <a:lnTo>
                      <a:pt x="586" y="859"/>
                    </a:lnTo>
                    <a:lnTo>
                      <a:pt x="550" y="896"/>
                    </a:lnTo>
                    <a:lnTo>
                      <a:pt x="505" y="907"/>
                    </a:lnTo>
                    <a:lnTo>
                      <a:pt x="438" y="873"/>
                    </a:lnTo>
                    <a:lnTo>
                      <a:pt x="283" y="794"/>
                    </a:lnTo>
                    <a:lnTo>
                      <a:pt x="155" y="740"/>
                    </a:lnTo>
                    <a:lnTo>
                      <a:pt x="66" y="678"/>
                    </a:lnTo>
                    <a:lnTo>
                      <a:pt x="7" y="624"/>
                    </a:lnTo>
                    <a:lnTo>
                      <a:pt x="0" y="558"/>
                    </a:lnTo>
                    <a:lnTo>
                      <a:pt x="33" y="471"/>
                    </a:lnTo>
                    <a:lnTo>
                      <a:pt x="99" y="340"/>
                    </a:lnTo>
                    <a:lnTo>
                      <a:pt x="162" y="232"/>
                    </a:lnTo>
                    <a:lnTo>
                      <a:pt x="240" y="120"/>
                    </a:lnTo>
                    <a:lnTo>
                      <a:pt x="299" y="54"/>
                    </a:lnTo>
                    <a:lnTo>
                      <a:pt x="372" y="22"/>
                    </a:lnTo>
                    <a:lnTo>
                      <a:pt x="342" y="22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8399160" y="2656080"/>
                <a:ext cx="243000" cy="676080"/>
              </a:xfrm>
              <a:custGeom>
                <a:avLst/>
                <a:gdLst/>
                <a:ahLst/>
                <a:rect l="l" t="t" r="r" b="b"/>
                <a:pathLst>
                  <a:path w="307" h="850">
                    <a:moveTo>
                      <a:pt x="19" y="66"/>
                    </a:moveTo>
                    <a:lnTo>
                      <a:pt x="30" y="22"/>
                    </a:lnTo>
                    <a:lnTo>
                      <a:pt x="78" y="0"/>
                    </a:lnTo>
                    <a:lnTo>
                      <a:pt x="122" y="0"/>
                    </a:lnTo>
                    <a:lnTo>
                      <a:pt x="177" y="32"/>
                    </a:lnTo>
                    <a:lnTo>
                      <a:pt x="230" y="109"/>
                    </a:lnTo>
                    <a:lnTo>
                      <a:pt x="266" y="188"/>
                    </a:lnTo>
                    <a:lnTo>
                      <a:pt x="284" y="296"/>
                    </a:lnTo>
                    <a:lnTo>
                      <a:pt x="300" y="423"/>
                    </a:lnTo>
                    <a:lnTo>
                      <a:pt x="307" y="546"/>
                    </a:lnTo>
                    <a:lnTo>
                      <a:pt x="307" y="705"/>
                    </a:lnTo>
                    <a:lnTo>
                      <a:pt x="284" y="804"/>
                    </a:lnTo>
                    <a:lnTo>
                      <a:pt x="244" y="839"/>
                    </a:lnTo>
                    <a:lnTo>
                      <a:pt x="174" y="850"/>
                    </a:lnTo>
                    <a:lnTo>
                      <a:pt x="100" y="847"/>
                    </a:lnTo>
                    <a:lnTo>
                      <a:pt x="62" y="804"/>
                    </a:lnTo>
                    <a:lnTo>
                      <a:pt x="41" y="728"/>
                    </a:lnTo>
                    <a:lnTo>
                      <a:pt x="22" y="652"/>
                    </a:lnTo>
                    <a:lnTo>
                      <a:pt x="8" y="514"/>
                    </a:lnTo>
                    <a:lnTo>
                      <a:pt x="0" y="359"/>
                    </a:lnTo>
                    <a:lnTo>
                      <a:pt x="0" y="177"/>
                    </a:lnTo>
                    <a:lnTo>
                      <a:pt x="19" y="98"/>
                    </a:lnTo>
                    <a:lnTo>
                      <a:pt x="19" y="66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8510400" y="2675160"/>
                <a:ext cx="371520" cy="519120"/>
              </a:xfrm>
              <a:custGeom>
                <a:avLst/>
                <a:gdLst/>
                <a:ahLst/>
                <a:rect l="l" t="t" r="r" b="b"/>
                <a:pathLst>
                  <a:path w="468" h="653">
                    <a:moveTo>
                      <a:pt x="25" y="0"/>
                    </a:moveTo>
                    <a:lnTo>
                      <a:pt x="121" y="11"/>
                    </a:lnTo>
                    <a:lnTo>
                      <a:pt x="220" y="29"/>
                    </a:lnTo>
                    <a:lnTo>
                      <a:pt x="324" y="87"/>
                    </a:lnTo>
                    <a:lnTo>
                      <a:pt x="397" y="131"/>
                    </a:lnTo>
                    <a:lnTo>
                      <a:pt x="445" y="193"/>
                    </a:lnTo>
                    <a:lnTo>
                      <a:pt x="468" y="229"/>
                    </a:lnTo>
                    <a:lnTo>
                      <a:pt x="423" y="335"/>
                    </a:lnTo>
                    <a:lnTo>
                      <a:pt x="353" y="399"/>
                    </a:lnTo>
                    <a:lnTo>
                      <a:pt x="268" y="446"/>
                    </a:lnTo>
                    <a:lnTo>
                      <a:pt x="224" y="475"/>
                    </a:lnTo>
                    <a:lnTo>
                      <a:pt x="147" y="490"/>
                    </a:lnTo>
                    <a:lnTo>
                      <a:pt x="143" y="519"/>
                    </a:lnTo>
                    <a:lnTo>
                      <a:pt x="202" y="544"/>
                    </a:lnTo>
                    <a:lnTo>
                      <a:pt x="287" y="567"/>
                    </a:lnTo>
                    <a:lnTo>
                      <a:pt x="367" y="610"/>
                    </a:lnTo>
                    <a:lnTo>
                      <a:pt x="335" y="642"/>
                    </a:lnTo>
                    <a:lnTo>
                      <a:pt x="302" y="653"/>
                    </a:lnTo>
                    <a:lnTo>
                      <a:pt x="254" y="606"/>
                    </a:lnTo>
                    <a:lnTo>
                      <a:pt x="180" y="577"/>
                    </a:lnTo>
                    <a:lnTo>
                      <a:pt x="121" y="555"/>
                    </a:lnTo>
                    <a:lnTo>
                      <a:pt x="121" y="512"/>
                    </a:lnTo>
                    <a:lnTo>
                      <a:pt x="132" y="465"/>
                    </a:lnTo>
                    <a:lnTo>
                      <a:pt x="169" y="446"/>
                    </a:lnTo>
                    <a:lnTo>
                      <a:pt x="287" y="399"/>
                    </a:lnTo>
                    <a:lnTo>
                      <a:pt x="353" y="327"/>
                    </a:lnTo>
                    <a:lnTo>
                      <a:pt x="401" y="251"/>
                    </a:lnTo>
                    <a:lnTo>
                      <a:pt x="390" y="214"/>
                    </a:lnTo>
                    <a:lnTo>
                      <a:pt x="353" y="171"/>
                    </a:lnTo>
                    <a:lnTo>
                      <a:pt x="265" y="109"/>
                    </a:lnTo>
                    <a:lnTo>
                      <a:pt x="158" y="87"/>
                    </a:lnTo>
                    <a:lnTo>
                      <a:pt x="88" y="84"/>
                    </a:lnTo>
                    <a:lnTo>
                      <a:pt x="25" y="84"/>
                    </a:lnTo>
                    <a:lnTo>
                      <a:pt x="0" y="44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8540640" y="3262320"/>
                <a:ext cx="450720" cy="838080"/>
              </a:xfrm>
              <a:custGeom>
                <a:avLst/>
                <a:gdLst/>
                <a:ahLst/>
                <a:rect l="l" t="t" r="r" b="b"/>
                <a:pathLst>
                  <a:path w="570" h="1056">
                    <a:moveTo>
                      <a:pt x="66" y="0"/>
                    </a:moveTo>
                    <a:lnTo>
                      <a:pt x="15" y="0"/>
                    </a:lnTo>
                    <a:lnTo>
                      <a:pt x="0" y="76"/>
                    </a:lnTo>
                    <a:lnTo>
                      <a:pt x="37" y="121"/>
                    </a:lnTo>
                    <a:lnTo>
                      <a:pt x="155" y="226"/>
                    </a:lnTo>
                    <a:lnTo>
                      <a:pt x="259" y="359"/>
                    </a:lnTo>
                    <a:lnTo>
                      <a:pt x="326" y="498"/>
                    </a:lnTo>
                    <a:lnTo>
                      <a:pt x="336" y="588"/>
                    </a:lnTo>
                    <a:lnTo>
                      <a:pt x="332" y="654"/>
                    </a:lnTo>
                    <a:lnTo>
                      <a:pt x="304" y="802"/>
                    </a:lnTo>
                    <a:lnTo>
                      <a:pt x="266" y="922"/>
                    </a:lnTo>
                    <a:lnTo>
                      <a:pt x="233" y="992"/>
                    </a:lnTo>
                    <a:lnTo>
                      <a:pt x="225" y="1035"/>
                    </a:lnTo>
                    <a:lnTo>
                      <a:pt x="259" y="1035"/>
                    </a:lnTo>
                    <a:lnTo>
                      <a:pt x="310" y="1020"/>
                    </a:lnTo>
                    <a:lnTo>
                      <a:pt x="326" y="1024"/>
                    </a:lnTo>
                    <a:lnTo>
                      <a:pt x="433" y="1031"/>
                    </a:lnTo>
                    <a:lnTo>
                      <a:pt x="514" y="1056"/>
                    </a:lnTo>
                    <a:lnTo>
                      <a:pt x="543" y="1042"/>
                    </a:lnTo>
                    <a:lnTo>
                      <a:pt x="570" y="987"/>
                    </a:lnTo>
                    <a:lnTo>
                      <a:pt x="543" y="958"/>
                    </a:lnTo>
                    <a:lnTo>
                      <a:pt x="422" y="955"/>
                    </a:lnTo>
                    <a:lnTo>
                      <a:pt x="336" y="966"/>
                    </a:lnTo>
                    <a:lnTo>
                      <a:pt x="292" y="987"/>
                    </a:lnTo>
                    <a:lnTo>
                      <a:pt x="299" y="937"/>
                    </a:lnTo>
                    <a:lnTo>
                      <a:pt x="344" y="860"/>
                    </a:lnTo>
                    <a:lnTo>
                      <a:pt x="380" y="741"/>
                    </a:lnTo>
                    <a:lnTo>
                      <a:pt x="411" y="639"/>
                    </a:lnTo>
                    <a:lnTo>
                      <a:pt x="388" y="523"/>
                    </a:lnTo>
                    <a:lnTo>
                      <a:pt x="355" y="400"/>
                    </a:lnTo>
                    <a:lnTo>
                      <a:pt x="288" y="258"/>
                    </a:lnTo>
                    <a:lnTo>
                      <a:pt x="192" y="128"/>
                    </a:lnTo>
                    <a:lnTo>
                      <a:pt x="111" y="33"/>
                    </a:lnTo>
                    <a:lnTo>
                      <a:pt x="66" y="0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8256240" y="3260880"/>
                <a:ext cx="303480" cy="853920"/>
              </a:xfrm>
              <a:custGeom>
                <a:avLst/>
                <a:gdLst/>
                <a:ahLst/>
                <a:rect l="l" t="t" r="r" b="b"/>
                <a:pathLst>
                  <a:path w="383" h="1076">
                    <a:moveTo>
                      <a:pt x="265" y="0"/>
                    </a:moveTo>
                    <a:lnTo>
                      <a:pt x="217" y="102"/>
                    </a:lnTo>
                    <a:lnTo>
                      <a:pt x="183" y="250"/>
                    </a:lnTo>
                    <a:lnTo>
                      <a:pt x="143" y="414"/>
                    </a:lnTo>
                    <a:lnTo>
                      <a:pt x="107" y="580"/>
                    </a:lnTo>
                    <a:lnTo>
                      <a:pt x="107" y="641"/>
                    </a:lnTo>
                    <a:lnTo>
                      <a:pt x="143" y="750"/>
                    </a:lnTo>
                    <a:lnTo>
                      <a:pt x="195" y="808"/>
                    </a:lnTo>
                    <a:lnTo>
                      <a:pt x="243" y="881"/>
                    </a:lnTo>
                    <a:lnTo>
                      <a:pt x="276" y="934"/>
                    </a:lnTo>
                    <a:lnTo>
                      <a:pt x="262" y="960"/>
                    </a:lnTo>
                    <a:lnTo>
                      <a:pt x="177" y="971"/>
                    </a:lnTo>
                    <a:lnTo>
                      <a:pt x="40" y="992"/>
                    </a:lnTo>
                    <a:lnTo>
                      <a:pt x="0" y="1026"/>
                    </a:lnTo>
                    <a:lnTo>
                      <a:pt x="33" y="1055"/>
                    </a:lnTo>
                    <a:lnTo>
                      <a:pt x="110" y="1076"/>
                    </a:lnTo>
                    <a:lnTo>
                      <a:pt x="199" y="1033"/>
                    </a:lnTo>
                    <a:lnTo>
                      <a:pt x="265" y="1004"/>
                    </a:lnTo>
                    <a:lnTo>
                      <a:pt x="350" y="992"/>
                    </a:lnTo>
                    <a:lnTo>
                      <a:pt x="383" y="982"/>
                    </a:lnTo>
                    <a:lnTo>
                      <a:pt x="372" y="946"/>
                    </a:lnTo>
                    <a:lnTo>
                      <a:pt x="276" y="852"/>
                    </a:lnTo>
                    <a:lnTo>
                      <a:pt x="220" y="754"/>
                    </a:lnTo>
                    <a:lnTo>
                      <a:pt x="172" y="688"/>
                    </a:lnTo>
                    <a:lnTo>
                      <a:pt x="166" y="623"/>
                    </a:lnTo>
                    <a:lnTo>
                      <a:pt x="188" y="515"/>
                    </a:lnTo>
                    <a:lnTo>
                      <a:pt x="239" y="403"/>
                    </a:lnTo>
                    <a:lnTo>
                      <a:pt x="295" y="211"/>
                    </a:lnTo>
                    <a:lnTo>
                      <a:pt x="343" y="98"/>
                    </a:lnTo>
                    <a:lnTo>
                      <a:pt x="338" y="33"/>
                    </a:lnTo>
                    <a:lnTo>
                      <a:pt x="295" y="0"/>
                    </a:lnTo>
                    <a:lnTo>
                      <a:pt x="265" y="0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9" name=""/>
            <p:cNvGrpSpPr/>
            <p:nvPr/>
          </p:nvGrpSpPr>
          <p:grpSpPr>
            <a:xfrm>
              <a:off x="8581680" y="1889280"/>
              <a:ext cx="185760" cy="252360"/>
              <a:chOff x="8581680" y="1889280"/>
              <a:chExt cx="185760" cy="252360"/>
            </a:xfrm>
          </p:grpSpPr>
          <p:sp>
            <p:nvSpPr>
              <p:cNvPr id="750" name=""/>
              <p:cNvSpPr/>
              <p:nvPr/>
            </p:nvSpPr>
            <p:spPr>
              <a:xfrm>
                <a:off x="8618400" y="1889280"/>
                <a:ext cx="149040" cy="174600"/>
              </a:xfrm>
              <a:custGeom>
                <a:avLst/>
                <a:gdLst/>
                <a:ahLst/>
                <a:rect l="l" t="t" r="r" b="b"/>
                <a:pathLst>
                  <a:path w="190" h="221">
                    <a:moveTo>
                      <a:pt x="23" y="10"/>
                    </a:moveTo>
                    <a:lnTo>
                      <a:pt x="74" y="0"/>
                    </a:lnTo>
                    <a:lnTo>
                      <a:pt x="123" y="4"/>
                    </a:lnTo>
                    <a:lnTo>
                      <a:pt x="168" y="25"/>
                    </a:lnTo>
                    <a:lnTo>
                      <a:pt x="190" y="65"/>
                    </a:lnTo>
                    <a:lnTo>
                      <a:pt x="190" y="97"/>
                    </a:lnTo>
                    <a:lnTo>
                      <a:pt x="168" y="141"/>
                    </a:lnTo>
                    <a:lnTo>
                      <a:pt x="130" y="166"/>
                    </a:lnTo>
                    <a:lnTo>
                      <a:pt x="74" y="166"/>
                    </a:lnTo>
                    <a:lnTo>
                      <a:pt x="41" y="188"/>
                    </a:lnTo>
                    <a:lnTo>
                      <a:pt x="29" y="221"/>
                    </a:lnTo>
                    <a:lnTo>
                      <a:pt x="0" y="210"/>
                    </a:lnTo>
                    <a:lnTo>
                      <a:pt x="12" y="166"/>
                    </a:lnTo>
                    <a:lnTo>
                      <a:pt x="52" y="141"/>
                    </a:lnTo>
                    <a:lnTo>
                      <a:pt x="119" y="134"/>
                    </a:lnTo>
                    <a:lnTo>
                      <a:pt x="145" y="108"/>
                    </a:lnTo>
                    <a:lnTo>
                      <a:pt x="152" y="68"/>
                    </a:lnTo>
                    <a:lnTo>
                      <a:pt x="123" y="33"/>
                    </a:lnTo>
                    <a:lnTo>
                      <a:pt x="78" y="33"/>
                    </a:lnTo>
                    <a:lnTo>
                      <a:pt x="29" y="44"/>
                    </a:lnTo>
                    <a:lnTo>
                      <a:pt x="12" y="33"/>
                    </a:lnTo>
                    <a:lnTo>
                      <a:pt x="23" y="10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8581680" y="2094120"/>
                <a:ext cx="46080" cy="47520"/>
              </a:xfrm>
              <a:custGeom>
                <a:avLst/>
                <a:gdLst/>
                <a:ahLst/>
                <a:rect l="l" t="t" r="r" b="b"/>
                <a:pathLst>
                  <a:path w="59" h="60">
                    <a:moveTo>
                      <a:pt x="59" y="3"/>
                    </a:moveTo>
                    <a:lnTo>
                      <a:pt x="29" y="0"/>
                    </a:lnTo>
                    <a:lnTo>
                      <a:pt x="9" y="22"/>
                    </a:lnTo>
                    <a:lnTo>
                      <a:pt x="0" y="57"/>
                    </a:lnTo>
                    <a:lnTo>
                      <a:pt x="29" y="60"/>
                    </a:lnTo>
                    <a:lnTo>
                      <a:pt x="53" y="44"/>
                    </a:lnTo>
                    <a:lnTo>
                      <a:pt x="59" y="3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Atribuição controlada por atras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8991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atribuição atrasada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Lucida Sans Typewriter"/>
              </a:rPr>
              <a:t>#1 x = y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Lucida Sans Typewriter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begin</a:t>
            </a:r>
            <a:br>
              <a:rPr sz="2400"/>
            </a:b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#1; </a:t>
            </a: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// atraso</a:t>
            </a:r>
            <a:br>
              <a:rPr sz="2400"/>
            </a:b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x = y; </a:t>
            </a: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// atribuicao de y a x.</a:t>
            </a:r>
            <a:br>
              <a:rPr sz="2400"/>
            </a:b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atribuição com atraso interno 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Lucida Sans Typewriter"/>
              </a:rPr>
              <a:t>x = #1 y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Lucida Sans Typewriter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begin</a:t>
            </a:r>
            <a:br>
              <a:rPr sz="2400"/>
            </a:b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hold = y; </a:t>
            </a: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// segure y</a:t>
            </a:r>
            <a:br>
              <a:rPr sz="2400"/>
            </a:b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#1; </a:t>
            </a: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// atraso</a:t>
            </a:r>
            <a:br>
              <a:rPr sz="2400"/>
            </a:b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x = hold; </a:t>
            </a: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// atribuicao de y atrasado a x</a:t>
            </a:r>
            <a:br>
              <a:rPr sz="2400"/>
            </a:b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"/>
          <p:cNvSpPr/>
          <p:nvPr/>
        </p:nvSpPr>
        <p:spPr>
          <a:xfrm>
            <a:off x="68436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Atribuição controlada por evento</a:t>
            </a:r>
            <a:br>
              <a:rPr sz="4400"/>
            </a:b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definiçã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228600" y="1600200"/>
            <a:ext cx="891396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1719360"/>
                <a:tab algn="l" pos="3624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event_control ::=</a:t>
            </a:r>
            <a:br>
              <a:rPr sz="3200"/>
            </a:b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t-BR" sz="3200" spc="-1" strike="noStrike">
                <a:solidFill>
                  <a:srgbClr val="000000"/>
                </a:solidFill>
                <a:latin typeface="Times New Roman"/>
              </a:rPr>
              <a:t>@ </a:t>
            </a:r>
            <a:r>
              <a:rPr b="0" lang="pt-BR" sz="3200" spc="-1" strike="noStrike">
                <a:solidFill>
                  <a:srgbClr val="000000"/>
                </a:solidFill>
                <a:latin typeface="Courier New"/>
              </a:rPr>
              <a:t>even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t_identifier</a:t>
            </a:r>
            <a:br>
              <a:rPr sz="3200"/>
            </a:b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1" lang="pt-BR" sz="3200" spc="-1" strike="noStrike">
                <a:solidFill>
                  <a:srgbClr val="000000"/>
                </a:solidFill>
                <a:latin typeface="Times New Roman"/>
              </a:rPr>
              <a:t>@ 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(event_expression</a:t>
            </a:r>
            <a:r>
              <a:rPr b="1" lang="pt-BR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1719360"/>
                <a:tab algn="l" pos="3624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event_expression ::=</a:t>
            </a:r>
            <a:br>
              <a:rPr sz="3200"/>
            </a:b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expression</a:t>
            </a:r>
            <a:br>
              <a:rPr sz="3200"/>
            </a:b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| event_identifier</a:t>
            </a:r>
            <a:br>
              <a:rPr sz="3200"/>
            </a:b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1" lang="pt-BR" sz="3200" spc="-1" strike="noStrike">
                <a:solidFill>
                  <a:srgbClr val="000000"/>
                </a:solidFill>
                <a:latin typeface="Courier New"/>
              </a:rPr>
              <a:t>posedge 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expression</a:t>
            </a:r>
            <a:br>
              <a:rPr sz="3200"/>
            </a:b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1" lang="pt-BR" sz="3200" spc="-1" strike="noStrike">
                <a:solidFill>
                  <a:srgbClr val="000000"/>
                </a:solidFill>
                <a:latin typeface="Courier New"/>
              </a:rPr>
              <a:t>negedge </a:t>
            </a:r>
            <a:r>
              <a:rPr b="0" lang="pt-BR" sz="3200" spc="-1" strike="noStrike">
                <a:solidFill>
                  <a:srgbClr val="000000"/>
                </a:solidFill>
                <a:latin typeface="Courier New"/>
              </a:rPr>
              <a:t>expression</a:t>
            </a:r>
            <a:br>
              <a:rPr sz="3200"/>
            </a:br>
            <a:r>
              <a:rPr b="1" lang="pt-BR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| event_expression </a:t>
            </a:r>
            <a:r>
              <a:rPr b="1" lang="pt-BR" sz="3200" spc="-1" strike="noStrike">
                <a:solidFill>
                  <a:srgbClr val="000000"/>
                </a:solidFill>
                <a:latin typeface="Courier New"/>
              </a:rPr>
              <a:t>or 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event_expres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Atribuição controlada por evento</a:t>
            </a:r>
            <a:br>
              <a:rPr sz="4400"/>
            </a:b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exempl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Lucida Sans Typewriter"/>
              </a:rPr>
              <a:t>always </a:t>
            </a: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@(</a:t>
            </a:r>
            <a:r>
              <a:rPr b="1" lang="pt-BR" sz="2400" spc="-1" strike="noStrike">
                <a:solidFill>
                  <a:srgbClr val="000000"/>
                </a:solidFill>
                <a:latin typeface="Lucida Sans Typewriter"/>
              </a:rPr>
              <a:t>posedge </a:t>
            </a: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clk) Y=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Lucida Sans Typewriter"/>
              </a:rPr>
              <a:t>event </a:t>
            </a: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ec; // Declararacao de ev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Lucida Sans Typewriter"/>
              </a:rPr>
              <a:t>always </a:t>
            </a: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@(</a:t>
            </a:r>
            <a:r>
              <a:rPr b="1" lang="pt-BR" sz="2400" spc="-1" strike="noStrike">
                <a:solidFill>
                  <a:srgbClr val="000000"/>
                </a:solidFill>
                <a:latin typeface="Lucida Sans Typewriter"/>
              </a:rPr>
              <a:t>posedge </a:t>
            </a: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clk) -&gt; ec; // trigger e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Lucida Sans Typewriter"/>
              </a:rPr>
              <a:t>always </a:t>
            </a: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@ec Z=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Lucida Sans Typewriter"/>
              </a:rPr>
              <a:t>always</a:t>
            </a: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 @(push </a:t>
            </a:r>
            <a:r>
              <a:rPr b="1" lang="pt-BR" sz="2400" spc="-1" strike="noStrike">
                <a:solidFill>
                  <a:srgbClr val="000000"/>
                </a:solidFill>
                <a:latin typeface="Lucida Sans Typewriter"/>
              </a:rPr>
              <a:t>or</a:t>
            </a: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 pu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clk = push ? 0 : pull ? 1 : clk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8" name=""/>
          <p:cNvGrpSpPr/>
          <p:nvPr/>
        </p:nvGrpSpPr>
        <p:grpSpPr>
          <a:xfrm>
            <a:off x="6226560" y="4724280"/>
            <a:ext cx="2837520" cy="1828800"/>
            <a:chOff x="6226560" y="4724280"/>
            <a:chExt cx="2837520" cy="1828800"/>
          </a:xfrm>
        </p:grpSpPr>
        <p:sp>
          <p:nvSpPr>
            <p:cNvPr id="759" name=""/>
            <p:cNvSpPr/>
            <p:nvPr/>
          </p:nvSpPr>
          <p:spPr>
            <a:xfrm>
              <a:off x="7569360" y="4724280"/>
              <a:ext cx="152280" cy="15228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7645320" y="487656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7264440" y="6553080"/>
              <a:ext cx="3049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 flipV="1">
              <a:off x="7416720" y="601956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7607520" y="5181480"/>
              <a:ext cx="7596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7645320" y="54864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 flipH="1">
              <a:off x="7492680" y="5715000"/>
              <a:ext cx="1522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7378920" y="5943600"/>
              <a:ext cx="75960" cy="75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7645320" y="6553080"/>
              <a:ext cx="3049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 flipV="1">
              <a:off x="7797960" y="601956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7759800" y="5943600"/>
              <a:ext cx="76320" cy="75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 flipH="1">
              <a:off x="6959520" y="6095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7797960" y="6095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6226560" y="586728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Lucida Sans Typewriter"/>
                </a:rPr>
                <a:t>pus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8334720" y="586728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Lucida Sans Typewriter"/>
                </a:rPr>
                <a:t>pu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pso de temp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Lucida Sans Typewriter"/>
              </a:rPr>
              <a:t>always </a:t>
            </a: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@(</a:t>
            </a:r>
            <a:r>
              <a:rPr b="1" lang="pt-BR" sz="2400" spc="-1" strike="noStrike">
                <a:solidFill>
                  <a:srgbClr val="000000"/>
                </a:solidFill>
                <a:latin typeface="Lucida Sans Typewriter"/>
              </a:rPr>
              <a:t>posedge </a:t>
            </a: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clk) Q1 = 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Lucida Sans Typewriter"/>
              </a:rPr>
              <a:t>always </a:t>
            </a: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@(</a:t>
            </a:r>
            <a:r>
              <a:rPr b="1" lang="pt-BR" sz="2400" spc="-1" strike="noStrike">
                <a:solidFill>
                  <a:srgbClr val="000000"/>
                </a:solidFill>
                <a:latin typeface="Lucida Sans Typewriter"/>
              </a:rPr>
              <a:t>posedge </a:t>
            </a: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clk) Q2 = Q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6" name=""/>
          <p:cNvGrpSpPr/>
          <p:nvPr/>
        </p:nvGrpSpPr>
        <p:grpSpPr>
          <a:xfrm>
            <a:off x="6599160" y="3898800"/>
            <a:ext cx="2163600" cy="2121120"/>
            <a:chOff x="6599160" y="3898800"/>
            <a:chExt cx="2163600" cy="2121120"/>
          </a:xfrm>
        </p:grpSpPr>
        <p:grpSp>
          <p:nvGrpSpPr>
            <p:cNvPr id="777" name=""/>
            <p:cNvGrpSpPr/>
            <p:nvPr/>
          </p:nvGrpSpPr>
          <p:grpSpPr>
            <a:xfrm>
              <a:off x="6599160" y="4297320"/>
              <a:ext cx="903240" cy="1722600"/>
              <a:chOff x="6599160" y="4297320"/>
              <a:chExt cx="903240" cy="1722600"/>
            </a:xfrm>
          </p:grpSpPr>
          <p:sp>
            <p:nvSpPr>
              <p:cNvPr id="778" name=""/>
              <p:cNvSpPr/>
              <p:nvPr/>
            </p:nvSpPr>
            <p:spPr>
              <a:xfrm>
                <a:off x="6599160" y="4870440"/>
                <a:ext cx="903240" cy="1149480"/>
              </a:xfrm>
              <a:custGeom>
                <a:avLst/>
                <a:gdLst/>
                <a:ahLst/>
                <a:rect l="l" t="t" r="r" b="b"/>
                <a:pathLst>
                  <a:path w="1139" h="1449">
                    <a:moveTo>
                      <a:pt x="655" y="495"/>
                    </a:moveTo>
                    <a:lnTo>
                      <a:pt x="639" y="0"/>
                    </a:lnTo>
                    <a:lnTo>
                      <a:pt x="573" y="11"/>
                    </a:lnTo>
                    <a:lnTo>
                      <a:pt x="443" y="45"/>
                    </a:lnTo>
                    <a:lnTo>
                      <a:pt x="366" y="84"/>
                    </a:lnTo>
                    <a:lnTo>
                      <a:pt x="340" y="144"/>
                    </a:lnTo>
                    <a:lnTo>
                      <a:pt x="385" y="273"/>
                    </a:lnTo>
                    <a:lnTo>
                      <a:pt x="388" y="310"/>
                    </a:lnTo>
                    <a:lnTo>
                      <a:pt x="300" y="354"/>
                    </a:lnTo>
                    <a:lnTo>
                      <a:pt x="222" y="410"/>
                    </a:lnTo>
                    <a:lnTo>
                      <a:pt x="163" y="473"/>
                    </a:lnTo>
                    <a:lnTo>
                      <a:pt x="85" y="554"/>
                    </a:lnTo>
                    <a:lnTo>
                      <a:pt x="33" y="643"/>
                    </a:lnTo>
                    <a:lnTo>
                      <a:pt x="8" y="750"/>
                    </a:lnTo>
                    <a:lnTo>
                      <a:pt x="0" y="838"/>
                    </a:lnTo>
                    <a:lnTo>
                      <a:pt x="0" y="965"/>
                    </a:lnTo>
                    <a:lnTo>
                      <a:pt x="29" y="1094"/>
                    </a:lnTo>
                    <a:lnTo>
                      <a:pt x="78" y="1164"/>
                    </a:lnTo>
                    <a:lnTo>
                      <a:pt x="166" y="1253"/>
                    </a:lnTo>
                    <a:lnTo>
                      <a:pt x="277" y="1341"/>
                    </a:lnTo>
                    <a:lnTo>
                      <a:pt x="407" y="1404"/>
                    </a:lnTo>
                    <a:lnTo>
                      <a:pt x="566" y="1441"/>
                    </a:lnTo>
                    <a:lnTo>
                      <a:pt x="717" y="1449"/>
                    </a:lnTo>
                    <a:lnTo>
                      <a:pt x="806" y="1437"/>
                    </a:lnTo>
                    <a:lnTo>
                      <a:pt x="883" y="1393"/>
                    </a:lnTo>
                    <a:lnTo>
                      <a:pt x="973" y="1319"/>
                    </a:lnTo>
                    <a:lnTo>
                      <a:pt x="1020" y="1242"/>
                    </a:lnTo>
                    <a:lnTo>
                      <a:pt x="1095" y="1142"/>
                    </a:lnTo>
                    <a:lnTo>
                      <a:pt x="1120" y="1049"/>
                    </a:lnTo>
                    <a:lnTo>
                      <a:pt x="1139" y="939"/>
                    </a:lnTo>
                    <a:lnTo>
                      <a:pt x="1128" y="828"/>
                    </a:lnTo>
                    <a:lnTo>
                      <a:pt x="1098" y="721"/>
                    </a:lnTo>
                    <a:lnTo>
                      <a:pt x="1043" y="610"/>
                    </a:lnTo>
                    <a:lnTo>
                      <a:pt x="961" y="506"/>
                    </a:lnTo>
                    <a:lnTo>
                      <a:pt x="895" y="439"/>
                    </a:lnTo>
                    <a:lnTo>
                      <a:pt x="821" y="406"/>
                    </a:lnTo>
                    <a:lnTo>
                      <a:pt x="721" y="366"/>
                    </a:lnTo>
                    <a:lnTo>
                      <a:pt x="650" y="351"/>
                    </a:lnTo>
                    <a:lnTo>
                      <a:pt x="650" y="395"/>
                    </a:lnTo>
                    <a:lnTo>
                      <a:pt x="728" y="418"/>
                    </a:lnTo>
                    <a:lnTo>
                      <a:pt x="795" y="432"/>
                    </a:lnTo>
                    <a:lnTo>
                      <a:pt x="854" y="465"/>
                    </a:lnTo>
                    <a:lnTo>
                      <a:pt x="921" y="532"/>
                    </a:lnTo>
                    <a:lnTo>
                      <a:pt x="973" y="605"/>
                    </a:lnTo>
                    <a:lnTo>
                      <a:pt x="1006" y="654"/>
                    </a:lnTo>
                    <a:lnTo>
                      <a:pt x="1043" y="721"/>
                    </a:lnTo>
                    <a:lnTo>
                      <a:pt x="1072" y="817"/>
                    </a:lnTo>
                    <a:lnTo>
                      <a:pt x="1087" y="905"/>
                    </a:lnTo>
                    <a:lnTo>
                      <a:pt x="1087" y="983"/>
                    </a:lnTo>
                    <a:lnTo>
                      <a:pt x="1064" y="1064"/>
                    </a:lnTo>
                    <a:lnTo>
                      <a:pt x="1038" y="1142"/>
                    </a:lnTo>
                    <a:lnTo>
                      <a:pt x="987" y="1216"/>
                    </a:lnTo>
                    <a:lnTo>
                      <a:pt x="939" y="1274"/>
                    </a:lnTo>
                    <a:lnTo>
                      <a:pt x="888" y="1326"/>
                    </a:lnTo>
                    <a:lnTo>
                      <a:pt x="821" y="1359"/>
                    </a:lnTo>
                    <a:lnTo>
                      <a:pt x="766" y="1393"/>
                    </a:lnTo>
                    <a:lnTo>
                      <a:pt x="710" y="1404"/>
                    </a:lnTo>
                    <a:lnTo>
                      <a:pt x="618" y="1397"/>
                    </a:lnTo>
                    <a:lnTo>
                      <a:pt x="507" y="1382"/>
                    </a:lnTo>
                    <a:lnTo>
                      <a:pt x="399" y="1341"/>
                    </a:lnTo>
                    <a:lnTo>
                      <a:pt x="311" y="1297"/>
                    </a:lnTo>
                    <a:lnTo>
                      <a:pt x="230" y="1242"/>
                    </a:lnTo>
                    <a:lnTo>
                      <a:pt x="163" y="1183"/>
                    </a:lnTo>
                    <a:lnTo>
                      <a:pt x="119" y="1126"/>
                    </a:lnTo>
                    <a:lnTo>
                      <a:pt x="74" y="1061"/>
                    </a:lnTo>
                    <a:lnTo>
                      <a:pt x="55" y="975"/>
                    </a:lnTo>
                    <a:lnTo>
                      <a:pt x="52" y="861"/>
                    </a:lnTo>
                    <a:lnTo>
                      <a:pt x="55" y="765"/>
                    </a:lnTo>
                    <a:lnTo>
                      <a:pt x="78" y="683"/>
                    </a:lnTo>
                    <a:lnTo>
                      <a:pt x="107" y="599"/>
                    </a:lnTo>
                    <a:lnTo>
                      <a:pt x="166" y="528"/>
                    </a:lnTo>
                    <a:lnTo>
                      <a:pt x="233" y="465"/>
                    </a:lnTo>
                    <a:lnTo>
                      <a:pt x="300" y="421"/>
                    </a:lnTo>
                    <a:lnTo>
                      <a:pt x="373" y="384"/>
                    </a:lnTo>
                    <a:lnTo>
                      <a:pt x="429" y="354"/>
                    </a:lnTo>
                    <a:lnTo>
                      <a:pt x="473" y="343"/>
                    </a:lnTo>
                    <a:lnTo>
                      <a:pt x="473" y="328"/>
                    </a:lnTo>
                    <a:lnTo>
                      <a:pt x="417" y="162"/>
                    </a:lnTo>
                    <a:lnTo>
                      <a:pt x="417" y="133"/>
                    </a:lnTo>
                    <a:lnTo>
                      <a:pt x="455" y="110"/>
                    </a:lnTo>
                    <a:lnTo>
                      <a:pt x="507" y="77"/>
                    </a:lnTo>
                    <a:lnTo>
                      <a:pt x="573" y="63"/>
                    </a:lnTo>
                    <a:lnTo>
                      <a:pt x="599" y="63"/>
                    </a:lnTo>
                    <a:lnTo>
                      <a:pt x="606" y="174"/>
                    </a:lnTo>
                    <a:lnTo>
                      <a:pt x="588" y="328"/>
                    </a:lnTo>
                    <a:lnTo>
                      <a:pt x="566" y="432"/>
                    </a:lnTo>
                    <a:lnTo>
                      <a:pt x="606" y="473"/>
                    </a:lnTo>
                    <a:lnTo>
                      <a:pt x="655" y="495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6878520" y="4589640"/>
                <a:ext cx="144360" cy="344520"/>
              </a:xfrm>
              <a:custGeom>
                <a:avLst/>
                <a:gdLst/>
                <a:ahLst/>
                <a:rect l="l" t="t" r="r" b="b"/>
                <a:pathLst>
                  <a:path w="181" h="432">
                    <a:moveTo>
                      <a:pt x="166" y="366"/>
                    </a:moveTo>
                    <a:lnTo>
                      <a:pt x="166" y="303"/>
                    </a:lnTo>
                    <a:lnTo>
                      <a:pt x="147" y="203"/>
                    </a:lnTo>
                    <a:lnTo>
                      <a:pt x="111" y="144"/>
                    </a:lnTo>
                    <a:lnTo>
                      <a:pt x="59" y="33"/>
                    </a:lnTo>
                    <a:lnTo>
                      <a:pt x="36" y="0"/>
                    </a:lnTo>
                    <a:lnTo>
                      <a:pt x="0" y="22"/>
                    </a:lnTo>
                    <a:lnTo>
                      <a:pt x="0" y="48"/>
                    </a:lnTo>
                    <a:lnTo>
                      <a:pt x="26" y="92"/>
                    </a:lnTo>
                    <a:lnTo>
                      <a:pt x="65" y="181"/>
                    </a:lnTo>
                    <a:lnTo>
                      <a:pt x="99" y="248"/>
                    </a:lnTo>
                    <a:lnTo>
                      <a:pt x="103" y="310"/>
                    </a:lnTo>
                    <a:lnTo>
                      <a:pt x="114" y="411"/>
                    </a:lnTo>
                    <a:lnTo>
                      <a:pt x="147" y="432"/>
                    </a:lnTo>
                    <a:lnTo>
                      <a:pt x="181" y="403"/>
                    </a:lnTo>
                    <a:lnTo>
                      <a:pt x="166" y="366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7005600" y="4597560"/>
                <a:ext cx="155520" cy="77760"/>
              </a:xfrm>
              <a:custGeom>
                <a:avLst/>
                <a:gdLst/>
                <a:ahLst/>
                <a:rect l="l" t="t" r="r" b="b"/>
                <a:pathLst>
                  <a:path w="196" h="99">
                    <a:moveTo>
                      <a:pt x="196" y="92"/>
                    </a:moveTo>
                    <a:lnTo>
                      <a:pt x="185" y="66"/>
                    </a:lnTo>
                    <a:lnTo>
                      <a:pt x="122" y="26"/>
                    </a:lnTo>
                    <a:lnTo>
                      <a:pt x="55" y="0"/>
                    </a:lnTo>
                    <a:lnTo>
                      <a:pt x="18" y="0"/>
                    </a:lnTo>
                    <a:lnTo>
                      <a:pt x="0" y="22"/>
                    </a:lnTo>
                    <a:lnTo>
                      <a:pt x="11" y="55"/>
                    </a:lnTo>
                    <a:lnTo>
                      <a:pt x="73" y="77"/>
                    </a:lnTo>
                    <a:lnTo>
                      <a:pt x="163" y="99"/>
                    </a:lnTo>
                    <a:lnTo>
                      <a:pt x="196" y="92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6967440" y="4359240"/>
                <a:ext cx="110880" cy="144720"/>
              </a:xfrm>
              <a:custGeom>
                <a:avLst/>
                <a:gdLst/>
                <a:ahLst/>
                <a:rect l="l" t="t" r="r" b="b"/>
                <a:pathLst>
                  <a:path w="139" h="182">
                    <a:moveTo>
                      <a:pt x="132" y="0"/>
                    </a:moveTo>
                    <a:lnTo>
                      <a:pt x="139" y="26"/>
                    </a:lnTo>
                    <a:lnTo>
                      <a:pt x="99" y="115"/>
                    </a:lnTo>
                    <a:lnTo>
                      <a:pt x="67" y="159"/>
                    </a:lnTo>
                    <a:lnTo>
                      <a:pt x="41" y="182"/>
                    </a:lnTo>
                    <a:lnTo>
                      <a:pt x="12" y="182"/>
                    </a:lnTo>
                    <a:lnTo>
                      <a:pt x="0" y="159"/>
                    </a:lnTo>
                    <a:lnTo>
                      <a:pt x="7" y="126"/>
                    </a:lnTo>
                    <a:lnTo>
                      <a:pt x="85" y="48"/>
                    </a:lnTo>
                    <a:lnTo>
                      <a:pt x="132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6854760" y="4297320"/>
                <a:ext cx="58680" cy="160560"/>
              </a:xfrm>
              <a:custGeom>
                <a:avLst/>
                <a:gdLst/>
                <a:ahLst/>
                <a:rect l="l" t="t" r="r" b="b"/>
                <a:pathLst>
                  <a:path w="74" h="201">
                    <a:moveTo>
                      <a:pt x="11" y="0"/>
                    </a:moveTo>
                    <a:lnTo>
                      <a:pt x="45" y="59"/>
                    </a:lnTo>
                    <a:lnTo>
                      <a:pt x="63" y="125"/>
                    </a:lnTo>
                    <a:lnTo>
                      <a:pt x="74" y="176"/>
                    </a:lnTo>
                    <a:lnTo>
                      <a:pt x="55" y="201"/>
                    </a:lnTo>
                    <a:lnTo>
                      <a:pt x="30" y="201"/>
                    </a:lnTo>
                    <a:lnTo>
                      <a:pt x="19" y="180"/>
                    </a:lnTo>
                    <a:lnTo>
                      <a:pt x="0" y="136"/>
                    </a:lnTo>
                    <a:lnTo>
                      <a:pt x="0" y="65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6648120" y="4427640"/>
                <a:ext cx="158760" cy="81000"/>
              </a:xfrm>
              <a:custGeom>
                <a:avLst/>
                <a:gdLst/>
                <a:ahLst/>
                <a:rect l="l" t="t" r="r" b="b"/>
                <a:pathLst>
                  <a:path w="199" h="100">
                    <a:moveTo>
                      <a:pt x="0" y="0"/>
                    </a:moveTo>
                    <a:lnTo>
                      <a:pt x="96" y="12"/>
                    </a:lnTo>
                    <a:lnTo>
                      <a:pt x="166" y="30"/>
                    </a:lnTo>
                    <a:lnTo>
                      <a:pt x="199" y="56"/>
                    </a:lnTo>
                    <a:lnTo>
                      <a:pt x="187" y="89"/>
                    </a:lnTo>
                    <a:lnTo>
                      <a:pt x="166" y="100"/>
                    </a:lnTo>
                    <a:lnTo>
                      <a:pt x="110" y="8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6630840" y="4564080"/>
                <a:ext cx="174600" cy="122400"/>
              </a:xfrm>
              <a:custGeom>
                <a:avLst/>
                <a:gdLst/>
                <a:ahLst/>
                <a:rect l="l" t="t" r="r" b="b"/>
                <a:pathLst>
                  <a:path w="221" h="154">
                    <a:moveTo>
                      <a:pt x="12" y="110"/>
                    </a:moveTo>
                    <a:lnTo>
                      <a:pt x="56" y="62"/>
                    </a:lnTo>
                    <a:lnTo>
                      <a:pt x="126" y="18"/>
                    </a:lnTo>
                    <a:lnTo>
                      <a:pt x="189" y="0"/>
                    </a:lnTo>
                    <a:lnTo>
                      <a:pt x="214" y="0"/>
                    </a:lnTo>
                    <a:lnTo>
                      <a:pt x="221" y="33"/>
                    </a:lnTo>
                    <a:lnTo>
                      <a:pt x="203" y="55"/>
                    </a:lnTo>
                    <a:lnTo>
                      <a:pt x="155" y="66"/>
                    </a:lnTo>
                    <a:lnTo>
                      <a:pt x="111" y="66"/>
                    </a:lnTo>
                    <a:lnTo>
                      <a:pt x="59" y="98"/>
                    </a:lnTo>
                    <a:lnTo>
                      <a:pt x="15" y="139"/>
                    </a:lnTo>
                    <a:lnTo>
                      <a:pt x="0" y="154"/>
                    </a:lnTo>
                    <a:lnTo>
                      <a:pt x="12" y="11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6821280" y="4667400"/>
                <a:ext cx="46080" cy="88920"/>
              </a:xfrm>
              <a:custGeom>
                <a:avLst/>
                <a:gdLst/>
                <a:ahLst/>
                <a:rect l="l" t="t" r="r" b="b"/>
                <a:pathLst>
                  <a:path w="59" h="111">
                    <a:moveTo>
                      <a:pt x="27" y="111"/>
                    </a:moveTo>
                    <a:lnTo>
                      <a:pt x="0" y="63"/>
                    </a:lnTo>
                    <a:lnTo>
                      <a:pt x="0" y="19"/>
                    </a:lnTo>
                    <a:lnTo>
                      <a:pt x="33" y="0"/>
                    </a:lnTo>
                    <a:lnTo>
                      <a:pt x="59" y="22"/>
                    </a:lnTo>
                    <a:lnTo>
                      <a:pt x="43" y="67"/>
                    </a:lnTo>
                    <a:lnTo>
                      <a:pt x="27" y="111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6" name=""/>
            <p:cNvGrpSpPr/>
            <p:nvPr/>
          </p:nvGrpSpPr>
          <p:grpSpPr>
            <a:xfrm>
              <a:off x="7659360" y="3898800"/>
              <a:ext cx="1103400" cy="2095560"/>
              <a:chOff x="7659360" y="3898800"/>
              <a:chExt cx="1103400" cy="2095560"/>
            </a:xfrm>
          </p:grpSpPr>
          <p:sp>
            <p:nvSpPr>
              <p:cNvPr id="787" name=""/>
              <p:cNvSpPr/>
              <p:nvPr/>
            </p:nvSpPr>
            <p:spPr>
              <a:xfrm>
                <a:off x="7659360" y="4540320"/>
                <a:ext cx="432000" cy="712800"/>
              </a:xfrm>
              <a:custGeom>
                <a:avLst/>
                <a:gdLst/>
                <a:ahLst/>
                <a:rect l="l" t="t" r="r" b="b"/>
                <a:pathLst>
                  <a:path w="544" h="898">
                    <a:moveTo>
                      <a:pt x="288" y="134"/>
                    </a:moveTo>
                    <a:lnTo>
                      <a:pt x="344" y="78"/>
                    </a:lnTo>
                    <a:lnTo>
                      <a:pt x="422" y="23"/>
                    </a:lnTo>
                    <a:lnTo>
                      <a:pt x="477" y="0"/>
                    </a:lnTo>
                    <a:lnTo>
                      <a:pt x="544" y="4"/>
                    </a:lnTo>
                    <a:lnTo>
                      <a:pt x="544" y="56"/>
                    </a:lnTo>
                    <a:lnTo>
                      <a:pt x="510" y="100"/>
                    </a:lnTo>
                    <a:lnTo>
                      <a:pt x="448" y="134"/>
                    </a:lnTo>
                    <a:lnTo>
                      <a:pt x="292" y="204"/>
                    </a:lnTo>
                    <a:lnTo>
                      <a:pt x="144" y="289"/>
                    </a:lnTo>
                    <a:lnTo>
                      <a:pt x="81" y="311"/>
                    </a:lnTo>
                    <a:lnTo>
                      <a:pt x="59" y="344"/>
                    </a:lnTo>
                    <a:lnTo>
                      <a:pt x="81" y="378"/>
                    </a:lnTo>
                    <a:lnTo>
                      <a:pt x="210" y="503"/>
                    </a:lnTo>
                    <a:lnTo>
                      <a:pt x="270" y="544"/>
                    </a:lnTo>
                    <a:lnTo>
                      <a:pt x="358" y="614"/>
                    </a:lnTo>
                    <a:lnTo>
                      <a:pt x="448" y="681"/>
                    </a:lnTo>
                    <a:lnTo>
                      <a:pt x="443" y="714"/>
                    </a:lnTo>
                    <a:lnTo>
                      <a:pt x="376" y="725"/>
                    </a:lnTo>
                    <a:lnTo>
                      <a:pt x="277" y="725"/>
                    </a:lnTo>
                    <a:lnTo>
                      <a:pt x="215" y="758"/>
                    </a:lnTo>
                    <a:lnTo>
                      <a:pt x="192" y="843"/>
                    </a:lnTo>
                    <a:lnTo>
                      <a:pt x="192" y="888"/>
                    </a:lnTo>
                    <a:lnTo>
                      <a:pt x="166" y="898"/>
                    </a:lnTo>
                    <a:lnTo>
                      <a:pt x="125" y="859"/>
                    </a:lnTo>
                    <a:lnTo>
                      <a:pt x="133" y="787"/>
                    </a:lnTo>
                    <a:lnTo>
                      <a:pt x="169" y="736"/>
                    </a:lnTo>
                    <a:lnTo>
                      <a:pt x="244" y="691"/>
                    </a:lnTo>
                    <a:lnTo>
                      <a:pt x="325" y="670"/>
                    </a:lnTo>
                    <a:lnTo>
                      <a:pt x="332" y="647"/>
                    </a:lnTo>
                    <a:lnTo>
                      <a:pt x="292" y="603"/>
                    </a:lnTo>
                    <a:lnTo>
                      <a:pt x="122" y="492"/>
                    </a:lnTo>
                    <a:lnTo>
                      <a:pt x="70" y="448"/>
                    </a:lnTo>
                    <a:lnTo>
                      <a:pt x="22" y="388"/>
                    </a:lnTo>
                    <a:lnTo>
                      <a:pt x="0" y="321"/>
                    </a:lnTo>
                    <a:lnTo>
                      <a:pt x="14" y="282"/>
                    </a:lnTo>
                    <a:lnTo>
                      <a:pt x="99" y="256"/>
                    </a:lnTo>
                    <a:lnTo>
                      <a:pt x="203" y="211"/>
                    </a:lnTo>
                    <a:lnTo>
                      <a:pt x="270" y="166"/>
                    </a:lnTo>
                    <a:lnTo>
                      <a:pt x="288" y="134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8043840" y="4508640"/>
                <a:ext cx="299880" cy="682560"/>
              </a:xfrm>
              <a:custGeom>
                <a:avLst/>
                <a:gdLst/>
                <a:ahLst/>
                <a:rect l="l" t="t" r="r" b="b"/>
                <a:pathLst>
                  <a:path w="379" h="861">
                    <a:moveTo>
                      <a:pt x="81" y="66"/>
                    </a:moveTo>
                    <a:lnTo>
                      <a:pt x="115" y="11"/>
                    </a:lnTo>
                    <a:lnTo>
                      <a:pt x="156" y="0"/>
                    </a:lnTo>
                    <a:lnTo>
                      <a:pt x="212" y="0"/>
                    </a:lnTo>
                    <a:lnTo>
                      <a:pt x="282" y="40"/>
                    </a:lnTo>
                    <a:lnTo>
                      <a:pt x="326" y="130"/>
                    </a:lnTo>
                    <a:lnTo>
                      <a:pt x="359" y="244"/>
                    </a:lnTo>
                    <a:lnTo>
                      <a:pt x="379" y="361"/>
                    </a:lnTo>
                    <a:lnTo>
                      <a:pt x="379" y="521"/>
                    </a:lnTo>
                    <a:lnTo>
                      <a:pt x="338" y="695"/>
                    </a:lnTo>
                    <a:lnTo>
                      <a:pt x="279" y="797"/>
                    </a:lnTo>
                    <a:lnTo>
                      <a:pt x="200" y="849"/>
                    </a:lnTo>
                    <a:lnTo>
                      <a:pt x="126" y="861"/>
                    </a:lnTo>
                    <a:lnTo>
                      <a:pt x="70" y="827"/>
                    </a:lnTo>
                    <a:lnTo>
                      <a:pt x="26" y="786"/>
                    </a:lnTo>
                    <a:lnTo>
                      <a:pt x="14" y="721"/>
                    </a:lnTo>
                    <a:lnTo>
                      <a:pt x="0" y="594"/>
                    </a:lnTo>
                    <a:lnTo>
                      <a:pt x="11" y="439"/>
                    </a:lnTo>
                    <a:lnTo>
                      <a:pt x="45" y="277"/>
                    </a:lnTo>
                    <a:lnTo>
                      <a:pt x="66" y="162"/>
                    </a:lnTo>
                    <a:lnTo>
                      <a:pt x="81" y="66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8126280" y="5102280"/>
                <a:ext cx="176040" cy="892080"/>
              </a:xfrm>
              <a:custGeom>
                <a:avLst/>
                <a:gdLst/>
                <a:ahLst/>
                <a:rect l="l" t="t" r="r" b="b"/>
                <a:pathLst>
                  <a:path w="221" h="1122">
                    <a:moveTo>
                      <a:pt x="107" y="198"/>
                    </a:moveTo>
                    <a:lnTo>
                      <a:pt x="76" y="125"/>
                    </a:lnTo>
                    <a:lnTo>
                      <a:pt x="76" y="44"/>
                    </a:lnTo>
                    <a:lnTo>
                      <a:pt x="117" y="0"/>
                    </a:lnTo>
                    <a:lnTo>
                      <a:pt x="165" y="21"/>
                    </a:lnTo>
                    <a:lnTo>
                      <a:pt x="198" y="99"/>
                    </a:lnTo>
                    <a:lnTo>
                      <a:pt x="217" y="232"/>
                    </a:lnTo>
                    <a:lnTo>
                      <a:pt x="221" y="398"/>
                    </a:lnTo>
                    <a:lnTo>
                      <a:pt x="209" y="542"/>
                    </a:lnTo>
                    <a:lnTo>
                      <a:pt x="188" y="698"/>
                    </a:lnTo>
                    <a:lnTo>
                      <a:pt x="188" y="885"/>
                    </a:lnTo>
                    <a:lnTo>
                      <a:pt x="217" y="963"/>
                    </a:lnTo>
                    <a:lnTo>
                      <a:pt x="206" y="1000"/>
                    </a:lnTo>
                    <a:lnTo>
                      <a:pt x="154" y="1011"/>
                    </a:lnTo>
                    <a:lnTo>
                      <a:pt x="99" y="1063"/>
                    </a:lnTo>
                    <a:lnTo>
                      <a:pt x="73" y="1107"/>
                    </a:lnTo>
                    <a:lnTo>
                      <a:pt x="11" y="1122"/>
                    </a:lnTo>
                    <a:lnTo>
                      <a:pt x="0" y="1074"/>
                    </a:lnTo>
                    <a:lnTo>
                      <a:pt x="21" y="1033"/>
                    </a:lnTo>
                    <a:lnTo>
                      <a:pt x="99" y="1000"/>
                    </a:lnTo>
                    <a:lnTo>
                      <a:pt x="154" y="975"/>
                    </a:lnTo>
                    <a:lnTo>
                      <a:pt x="172" y="952"/>
                    </a:lnTo>
                    <a:lnTo>
                      <a:pt x="151" y="890"/>
                    </a:lnTo>
                    <a:lnTo>
                      <a:pt x="133" y="763"/>
                    </a:lnTo>
                    <a:lnTo>
                      <a:pt x="128" y="612"/>
                    </a:lnTo>
                    <a:lnTo>
                      <a:pt x="133" y="512"/>
                    </a:lnTo>
                    <a:lnTo>
                      <a:pt x="139" y="376"/>
                    </a:lnTo>
                    <a:lnTo>
                      <a:pt x="128" y="254"/>
                    </a:lnTo>
                    <a:lnTo>
                      <a:pt x="107" y="198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7881840" y="5103720"/>
                <a:ext cx="272880" cy="889200"/>
              </a:xfrm>
              <a:custGeom>
                <a:avLst/>
                <a:gdLst/>
                <a:ahLst/>
                <a:rect l="l" t="t" r="r" b="b"/>
                <a:pathLst>
                  <a:path w="344" h="1119">
                    <a:moveTo>
                      <a:pt x="212" y="103"/>
                    </a:moveTo>
                    <a:lnTo>
                      <a:pt x="248" y="33"/>
                    </a:lnTo>
                    <a:lnTo>
                      <a:pt x="293" y="0"/>
                    </a:lnTo>
                    <a:lnTo>
                      <a:pt x="344" y="21"/>
                    </a:lnTo>
                    <a:lnTo>
                      <a:pt x="337" y="88"/>
                    </a:lnTo>
                    <a:lnTo>
                      <a:pt x="303" y="136"/>
                    </a:lnTo>
                    <a:lnTo>
                      <a:pt x="238" y="254"/>
                    </a:lnTo>
                    <a:lnTo>
                      <a:pt x="193" y="369"/>
                    </a:lnTo>
                    <a:lnTo>
                      <a:pt x="168" y="491"/>
                    </a:lnTo>
                    <a:lnTo>
                      <a:pt x="171" y="609"/>
                    </a:lnTo>
                    <a:lnTo>
                      <a:pt x="212" y="768"/>
                    </a:lnTo>
                    <a:lnTo>
                      <a:pt x="245" y="920"/>
                    </a:lnTo>
                    <a:lnTo>
                      <a:pt x="293" y="986"/>
                    </a:lnTo>
                    <a:lnTo>
                      <a:pt x="289" y="1023"/>
                    </a:lnTo>
                    <a:lnTo>
                      <a:pt x="248" y="1042"/>
                    </a:lnTo>
                    <a:lnTo>
                      <a:pt x="156" y="1056"/>
                    </a:lnTo>
                    <a:lnTo>
                      <a:pt x="90" y="1097"/>
                    </a:lnTo>
                    <a:lnTo>
                      <a:pt x="56" y="1119"/>
                    </a:lnTo>
                    <a:lnTo>
                      <a:pt x="0" y="1068"/>
                    </a:lnTo>
                    <a:lnTo>
                      <a:pt x="12" y="1034"/>
                    </a:lnTo>
                    <a:lnTo>
                      <a:pt x="67" y="1012"/>
                    </a:lnTo>
                    <a:lnTo>
                      <a:pt x="137" y="1001"/>
                    </a:lnTo>
                    <a:lnTo>
                      <a:pt x="204" y="1001"/>
                    </a:lnTo>
                    <a:lnTo>
                      <a:pt x="215" y="979"/>
                    </a:lnTo>
                    <a:lnTo>
                      <a:pt x="204" y="941"/>
                    </a:lnTo>
                    <a:lnTo>
                      <a:pt x="148" y="798"/>
                    </a:lnTo>
                    <a:lnTo>
                      <a:pt x="111" y="657"/>
                    </a:lnTo>
                    <a:lnTo>
                      <a:pt x="93" y="554"/>
                    </a:lnTo>
                    <a:lnTo>
                      <a:pt x="90" y="458"/>
                    </a:lnTo>
                    <a:lnTo>
                      <a:pt x="104" y="365"/>
                    </a:lnTo>
                    <a:lnTo>
                      <a:pt x="137" y="269"/>
                    </a:lnTo>
                    <a:lnTo>
                      <a:pt x="189" y="143"/>
                    </a:lnTo>
                    <a:lnTo>
                      <a:pt x="212" y="103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7934040" y="3997440"/>
                <a:ext cx="351000" cy="463320"/>
              </a:xfrm>
              <a:custGeom>
                <a:avLst/>
                <a:gdLst/>
                <a:ahLst/>
                <a:rect l="l" t="t" r="r" b="b"/>
                <a:pathLst>
                  <a:path w="443" h="585">
                    <a:moveTo>
                      <a:pt x="162" y="489"/>
                    </a:moveTo>
                    <a:lnTo>
                      <a:pt x="195" y="562"/>
                    </a:lnTo>
                    <a:lnTo>
                      <a:pt x="273" y="585"/>
                    </a:lnTo>
                    <a:lnTo>
                      <a:pt x="340" y="577"/>
                    </a:lnTo>
                    <a:lnTo>
                      <a:pt x="395" y="530"/>
                    </a:lnTo>
                    <a:lnTo>
                      <a:pt x="439" y="433"/>
                    </a:lnTo>
                    <a:lnTo>
                      <a:pt x="443" y="318"/>
                    </a:lnTo>
                    <a:lnTo>
                      <a:pt x="428" y="218"/>
                    </a:lnTo>
                    <a:lnTo>
                      <a:pt x="366" y="107"/>
                    </a:lnTo>
                    <a:lnTo>
                      <a:pt x="320" y="55"/>
                    </a:lnTo>
                    <a:lnTo>
                      <a:pt x="273" y="23"/>
                    </a:lnTo>
                    <a:lnTo>
                      <a:pt x="229" y="0"/>
                    </a:lnTo>
                    <a:lnTo>
                      <a:pt x="151" y="8"/>
                    </a:lnTo>
                    <a:lnTo>
                      <a:pt x="110" y="75"/>
                    </a:lnTo>
                    <a:lnTo>
                      <a:pt x="89" y="145"/>
                    </a:lnTo>
                    <a:lnTo>
                      <a:pt x="89" y="256"/>
                    </a:lnTo>
                    <a:lnTo>
                      <a:pt x="107" y="363"/>
                    </a:lnTo>
                    <a:lnTo>
                      <a:pt x="129" y="422"/>
                    </a:lnTo>
                    <a:lnTo>
                      <a:pt x="7" y="510"/>
                    </a:lnTo>
                    <a:lnTo>
                      <a:pt x="0" y="544"/>
                    </a:lnTo>
                    <a:lnTo>
                      <a:pt x="19" y="562"/>
                    </a:lnTo>
                    <a:lnTo>
                      <a:pt x="151" y="463"/>
                    </a:lnTo>
                    <a:lnTo>
                      <a:pt x="162" y="489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8061120" y="3898800"/>
                <a:ext cx="701640" cy="776520"/>
              </a:xfrm>
              <a:custGeom>
                <a:avLst/>
                <a:gdLst/>
                <a:ahLst/>
                <a:rect l="l" t="t" r="r" b="b"/>
                <a:pathLst>
                  <a:path w="882" h="978">
                    <a:moveTo>
                      <a:pt x="587" y="676"/>
                    </a:moveTo>
                    <a:lnTo>
                      <a:pt x="542" y="721"/>
                    </a:lnTo>
                    <a:lnTo>
                      <a:pt x="450" y="776"/>
                    </a:lnTo>
                    <a:lnTo>
                      <a:pt x="366" y="809"/>
                    </a:lnTo>
                    <a:lnTo>
                      <a:pt x="306" y="842"/>
                    </a:lnTo>
                    <a:lnTo>
                      <a:pt x="250" y="887"/>
                    </a:lnTo>
                    <a:lnTo>
                      <a:pt x="244" y="964"/>
                    </a:lnTo>
                    <a:lnTo>
                      <a:pt x="299" y="978"/>
                    </a:lnTo>
                    <a:lnTo>
                      <a:pt x="439" y="897"/>
                    </a:lnTo>
                    <a:lnTo>
                      <a:pt x="542" y="801"/>
                    </a:lnTo>
                    <a:lnTo>
                      <a:pt x="664" y="680"/>
                    </a:lnTo>
                    <a:lnTo>
                      <a:pt x="763" y="602"/>
                    </a:lnTo>
                    <a:lnTo>
                      <a:pt x="849" y="543"/>
                    </a:lnTo>
                    <a:lnTo>
                      <a:pt x="882" y="513"/>
                    </a:lnTo>
                    <a:lnTo>
                      <a:pt x="870" y="477"/>
                    </a:lnTo>
                    <a:lnTo>
                      <a:pt x="830" y="425"/>
                    </a:lnTo>
                    <a:lnTo>
                      <a:pt x="683" y="344"/>
                    </a:lnTo>
                    <a:lnTo>
                      <a:pt x="542" y="270"/>
                    </a:lnTo>
                    <a:lnTo>
                      <a:pt x="372" y="192"/>
                    </a:lnTo>
                    <a:lnTo>
                      <a:pt x="309" y="148"/>
                    </a:lnTo>
                    <a:lnTo>
                      <a:pt x="244" y="89"/>
                    </a:lnTo>
                    <a:lnTo>
                      <a:pt x="177" y="23"/>
                    </a:lnTo>
                    <a:lnTo>
                      <a:pt x="118" y="0"/>
                    </a:lnTo>
                    <a:lnTo>
                      <a:pt x="0" y="82"/>
                    </a:lnTo>
                    <a:lnTo>
                      <a:pt x="8" y="159"/>
                    </a:lnTo>
                    <a:lnTo>
                      <a:pt x="29" y="189"/>
                    </a:lnTo>
                    <a:lnTo>
                      <a:pt x="88" y="177"/>
                    </a:lnTo>
                    <a:lnTo>
                      <a:pt x="78" y="145"/>
                    </a:lnTo>
                    <a:lnTo>
                      <a:pt x="55" y="133"/>
                    </a:lnTo>
                    <a:lnTo>
                      <a:pt x="44" y="93"/>
                    </a:lnTo>
                    <a:lnTo>
                      <a:pt x="110" y="49"/>
                    </a:lnTo>
                    <a:lnTo>
                      <a:pt x="166" y="93"/>
                    </a:lnTo>
                    <a:lnTo>
                      <a:pt x="166" y="133"/>
                    </a:lnTo>
                    <a:lnTo>
                      <a:pt x="143" y="181"/>
                    </a:lnTo>
                    <a:lnTo>
                      <a:pt x="162" y="215"/>
                    </a:lnTo>
                    <a:lnTo>
                      <a:pt x="273" y="244"/>
                    </a:lnTo>
                    <a:lnTo>
                      <a:pt x="317" y="203"/>
                    </a:lnTo>
                    <a:lnTo>
                      <a:pt x="465" y="292"/>
                    </a:lnTo>
                    <a:lnTo>
                      <a:pt x="587" y="347"/>
                    </a:lnTo>
                    <a:lnTo>
                      <a:pt x="653" y="381"/>
                    </a:lnTo>
                    <a:lnTo>
                      <a:pt x="719" y="414"/>
                    </a:lnTo>
                    <a:lnTo>
                      <a:pt x="771" y="458"/>
                    </a:lnTo>
                    <a:lnTo>
                      <a:pt x="804" y="503"/>
                    </a:lnTo>
                    <a:lnTo>
                      <a:pt x="774" y="535"/>
                    </a:lnTo>
                    <a:lnTo>
                      <a:pt x="704" y="580"/>
                    </a:lnTo>
                    <a:lnTo>
                      <a:pt x="631" y="631"/>
                    </a:lnTo>
                    <a:lnTo>
                      <a:pt x="587" y="676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93" name=""/>
          <p:cNvGrpSpPr/>
          <p:nvPr/>
        </p:nvGrpSpPr>
        <p:grpSpPr>
          <a:xfrm>
            <a:off x="2438280" y="3352680"/>
            <a:ext cx="1067040" cy="533520"/>
            <a:chOff x="2438280" y="3352680"/>
            <a:chExt cx="1067040" cy="533520"/>
          </a:xfrm>
        </p:grpSpPr>
        <p:sp>
          <p:nvSpPr>
            <p:cNvPr id="794" name=""/>
            <p:cNvSpPr/>
            <p:nvPr/>
          </p:nvSpPr>
          <p:spPr>
            <a:xfrm>
              <a:off x="2438280" y="3886200"/>
              <a:ext cx="533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2971800" y="3352680"/>
              <a:ext cx="533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2971800" y="3352680"/>
              <a:ext cx="0" cy="53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3505320" y="3352680"/>
              <a:ext cx="0" cy="53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3505320" y="3352680"/>
            <a:ext cx="1066680" cy="533520"/>
            <a:chOff x="3505320" y="3352680"/>
            <a:chExt cx="1066680" cy="533520"/>
          </a:xfrm>
        </p:grpSpPr>
        <p:sp>
          <p:nvSpPr>
            <p:cNvPr id="799" name=""/>
            <p:cNvSpPr/>
            <p:nvPr/>
          </p:nvSpPr>
          <p:spPr>
            <a:xfrm>
              <a:off x="3505320" y="3886200"/>
              <a:ext cx="533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038480" y="3352680"/>
              <a:ext cx="533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038480" y="3352680"/>
              <a:ext cx="0" cy="53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572000" y="3352680"/>
              <a:ext cx="0" cy="53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3" name=""/>
          <p:cNvGrpSpPr/>
          <p:nvPr/>
        </p:nvGrpSpPr>
        <p:grpSpPr>
          <a:xfrm>
            <a:off x="4572000" y="3352680"/>
            <a:ext cx="1066680" cy="533520"/>
            <a:chOff x="4572000" y="3352680"/>
            <a:chExt cx="1066680" cy="533520"/>
          </a:xfrm>
        </p:grpSpPr>
        <p:sp>
          <p:nvSpPr>
            <p:cNvPr id="804" name=""/>
            <p:cNvSpPr/>
            <p:nvPr/>
          </p:nvSpPr>
          <p:spPr>
            <a:xfrm>
              <a:off x="4572000" y="3886200"/>
              <a:ext cx="533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5105160" y="3352680"/>
              <a:ext cx="533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5105160" y="3352680"/>
              <a:ext cx="0" cy="53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5638680" y="3352680"/>
              <a:ext cx="0" cy="53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8" name=""/>
          <p:cNvSpPr/>
          <p:nvPr/>
        </p:nvSpPr>
        <p:spPr>
          <a:xfrm>
            <a:off x="5638680" y="3886200"/>
            <a:ext cx="533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1603800" y="34290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cl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2438280" y="4724280"/>
            <a:ext cx="10670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3505320" y="4191120"/>
            <a:ext cx="2514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3505320" y="4191120"/>
            <a:ext cx="0" cy="533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1767600" y="42670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Typewriter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1679400" y="51055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Typewriter"/>
              </a:rPr>
              <a:t>Q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1679400" y="59436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Typewriter"/>
              </a:rPr>
              <a:t>Q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2438280" y="5562720"/>
            <a:ext cx="1600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4038480" y="5029200"/>
            <a:ext cx="2057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4038480" y="502920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2438280" y="6400800"/>
            <a:ext cx="1600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4038480" y="5867280"/>
            <a:ext cx="2057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4038480" y="586728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4038480" y="3886200"/>
            <a:ext cx="0" cy="266688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pso de tempo resolvid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685800" y="19810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Lucida Sans Typewriter"/>
              </a:rPr>
              <a:t>always </a:t>
            </a: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@(</a:t>
            </a:r>
            <a:r>
              <a:rPr b="1" lang="pt-BR" sz="2400" spc="-1" strike="noStrike">
                <a:solidFill>
                  <a:srgbClr val="000000"/>
                </a:solidFill>
                <a:latin typeface="Lucida Sans Typewriter"/>
              </a:rPr>
              <a:t>posedge </a:t>
            </a: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clk) Q1 = #1 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Lucida Sans Typewriter"/>
              </a:rPr>
              <a:t>always </a:t>
            </a: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@(</a:t>
            </a:r>
            <a:r>
              <a:rPr b="1" lang="pt-BR" sz="2400" spc="-1" strike="noStrike">
                <a:solidFill>
                  <a:srgbClr val="000000"/>
                </a:solidFill>
                <a:latin typeface="Lucida Sans Typewriter"/>
              </a:rPr>
              <a:t>posedge </a:t>
            </a: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clk) Q2 = #1 Q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2438280" y="3352680"/>
            <a:ext cx="1067040" cy="533520"/>
            <a:chOff x="2438280" y="3352680"/>
            <a:chExt cx="1067040" cy="533520"/>
          </a:xfrm>
        </p:grpSpPr>
        <p:sp>
          <p:nvSpPr>
            <p:cNvPr id="826" name=""/>
            <p:cNvSpPr/>
            <p:nvPr/>
          </p:nvSpPr>
          <p:spPr>
            <a:xfrm>
              <a:off x="2438280" y="3886200"/>
              <a:ext cx="533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2971800" y="3352680"/>
              <a:ext cx="533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2971800" y="3352680"/>
              <a:ext cx="0" cy="53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3505320" y="3352680"/>
              <a:ext cx="0" cy="53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0" name=""/>
          <p:cNvGrpSpPr/>
          <p:nvPr/>
        </p:nvGrpSpPr>
        <p:grpSpPr>
          <a:xfrm>
            <a:off x="3505320" y="3352680"/>
            <a:ext cx="1066680" cy="533520"/>
            <a:chOff x="3505320" y="3352680"/>
            <a:chExt cx="1066680" cy="533520"/>
          </a:xfrm>
        </p:grpSpPr>
        <p:sp>
          <p:nvSpPr>
            <p:cNvPr id="831" name=""/>
            <p:cNvSpPr/>
            <p:nvPr/>
          </p:nvSpPr>
          <p:spPr>
            <a:xfrm>
              <a:off x="3505320" y="3886200"/>
              <a:ext cx="533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4038480" y="3352680"/>
              <a:ext cx="533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4038480" y="3352680"/>
              <a:ext cx="0" cy="53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4572000" y="3352680"/>
              <a:ext cx="0" cy="53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5" name=""/>
          <p:cNvGrpSpPr/>
          <p:nvPr/>
        </p:nvGrpSpPr>
        <p:grpSpPr>
          <a:xfrm>
            <a:off x="4572000" y="3352680"/>
            <a:ext cx="1066680" cy="533520"/>
            <a:chOff x="4572000" y="3352680"/>
            <a:chExt cx="1066680" cy="533520"/>
          </a:xfrm>
        </p:grpSpPr>
        <p:sp>
          <p:nvSpPr>
            <p:cNvPr id="836" name=""/>
            <p:cNvSpPr/>
            <p:nvPr/>
          </p:nvSpPr>
          <p:spPr>
            <a:xfrm>
              <a:off x="4572000" y="3886200"/>
              <a:ext cx="533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105160" y="3352680"/>
              <a:ext cx="533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105160" y="3352680"/>
              <a:ext cx="0" cy="53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38680" y="3352680"/>
              <a:ext cx="0" cy="53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0" name=""/>
          <p:cNvSpPr/>
          <p:nvPr/>
        </p:nvSpPr>
        <p:spPr>
          <a:xfrm>
            <a:off x="5638680" y="3886200"/>
            <a:ext cx="533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1603800" y="34290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cl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2438280" y="4724280"/>
            <a:ext cx="10670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3505320" y="4191120"/>
            <a:ext cx="2514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3505320" y="4191120"/>
            <a:ext cx="0" cy="533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1767600" y="42670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Typewriter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1679400" y="51055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Typewriter"/>
              </a:rPr>
              <a:t>Q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1679400" y="59436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Typewriter"/>
              </a:rPr>
              <a:t>Q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2438280" y="5562720"/>
            <a:ext cx="1828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4267080" y="5029200"/>
            <a:ext cx="1828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4267080" y="502920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2438280" y="6400800"/>
            <a:ext cx="28958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5334120" y="5867280"/>
            <a:ext cx="761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5334120" y="586728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4" name="euideia" descr=""/>
          <p:cNvPicPr/>
          <p:nvPr/>
        </p:nvPicPr>
        <p:blipFill>
          <a:blip r:embed=""/>
          <a:stretch/>
        </p:blipFill>
        <p:spPr>
          <a:xfrm>
            <a:off x="7162920" y="1676520"/>
            <a:ext cx="873000" cy="2654280"/>
          </a:xfrm>
          <a:prstGeom prst="rect">
            <a:avLst/>
          </a:prstGeom>
          <a:ln w="0">
            <a:noFill/>
          </a:ln>
        </p:spPr>
      </p:pic>
      <p:sp>
        <p:nvSpPr>
          <p:cNvPr id="855" name=""/>
          <p:cNvSpPr/>
          <p:nvPr/>
        </p:nvSpPr>
        <p:spPr>
          <a:xfrm>
            <a:off x="4038480" y="3886200"/>
            <a:ext cx="0" cy="266688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5105520" y="3886200"/>
            <a:ext cx="0" cy="266688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Atribuição não bloquean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685800" y="1676520"/>
            <a:ext cx="77724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Lucida Sans Typewriter"/>
              </a:rPr>
              <a:t>always </a:t>
            </a: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@(</a:t>
            </a:r>
            <a:r>
              <a:rPr b="1" lang="pt-BR" sz="2400" spc="-1" strike="noStrike">
                <a:solidFill>
                  <a:srgbClr val="000000"/>
                </a:solidFill>
                <a:latin typeface="Lucida Sans Typewriter"/>
              </a:rPr>
              <a:t>posedge </a:t>
            </a: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clk) </a:t>
            </a:r>
            <a:r>
              <a:rPr b="1" lang="pt-BR" sz="2400" spc="-1" strike="noStrike">
                <a:solidFill>
                  <a:srgbClr val="000000"/>
                </a:solidFill>
                <a:latin typeface="Lucida Sans Typewriter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Q1 </a:t>
            </a:r>
            <a:r>
              <a:rPr b="1" lang="pt-BR" sz="2400" spc="-1" strike="noStrike">
                <a:solidFill>
                  <a:srgbClr val="000000"/>
                </a:solidFill>
                <a:latin typeface="Lucida Sans Typewriter"/>
              </a:rPr>
              <a:t>&lt;=</a:t>
            </a: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 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Q2 </a:t>
            </a:r>
            <a:r>
              <a:rPr b="1" lang="pt-BR" sz="2400" spc="-1" strike="noStrike">
                <a:solidFill>
                  <a:srgbClr val="000000"/>
                </a:solidFill>
                <a:latin typeface="Lucida Sans Typewriter"/>
              </a:rPr>
              <a:t>&lt;=</a:t>
            </a: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 Q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Lucida Sans Typewriter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9" name=""/>
          <p:cNvGrpSpPr/>
          <p:nvPr/>
        </p:nvGrpSpPr>
        <p:grpSpPr>
          <a:xfrm>
            <a:off x="3200400" y="3352680"/>
            <a:ext cx="1066680" cy="533520"/>
            <a:chOff x="3200400" y="3352680"/>
            <a:chExt cx="1066680" cy="533520"/>
          </a:xfrm>
        </p:grpSpPr>
        <p:sp>
          <p:nvSpPr>
            <p:cNvPr id="860" name=""/>
            <p:cNvSpPr/>
            <p:nvPr/>
          </p:nvSpPr>
          <p:spPr>
            <a:xfrm>
              <a:off x="3200400" y="3886200"/>
              <a:ext cx="533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3733560" y="3352680"/>
              <a:ext cx="533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3733560" y="3352680"/>
              <a:ext cx="0" cy="53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4267080" y="3352680"/>
              <a:ext cx="0" cy="53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4" name=""/>
          <p:cNvGrpSpPr/>
          <p:nvPr/>
        </p:nvGrpSpPr>
        <p:grpSpPr>
          <a:xfrm>
            <a:off x="4267080" y="3352680"/>
            <a:ext cx="1067040" cy="533520"/>
            <a:chOff x="4267080" y="3352680"/>
            <a:chExt cx="1067040" cy="533520"/>
          </a:xfrm>
        </p:grpSpPr>
        <p:sp>
          <p:nvSpPr>
            <p:cNvPr id="865" name=""/>
            <p:cNvSpPr/>
            <p:nvPr/>
          </p:nvSpPr>
          <p:spPr>
            <a:xfrm>
              <a:off x="4267080" y="3886200"/>
              <a:ext cx="533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4800600" y="3352680"/>
              <a:ext cx="533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4800600" y="3352680"/>
              <a:ext cx="0" cy="53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5334120" y="3352680"/>
              <a:ext cx="0" cy="53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9" name=""/>
          <p:cNvGrpSpPr/>
          <p:nvPr/>
        </p:nvGrpSpPr>
        <p:grpSpPr>
          <a:xfrm>
            <a:off x="5334120" y="3352680"/>
            <a:ext cx="1066680" cy="533520"/>
            <a:chOff x="5334120" y="3352680"/>
            <a:chExt cx="1066680" cy="533520"/>
          </a:xfrm>
        </p:grpSpPr>
        <p:sp>
          <p:nvSpPr>
            <p:cNvPr id="870" name=""/>
            <p:cNvSpPr/>
            <p:nvPr/>
          </p:nvSpPr>
          <p:spPr>
            <a:xfrm>
              <a:off x="5334120" y="3886200"/>
              <a:ext cx="533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5867280" y="3352680"/>
              <a:ext cx="533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5867280" y="3352680"/>
              <a:ext cx="0" cy="53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6400800" y="3352680"/>
              <a:ext cx="0" cy="53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4" name=""/>
          <p:cNvSpPr/>
          <p:nvPr/>
        </p:nvSpPr>
        <p:spPr>
          <a:xfrm>
            <a:off x="6400800" y="3886200"/>
            <a:ext cx="533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2365920" y="34290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cl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3200400" y="4724280"/>
            <a:ext cx="10666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4267080" y="4191120"/>
            <a:ext cx="2514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4267080" y="4191120"/>
            <a:ext cx="0" cy="533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2529360" y="42670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Typewriter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2441160" y="51055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Typewriter"/>
              </a:rPr>
              <a:t>Q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2441160" y="59436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Typewriter"/>
              </a:rPr>
              <a:t>Q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3200400" y="5562720"/>
            <a:ext cx="1600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4800600" y="5029200"/>
            <a:ext cx="2057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4800600" y="502920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3200400" y="6400800"/>
            <a:ext cx="2666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5867280" y="5867280"/>
            <a:ext cx="990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5867280" y="586728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4800600" y="3886200"/>
            <a:ext cx="0" cy="266688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5867280" y="3886200"/>
            <a:ext cx="0" cy="266688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Atribuição não bloqueante</a:t>
            </a:r>
            <a:br>
              <a:rPr sz="4400"/>
            </a:b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como funcio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O simulador primeiro avalia o lado direito de todas as atribuições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em seguida atribui os valores às </a:t>
            </a: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reg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s do lado esquer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Muito cuidado em misturar atribuições bloqueantes e não-bloqueantes dentro do mesmo bloco seqüenci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tribuição com atras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685800" y="167652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Lucida Sans Typewriter"/>
              </a:rPr>
              <a:t>always </a:t>
            </a: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@(a</a:t>
            </a:r>
            <a:r>
              <a:rPr b="1" lang="pt-BR" sz="2400" spc="-1" strike="noStrike">
                <a:solidFill>
                  <a:srgbClr val="000000"/>
                </a:solidFill>
                <a:latin typeface="Lucida Sans Typewriter"/>
              </a:rPr>
              <a:t> or </a:t>
            </a: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b) y  </a:t>
            </a:r>
            <a:r>
              <a:rPr b="1" lang="pt-BR" sz="2400" spc="-1" strike="noStrike">
                <a:solidFill>
                  <a:srgbClr val="000000"/>
                </a:solidFill>
                <a:latin typeface="Lucida Sans Typewriter"/>
              </a:rPr>
              <a:t>=</a:t>
            </a: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 #5 a &amp; b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Lucida Sans Typewriter"/>
              </a:rPr>
              <a:t>always </a:t>
            </a: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@(a</a:t>
            </a:r>
            <a:r>
              <a:rPr b="1" lang="pt-BR" sz="2400" spc="-1" strike="noStrike">
                <a:solidFill>
                  <a:srgbClr val="000000"/>
                </a:solidFill>
                <a:latin typeface="Lucida Sans Typewriter"/>
              </a:rPr>
              <a:t> or </a:t>
            </a: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b) z </a:t>
            </a:r>
            <a:r>
              <a:rPr b="1" lang="pt-BR" sz="2400" spc="-1" strike="noStrike">
                <a:solidFill>
                  <a:srgbClr val="000000"/>
                </a:solidFill>
                <a:latin typeface="Lucida Sans Typewriter"/>
              </a:rPr>
              <a:t>&lt;=</a:t>
            </a: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 #5 a &amp; b;</a:t>
            </a:r>
            <a:r>
              <a:rPr b="0" lang="pt-BR" sz="2400" spc="-1" strike="noStrike">
                <a:solidFill>
                  <a:srgbClr val="000000"/>
                </a:solidFill>
                <a:latin typeface="Lucida Sans Typewriter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1981080" y="4419720"/>
            <a:ext cx="1524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3505320" y="3886200"/>
            <a:ext cx="1600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3505320" y="388620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5562720" y="4419720"/>
            <a:ext cx="17524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1145160" y="31240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Typewriter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1905120" y="3581280"/>
            <a:ext cx="10666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2971800" y="3048120"/>
            <a:ext cx="4267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2971800" y="3048120"/>
            <a:ext cx="0" cy="533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1145160" y="39625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Typewriter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1145160" y="48006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Typewriter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1145160" y="56386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Typewriter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1905120" y="5257800"/>
            <a:ext cx="22096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4114800" y="4724280"/>
            <a:ext cx="1600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4114800" y="472428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1905120" y="6095880"/>
            <a:ext cx="22096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5105520" y="3657600"/>
            <a:ext cx="0" cy="266688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3505320" y="3657600"/>
            <a:ext cx="0" cy="266688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5105520" y="441972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3505320" y="495288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5105520" y="388620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5334120" y="388620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5334120" y="388620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5562720" y="388620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4114800" y="5562720"/>
            <a:ext cx="1600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4114800" y="5562720"/>
            <a:ext cx="0" cy="533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6172200" y="6095880"/>
            <a:ext cx="1219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5715000" y="609588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5715000" y="5562720"/>
            <a:ext cx="0" cy="533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5943600" y="5562720"/>
            <a:ext cx="0" cy="533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5943600" y="556272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6172200" y="5562720"/>
            <a:ext cx="0" cy="533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5715000" y="472428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5715000" y="5257800"/>
            <a:ext cx="1600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505320" y="579132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5105520" y="50292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5105520" y="582948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06T07:49:38Z</dcterms:created>
  <dc:creator>Elmar</dc:creator>
  <dc:description/>
  <dc:language>en-US</dc:language>
  <cp:lastModifiedBy>Elmar</cp:lastModifiedBy>
  <dcterms:modified xsi:type="dcterms:W3CDTF">2001-03-17T09:04:30Z</dcterms:modified>
  <cp:revision>140</cp:revision>
  <dc:subject/>
  <dc:title>Verilog</dc:title>
</cp:coreProperties>
</file>