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4B4-955D-4777-9352-FC5A9C70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4FA-E981-4A1C-AF85-ECDEAB4E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049-39EC-4F1B-99F2-DF0841F8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EE9-84AA-4B68-A936-0D03EEFD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A6F-9A9D-4565-91F4-74D7D2B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E91-1B67-4CF3-A97D-E3D5774C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DAE-575D-48D3-91A0-27DF376A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156-F1F4-424C-B1AC-8C692DFF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617-1820-433F-9B13-E69F38C6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76F-106B-4B2C-8A98-963EA5B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ED4-78D0-44E0-96CA-97F2F02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DB5-39BF-48ED-80F8-F67DC278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5BAD-721B-4E0B-B675-8E4447C00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Introdução à Realidade Virtu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uciana Porcher Ne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stituto de Informática - UFR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rto Ale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8 de setembro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Mundos Virtuais 3-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enários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Virtual C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Objetos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SmartObj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gentes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Humanos Virtua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vatares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Humanos Virtua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Humanos Virtuais (agente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unicação entre a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conhecimento de posturas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(vídeo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pressão de emoções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(vídeo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portamento de gru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ensores visuais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vídeo)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Simulação Sensoria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isão: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óculos estéreo, HMD, CAVEs, real-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     time video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dição: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head phones e som renderiz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ala: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real-time audio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ato: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ataGloves, DataSuites e dispositivos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   c/retorno de força (exo-esquelet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Olfato: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?? (cheiro artifici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Víde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 computacional usado para criar um mundo artificial no qual o usuário tenha a impressão de ESTAR, a possibilidade de NAVEGAR e de MANIPULAR obje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Realidade Virtu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eio de comun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eração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ntuitiva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no espaço 3-D em tempo-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IMERSÃO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INTERAÇÃO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lang="fr-FR" sz="3200" spc="-1" strike="noStrike">
                <a:solidFill>
                  <a:srgbClr val="cc0000"/>
                </a:solidFill>
                <a:latin typeface="Times New Roman"/>
              </a:rPr>
              <a:t>PRESE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erface por canais multi-senso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ala virtual com 3 bolas em mov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eração com mouse ou teclado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Interaçã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teração com data glove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V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ataglove com « vibrador »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Presenç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so de óculos estéreo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(Imersã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isualização em tela g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Mundos Virtuais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x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Realidade Virtual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x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Realidade Aumentad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pos de V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tada (CAV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-imers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ersiva (HMD) - usuário não tem contato visual com o mundo 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sitos Tecnológ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ware p/rendering 3D em tempo-real e som estéreo de alta qualidad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ositivos de entrada e saída específicos simulando e estimulando os sentidos human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p/simular ambientes virtuais e que, em combinação c/o hardware, permita imediata resposta às ações do usuá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tros termos importantes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biente virtual (realístico, interativo, simulação imersiva de lugares ou cen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mano virtual (comportamento autônomo - IA ou representação física p/ergono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(dispositivo, software ou té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ndo vir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veg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tros termos importantes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-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manipul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prese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x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0:49:32Z</dcterms:created>
  <dc:creator>Luciana Porcher Nedel</dc:creator>
  <dc:description/>
  <dc:language>en-US</dc:language>
  <cp:lastModifiedBy>Luciana Porcher Nedel</cp:lastModifiedBy>
  <cp:lastPrinted>1999-07-07T03:53:07Z</cp:lastPrinted>
  <dcterms:modified xsi:type="dcterms:W3CDTF">1999-09-15T12:54:16Z</dcterms:modified>
  <cp:revision>9</cp:revision>
  <dc:subject/>
  <dc:title>Realidade Virtual na Educação:  Cognição e Afetividade</dc:title>
</cp:coreProperties>
</file>