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jpeg" ContentType="image/jpeg"/>
  <Override PartName="/ppt/media/image23.png" ContentType="image/png"/>
  <Override PartName="/ppt/media/image22.wmf" ContentType="image/x-wmf"/>
  <Override PartName="/ppt/media/image21.png" ContentType="image/png"/>
  <Override PartName="/ppt/media/image18.png" ContentType="image/png"/>
  <Override PartName="/ppt/media/image7.jpeg" ContentType="image/jpeg"/>
  <Override PartName="/ppt/media/image34.jpeg" ContentType="image/jpeg"/>
  <Override PartName="/ppt/media/image8.png" ContentType="image/png"/>
  <Override PartName="/ppt/media/image29.jpeg" ContentType="image/jpeg"/>
  <Override PartName="/ppt/media/image13.wmf" ContentType="image/x-wmf"/>
  <Override PartName="/ppt/media/image5.png" ContentType="image/png"/>
  <Override PartName="/ppt/media/image3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14.wmf" ContentType="image/x-wmf"/>
  <Override PartName="/ppt/media/image32.png" ContentType="image/png"/>
  <Override PartName="/ppt/media/image15.wmf" ContentType="image/x-wmf"/>
  <Override PartName="/ppt/media/image12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0.png" ContentType="image/png"/>
  <Override PartName="/ppt/media/image28.wmf" ContentType="image/x-wmf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6.png" ContentType="image/png"/>
  <Override PartName="/ppt/media/image20.wmf" ContentType="image/x-wmf"/>
  <Override PartName="/ppt/media/image1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Dispositivos para 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Realidade Virtu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uciana Porcher Ne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nstituto de Informática - UFR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rto Aleg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4 de setembro,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2160" y="5410080"/>
            <a:ext cx="7504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mersaDe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lay 3D sincronizado com óculos Polaroid e joystick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img13" descr=""/>
          <p:cNvPicPr/>
          <p:nvPr/>
        </p:nvPicPr>
        <p:blipFill>
          <a:blip r:embed="rId1"/>
          <a:stretch/>
        </p:blipFill>
        <p:spPr>
          <a:xfrm>
            <a:off x="3809880" y="1981080"/>
            <a:ext cx="508176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immdesk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70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rtual Retinal Displ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m é projetada diretamente na ret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tion Tra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ân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tromagné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Ó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ús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Tracker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(mecânico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ço mecâ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ito rápi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i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imentos restri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920" y="2362320"/>
          <a:ext cx="3794040" cy="34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379404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Tracker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(mecânico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84360" y="1981080"/>
          <a:ext cx="594360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1981080"/>
                    <a:ext cx="594360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6372360" y="2860560"/>
            <a:ext cx="1047600" cy="45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Tracker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eletromagnético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álculo da posição e/ou orientação por campo magné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ápi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as de interferê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imento lim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Tracker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eletromagnético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8600" y="1905120"/>
          <a:ext cx="316404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31640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505320" y="1905120"/>
          <a:ext cx="2830320" cy="3429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28303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400800" y="1905120"/>
          <a:ext cx="2627280" cy="4495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1905120"/>
                    <a:ext cx="26272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Tracker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ótico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picamente leds piscando, monitorados por uma câmera em uma posição fix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ápi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blemas de interferência pelas condições de luz ambient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371600" y="4343400"/>
          <a:ext cx="64897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343400"/>
                    <a:ext cx="64897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Tracker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ótico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19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Tracker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(Acústico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1840" y="19807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 ultrassom para medir posição e orient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eci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1828800"/>
          <a:ext cx="5823000" cy="42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582300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680" y="5105520"/>
            <a:ext cx="2233440" cy="118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p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cion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 “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MD -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Head Mounted Displ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257440" y="2590920"/>
            <a:ext cx="3886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ados com imagens mono ou estér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aridade binoc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ordância binoc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oc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visette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5068800" cy="4548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64008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ity Visette 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racker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(processamento de image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cas no corpo e captura da posição das marcas por câmeras (2 a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nto (processamento de imag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a de oclusão das mar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Tracker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problemas típico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em ser desconfortáveis se o movimento for muito restr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endo da aplicação, a precisão pode ser MUITO import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positivos interativ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se 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wand16crpt" descr=""/>
          <p:cNvPicPr/>
          <p:nvPr/>
        </p:nvPicPr>
        <p:blipFill>
          <a:blip r:embed="rId1"/>
          <a:stretch/>
        </p:blipFill>
        <p:spPr>
          <a:xfrm>
            <a:off x="3886200" y="1600200"/>
            <a:ext cx="3352680" cy="5029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positivos interativ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aceb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419720" y="1676520"/>
          <a:ext cx="4330440" cy="369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676520"/>
                    <a:ext cx="433044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sc" descr=""/>
          <p:cNvPicPr/>
          <p:nvPr/>
        </p:nvPicPr>
        <p:blipFill>
          <a:blip r:embed="rId3"/>
          <a:stretch/>
        </p:blipFill>
        <p:spPr>
          <a:xfrm>
            <a:off x="304920" y="327672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positivos interativ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ye tra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nhecedor de vo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Gl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 Body Data Su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Data Glo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1752480"/>
          <a:ext cx="5943600" cy="40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594360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057400" y="5867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kespace PinchG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Data Glo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sores de flexão para os cinco de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sor de posição absoluta do pu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3760" y="5181480"/>
            <a:ext cx="17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G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glove_small" descr=""/>
          <p:cNvPicPr/>
          <p:nvPr/>
        </p:nvPicPr>
        <p:blipFill>
          <a:blip r:embed="rId1"/>
          <a:stretch/>
        </p:blipFill>
        <p:spPr>
          <a:xfrm>
            <a:off x="762120" y="1623960"/>
            <a:ext cx="3200400" cy="3036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25" name="cgiu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4572000" cy="3111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Data Glo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em o grau de flexão dos de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umas medem ângulos entre os de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item interação natural com obje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item comunicação por g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Haptic and Force Feedbac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item a sensação de ta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actile feedback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vibradores” ou bolhas de 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ce feedback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ermite 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ção de restriçõ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ís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oesquele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270036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Haptic and Force Feedbac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0880" y="2438280"/>
          <a:ext cx="4502160" cy="36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8280"/>
                    <a:ext cx="450216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029200" y="3848040"/>
          <a:ext cx="3054240" cy="20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848040"/>
                    <a:ext cx="30542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029200" y="3048120"/>
            <a:ext cx="3048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156280" y="3432240"/>
          <a:ext cx="2608200" cy="13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56280" y="3432240"/>
                    <a:ext cx="2608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MD -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Head Mounted Displ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em ser totalmente imersivos ou “see-through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em incluir ou não “head-track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em incluir ou não “head-phones” estére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Haptic and Force Feedbac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69080" y="556272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ace Há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Toque e Forç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BigPhantom" descr=""/>
          <p:cNvPicPr/>
          <p:nvPr/>
        </p:nvPicPr>
        <p:blipFill>
          <a:blip r:embed="rId1"/>
          <a:stretch/>
        </p:blipFill>
        <p:spPr>
          <a:xfrm>
            <a:off x="5181480" y="3038400"/>
            <a:ext cx="3810240" cy="363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42" name="touch" descr=""/>
          <p:cNvPicPr/>
          <p:nvPr/>
        </p:nvPicPr>
        <p:blipFill>
          <a:blip r:embed="rId2"/>
          <a:stretch/>
        </p:blipFill>
        <p:spPr>
          <a:xfrm>
            <a:off x="0" y="1447920"/>
            <a:ext cx="52959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positivos dedicados à medici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387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mulação de Endoscop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ap_ie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084480" cy="3581280"/>
          </a:xfrm>
          <a:prstGeom prst="rect">
            <a:avLst/>
          </a:prstGeom>
          <a:ln w="0">
            <a:noFill/>
          </a:ln>
        </p:spPr>
      </p:pic>
      <p:pic>
        <p:nvPicPr>
          <p:cNvPr id="146" name="laparo" descr=""/>
          <p:cNvPicPr/>
          <p:nvPr/>
        </p:nvPicPr>
        <p:blipFill>
          <a:blip r:embed="rId2"/>
          <a:stretch/>
        </p:blipFill>
        <p:spPr>
          <a:xfrm>
            <a:off x="1541520" y="2362320"/>
            <a:ext cx="2857320" cy="3581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437560" y="6035760"/>
            <a:ext cx="43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ipuladores Tridimens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 Sensores Digi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8160" y="45720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docirur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65640" y="312408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aparosc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mict_ich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positivos dedicados à medici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c1armxsec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4648320" cy="371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3" name=""/>
          <p:cNvSpPr/>
          <p:nvPr/>
        </p:nvSpPr>
        <p:spPr>
          <a:xfrm>
            <a:off x="763200" y="586728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nopu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needle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051360" cy="373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MD -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Head Mounted Displ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tores determinantes de qualidade/preç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lução (número de pixels no displa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o de vis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ângulo (dado em gra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picamente 180 graus na horizontal (em huma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ínimo para imersão = 60 a 90 gr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écnica de display: LCD (usual) ou C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manho e p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reo Glasses/Shutter Glas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434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Óculos de cristal líqui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lterna imagens para o olho esquerdo e direito a uma taxa de 30 imagens/segu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 monitor conven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cronizado por raios infra-vermelh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crystaleyes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809880" cy="4445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632448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StereoGraphics CrystalEyes shutter g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ereo Glasses/Shutter Glas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49604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Útil para grandes audiências (teatr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asta mais tempo pois tem que gerar 2 imagens diferentes a cada quad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967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OOMs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inocular Omni-Orientation Moni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ocados em uma caixa, presa a um braço mecâ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65600" y="3500280"/>
            <a:ext cx="3156120" cy="255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619360" y="3517920"/>
            <a:ext cx="2860560" cy="2533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11040" y="3511440"/>
            <a:ext cx="22575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OOMs </a:t>
            </a:r>
            <a:br>
              <a:rPr sz="4400"/>
            </a:b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inocular</a:t>
            </a:r>
            <a:r>
              <a:rPr b="0" i="1" lang="en-US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Omni-Orientation Moni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m Tubos de Raios Catódicos (CR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o confortável (não precisa vesti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ápi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a resolu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ker imbuti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a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caveleft" descr=""/>
          <p:cNvPicPr/>
          <p:nvPr/>
        </p:nvPicPr>
        <p:blipFill>
          <a:blip r:embed="rId1"/>
          <a:stretch/>
        </p:blipFill>
        <p:spPr>
          <a:xfrm>
            <a:off x="3276720" y="1523880"/>
            <a:ext cx="5643360" cy="3837240"/>
          </a:xfrm>
          <a:prstGeom prst="rect">
            <a:avLst/>
          </a:prstGeom>
          <a:ln w="0">
            <a:noFill/>
          </a:ln>
        </p:spPr>
      </p:pic>
      <p:pic>
        <p:nvPicPr>
          <p:cNvPr id="66" name="cave2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3962520" cy="2976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7160" y="1828800"/>
            <a:ext cx="2995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biente Imersivo 3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0:49:32Z</dcterms:created>
  <dc:creator>Luciana Porcher Nedel</dc:creator>
  <dc:description/>
  <dc:language>en-US</dc:language>
  <cp:lastModifiedBy>Luciana Porcher Nedel</cp:lastModifiedBy>
  <cp:lastPrinted>1999-07-07T03:53:07Z</cp:lastPrinted>
  <dcterms:modified xsi:type="dcterms:W3CDTF">1999-09-15T12:48:46Z</dcterms:modified>
  <cp:revision>12</cp:revision>
  <dc:subject/>
  <dc:title>Realidade Virtual na Educação:  Cognição e Afetividade</dc:title>
</cp:coreProperties>
</file>